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520-D535-47FA-B171-B07DFCA1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9D3-7197-4F0C-BBF1-036BFDC3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E1D-63FE-4F61-B4BC-4FD19B00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F18-2BD4-46C7-BE8E-CD7232D0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F3D4-0015-4409-93CA-2FC9A1F4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8E53-2468-4280-A8EF-0BE23374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0ACB-E277-4297-BA06-320380DE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8403-A082-4797-A950-B1A5F604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FCFF-13BE-4769-A903-0E28C5B8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C518-3DCF-4288-9DCE-220DF549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150C-241A-4F78-BA89-57146EF4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855-DB30-477C-A3A5-0A283B4E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70B8-91FF-4C38-8742-A72C9B01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DD43-32D7-4D88-AD70-DBF453F6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A149-FE3B-40E9-9794-5CB3378B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BF6C-7359-43E8-AFFA-652A406A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FD74-84D7-4509-9233-AF166233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A88-C5FB-44AE-85BE-E1A45F26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240-E3AC-4AEC-BC6C-73EF71ED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233-0AD9-4138-87A8-5A34DED1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50A-C2E4-4F17-AA55-A1C436CD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977-CA68-4D70-88D7-F6C57D15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43B-CAA1-4D1D-B863-5F25C0D0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C73-7DA1-48B0-8DF5-29C7D4FB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44600" y="6276960"/>
            <a:ext cx="491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5120" y="6286680"/>
            <a:ext cx="125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597E-77F8-4E12-8BDE-801044756CE1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5120" y="6286680"/>
            <a:ext cx="6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7114-4CA7-4C19-A42A-19D2D72DE8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10EF-F1E3-4914-9E57-041FE3F077AB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08BA-0291-4E7A-8D80-CD9795BAC981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0800" y="1865880"/>
            <a:ext cx="8615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4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3903840"/>
            <a:ext cx="738036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Wheeled Loco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XR4000 Drive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2224080" y="3897360"/>
            <a:ext cx="108000" cy="339840"/>
          </a:xfrm>
          <a:custGeom>
            <a:avLst/>
            <a:gdLst/>
            <a:ahLst/>
            <a:rect l="l" t="t" r="r" b="b"/>
            <a:pathLst>
              <a:path w="439" h="1379">
                <a:moveTo>
                  <a:pt x="426" y="1379"/>
                </a:moveTo>
                <a:lnTo>
                  <a:pt x="429" y="1348"/>
                </a:lnTo>
                <a:lnTo>
                  <a:pt x="433" y="1318"/>
                </a:lnTo>
                <a:lnTo>
                  <a:pt x="435" y="1288"/>
                </a:lnTo>
                <a:lnTo>
                  <a:pt x="437" y="1258"/>
                </a:lnTo>
                <a:lnTo>
                  <a:pt x="438" y="1228"/>
                </a:lnTo>
                <a:lnTo>
                  <a:pt x="439" y="1197"/>
                </a:lnTo>
                <a:lnTo>
                  <a:pt x="439" y="1166"/>
                </a:lnTo>
                <a:lnTo>
                  <a:pt x="439" y="1136"/>
                </a:lnTo>
                <a:lnTo>
                  <a:pt x="438" y="1106"/>
                </a:lnTo>
                <a:lnTo>
                  <a:pt x="437" y="1075"/>
                </a:lnTo>
                <a:lnTo>
                  <a:pt x="436" y="1045"/>
                </a:lnTo>
                <a:lnTo>
                  <a:pt x="434" y="1015"/>
                </a:lnTo>
                <a:lnTo>
                  <a:pt x="431" y="985"/>
                </a:lnTo>
                <a:lnTo>
                  <a:pt x="427" y="955"/>
                </a:lnTo>
                <a:lnTo>
                  <a:pt x="424" y="925"/>
                </a:lnTo>
                <a:lnTo>
                  <a:pt x="419" y="895"/>
                </a:lnTo>
                <a:lnTo>
                  <a:pt x="415" y="865"/>
                </a:lnTo>
                <a:lnTo>
                  <a:pt x="409" y="835"/>
                </a:lnTo>
                <a:lnTo>
                  <a:pt x="404" y="805"/>
                </a:lnTo>
                <a:lnTo>
                  <a:pt x="397" y="775"/>
                </a:lnTo>
                <a:lnTo>
                  <a:pt x="390" y="746"/>
                </a:lnTo>
                <a:lnTo>
                  <a:pt x="383" y="717"/>
                </a:lnTo>
                <a:lnTo>
                  <a:pt x="375" y="687"/>
                </a:lnTo>
                <a:lnTo>
                  <a:pt x="366" y="658"/>
                </a:lnTo>
                <a:lnTo>
                  <a:pt x="357" y="629"/>
                </a:lnTo>
                <a:lnTo>
                  <a:pt x="348" y="600"/>
                </a:lnTo>
                <a:lnTo>
                  <a:pt x="338" y="571"/>
                </a:lnTo>
                <a:lnTo>
                  <a:pt x="327" y="543"/>
                </a:lnTo>
                <a:lnTo>
                  <a:pt x="316" y="514"/>
                </a:lnTo>
                <a:lnTo>
                  <a:pt x="305" y="486"/>
                </a:lnTo>
                <a:lnTo>
                  <a:pt x="292" y="458"/>
                </a:lnTo>
                <a:lnTo>
                  <a:pt x="280" y="431"/>
                </a:lnTo>
                <a:lnTo>
                  <a:pt x="268" y="403"/>
                </a:lnTo>
                <a:lnTo>
                  <a:pt x="255" y="376"/>
                </a:lnTo>
                <a:lnTo>
                  <a:pt x="240" y="349"/>
                </a:lnTo>
                <a:lnTo>
                  <a:pt x="226" y="323"/>
                </a:lnTo>
                <a:lnTo>
                  <a:pt x="211" y="296"/>
                </a:lnTo>
                <a:lnTo>
                  <a:pt x="196" y="269"/>
                </a:lnTo>
                <a:lnTo>
                  <a:pt x="180" y="244"/>
                </a:lnTo>
                <a:lnTo>
                  <a:pt x="164" y="218"/>
                </a:lnTo>
                <a:lnTo>
                  <a:pt x="148" y="192"/>
                </a:lnTo>
                <a:lnTo>
                  <a:pt x="131" y="167"/>
                </a:lnTo>
                <a:lnTo>
                  <a:pt x="113" y="142"/>
                </a:lnTo>
                <a:lnTo>
                  <a:pt x="95" y="118"/>
                </a:lnTo>
                <a:lnTo>
                  <a:pt x="78" y="93"/>
                </a:lnTo>
                <a:lnTo>
                  <a:pt x="59" y="70"/>
                </a:lnTo>
                <a:lnTo>
                  <a:pt x="40" y="45"/>
                </a:lnTo>
                <a:lnTo>
                  <a:pt x="20" y="23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040" y="2286000"/>
            <a:ext cx="3400560" cy="34243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108800">
            <a:off x="3129120" y="3692160"/>
            <a:ext cx="520560" cy="604800"/>
          </a:xfrm>
          <a:custGeom>
            <a:avLst/>
            <a:gdLst/>
            <a:ahLst/>
            <a:rect l="l" t="t" r="r" b="b"/>
            <a:pathLst>
              <a:path w="2131" h="2448">
                <a:moveTo>
                  <a:pt x="1457" y="1553"/>
                </a:moveTo>
                <a:lnTo>
                  <a:pt x="1440" y="1573"/>
                </a:lnTo>
                <a:lnTo>
                  <a:pt x="1423" y="1593"/>
                </a:lnTo>
                <a:lnTo>
                  <a:pt x="1405" y="1615"/>
                </a:lnTo>
                <a:lnTo>
                  <a:pt x="1387" y="1635"/>
                </a:lnTo>
                <a:lnTo>
                  <a:pt x="1369" y="1655"/>
                </a:lnTo>
                <a:lnTo>
                  <a:pt x="1351" y="1675"/>
                </a:lnTo>
                <a:lnTo>
                  <a:pt x="1334" y="1695"/>
                </a:lnTo>
                <a:lnTo>
                  <a:pt x="1316" y="1714"/>
                </a:lnTo>
                <a:lnTo>
                  <a:pt x="1297" y="1734"/>
                </a:lnTo>
                <a:lnTo>
                  <a:pt x="1279" y="1753"/>
                </a:lnTo>
                <a:lnTo>
                  <a:pt x="1260" y="1773"/>
                </a:lnTo>
                <a:lnTo>
                  <a:pt x="1242" y="1792"/>
                </a:lnTo>
                <a:lnTo>
                  <a:pt x="1223" y="1810"/>
                </a:lnTo>
                <a:lnTo>
                  <a:pt x="1205" y="1829"/>
                </a:lnTo>
                <a:lnTo>
                  <a:pt x="1187" y="1847"/>
                </a:lnTo>
                <a:lnTo>
                  <a:pt x="1169" y="1866"/>
                </a:lnTo>
                <a:lnTo>
                  <a:pt x="1150" y="1884"/>
                </a:lnTo>
                <a:lnTo>
                  <a:pt x="1131" y="1902"/>
                </a:lnTo>
                <a:lnTo>
                  <a:pt x="1112" y="1920"/>
                </a:lnTo>
                <a:lnTo>
                  <a:pt x="1094" y="1937"/>
                </a:lnTo>
                <a:lnTo>
                  <a:pt x="1075" y="1954"/>
                </a:lnTo>
                <a:lnTo>
                  <a:pt x="1056" y="1972"/>
                </a:lnTo>
                <a:lnTo>
                  <a:pt x="1038" y="1989"/>
                </a:lnTo>
                <a:lnTo>
                  <a:pt x="1020" y="2005"/>
                </a:lnTo>
                <a:lnTo>
                  <a:pt x="1001" y="2021"/>
                </a:lnTo>
                <a:lnTo>
                  <a:pt x="982" y="2038"/>
                </a:lnTo>
                <a:lnTo>
                  <a:pt x="964" y="2053"/>
                </a:lnTo>
                <a:lnTo>
                  <a:pt x="945" y="2069"/>
                </a:lnTo>
                <a:lnTo>
                  <a:pt x="926" y="2084"/>
                </a:lnTo>
                <a:lnTo>
                  <a:pt x="908" y="2100"/>
                </a:lnTo>
                <a:lnTo>
                  <a:pt x="889" y="2114"/>
                </a:lnTo>
                <a:lnTo>
                  <a:pt x="871" y="2129"/>
                </a:lnTo>
                <a:lnTo>
                  <a:pt x="853" y="2143"/>
                </a:lnTo>
                <a:lnTo>
                  <a:pt x="835" y="2157"/>
                </a:lnTo>
                <a:lnTo>
                  <a:pt x="817" y="2171"/>
                </a:lnTo>
                <a:lnTo>
                  <a:pt x="798" y="2185"/>
                </a:lnTo>
                <a:lnTo>
                  <a:pt x="780" y="2197"/>
                </a:lnTo>
                <a:lnTo>
                  <a:pt x="762" y="2210"/>
                </a:lnTo>
                <a:lnTo>
                  <a:pt x="745" y="2222"/>
                </a:lnTo>
                <a:lnTo>
                  <a:pt x="727" y="2235"/>
                </a:lnTo>
                <a:lnTo>
                  <a:pt x="709" y="2247"/>
                </a:lnTo>
                <a:lnTo>
                  <a:pt x="692" y="2258"/>
                </a:lnTo>
                <a:lnTo>
                  <a:pt x="674" y="2270"/>
                </a:lnTo>
                <a:lnTo>
                  <a:pt x="657" y="2280"/>
                </a:lnTo>
                <a:lnTo>
                  <a:pt x="640" y="2291"/>
                </a:lnTo>
                <a:lnTo>
                  <a:pt x="623" y="2301"/>
                </a:lnTo>
                <a:lnTo>
                  <a:pt x="606" y="2311"/>
                </a:lnTo>
                <a:lnTo>
                  <a:pt x="590" y="2321"/>
                </a:lnTo>
                <a:lnTo>
                  <a:pt x="573" y="2330"/>
                </a:lnTo>
                <a:lnTo>
                  <a:pt x="556" y="2339"/>
                </a:lnTo>
                <a:lnTo>
                  <a:pt x="540" y="2348"/>
                </a:lnTo>
                <a:lnTo>
                  <a:pt x="524" y="2357"/>
                </a:lnTo>
                <a:lnTo>
                  <a:pt x="507" y="2365"/>
                </a:lnTo>
                <a:lnTo>
                  <a:pt x="492" y="2372"/>
                </a:lnTo>
                <a:lnTo>
                  <a:pt x="476" y="2379"/>
                </a:lnTo>
                <a:lnTo>
                  <a:pt x="461" y="2386"/>
                </a:lnTo>
                <a:lnTo>
                  <a:pt x="446" y="2393"/>
                </a:lnTo>
                <a:lnTo>
                  <a:pt x="431" y="2399"/>
                </a:lnTo>
                <a:lnTo>
                  <a:pt x="416" y="2405"/>
                </a:lnTo>
                <a:lnTo>
                  <a:pt x="402" y="2411"/>
                </a:lnTo>
                <a:lnTo>
                  <a:pt x="387" y="2415"/>
                </a:lnTo>
                <a:lnTo>
                  <a:pt x="373" y="2421"/>
                </a:lnTo>
                <a:lnTo>
                  <a:pt x="358" y="2424"/>
                </a:lnTo>
                <a:lnTo>
                  <a:pt x="345" y="2428"/>
                </a:lnTo>
                <a:lnTo>
                  <a:pt x="330" y="2432"/>
                </a:lnTo>
                <a:lnTo>
                  <a:pt x="317" y="2435"/>
                </a:lnTo>
                <a:lnTo>
                  <a:pt x="305" y="2438"/>
                </a:lnTo>
                <a:lnTo>
                  <a:pt x="291" y="2441"/>
                </a:lnTo>
                <a:lnTo>
                  <a:pt x="279" y="2443"/>
                </a:lnTo>
                <a:lnTo>
                  <a:pt x="266" y="2445"/>
                </a:lnTo>
                <a:lnTo>
                  <a:pt x="254" y="2446"/>
                </a:lnTo>
                <a:lnTo>
                  <a:pt x="242" y="2447"/>
                </a:lnTo>
                <a:lnTo>
                  <a:pt x="230" y="2447"/>
                </a:lnTo>
                <a:lnTo>
                  <a:pt x="219" y="2448"/>
                </a:lnTo>
                <a:lnTo>
                  <a:pt x="208" y="2448"/>
                </a:lnTo>
                <a:lnTo>
                  <a:pt x="197" y="2447"/>
                </a:lnTo>
                <a:lnTo>
                  <a:pt x="186" y="2446"/>
                </a:lnTo>
                <a:lnTo>
                  <a:pt x="176" y="2445"/>
                </a:lnTo>
                <a:lnTo>
                  <a:pt x="166" y="2444"/>
                </a:lnTo>
                <a:lnTo>
                  <a:pt x="156" y="2442"/>
                </a:lnTo>
                <a:lnTo>
                  <a:pt x="147" y="2439"/>
                </a:lnTo>
                <a:lnTo>
                  <a:pt x="137" y="2436"/>
                </a:lnTo>
                <a:lnTo>
                  <a:pt x="128" y="2434"/>
                </a:lnTo>
                <a:lnTo>
                  <a:pt x="119" y="2431"/>
                </a:lnTo>
                <a:lnTo>
                  <a:pt x="111" y="2426"/>
                </a:lnTo>
                <a:lnTo>
                  <a:pt x="103" y="2422"/>
                </a:lnTo>
                <a:lnTo>
                  <a:pt x="94" y="2417"/>
                </a:lnTo>
                <a:lnTo>
                  <a:pt x="88" y="2413"/>
                </a:lnTo>
                <a:lnTo>
                  <a:pt x="80" y="2407"/>
                </a:lnTo>
                <a:lnTo>
                  <a:pt x="73" y="2402"/>
                </a:lnTo>
                <a:lnTo>
                  <a:pt x="66" y="2396"/>
                </a:lnTo>
                <a:lnTo>
                  <a:pt x="60" y="2389"/>
                </a:lnTo>
                <a:lnTo>
                  <a:pt x="54" y="2383"/>
                </a:lnTo>
                <a:lnTo>
                  <a:pt x="49" y="2375"/>
                </a:lnTo>
                <a:lnTo>
                  <a:pt x="43" y="2368"/>
                </a:lnTo>
                <a:lnTo>
                  <a:pt x="37" y="2360"/>
                </a:lnTo>
                <a:lnTo>
                  <a:pt x="33" y="2352"/>
                </a:lnTo>
                <a:lnTo>
                  <a:pt x="29" y="2344"/>
                </a:lnTo>
                <a:lnTo>
                  <a:pt x="24" y="2335"/>
                </a:lnTo>
                <a:lnTo>
                  <a:pt x="21" y="2326"/>
                </a:lnTo>
                <a:lnTo>
                  <a:pt x="17" y="2316"/>
                </a:lnTo>
                <a:lnTo>
                  <a:pt x="14" y="2306"/>
                </a:lnTo>
                <a:lnTo>
                  <a:pt x="11" y="2296"/>
                </a:lnTo>
                <a:lnTo>
                  <a:pt x="9" y="2286"/>
                </a:lnTo>
                <a:lnTo>
                  <a:pt x="6" y="2275"/>
                </a:lnTo>
                <a:lnTo>
                  <a:pt x="5" y="2264"/>
                </a:lnTo>
                <a:lnTo>
                  <a:pt x="3" y="2252"/>
                </a:lnTo>
                <a:lnTo>
                  <a:pt x="2" y="2240"/>
                </a:lnTo>
                <a:lnTo>
                  <a:pt x="1" y="2228"/>
                </a:lnTo>
                <a:lnTo>
                  <a:pt x="1" y="2216"/>
                </a:lnTo>
                <a:lnTo>
                  <a:pt x="0" y="2203"/>
                </a:lnTo>
                <a:lnTo>
                  <a:pt x="1" y="2190"/>
                </a:lnTo>
                <a:lnTo>
                  <a:pt x="1" y="2177"/>
                </a:lnTo>
                <a:lnTo>
                  <a:pt x="2" y="2163"/>
                </a:lnTo>
                <a:lnTo>
                  <a:pt x="3" y="2149"/>
                </a:lnTo>
                <a:lnTo>
                  <a:pt x="4" y="2136"/>
                </a:lnTo>
                <a:lnTo>
                  <a:pt x="5" y="2121"/>
                </a:lnTo>
                <a:lnTo>
                  <a:pt x="7" y="2105"/>
                </a:lnTo>
                <a:lnTo>
                  <a:pt x="10" y="2091"/>
                </a:lnTo>
                <a:lnTo>
                  <a:pt x="13" y="2075"/>
                </a:lnTo>
                <a:lnTo>
                  <a:pt x="15" y="2060"/>
                </a:lnTo>
                <a:lnTo>
                  <a:pt x="19" y="2044"/>
                </a:lnTo>
                <a:lnTo>
                  <a:pt x="23" y="2029"/>
                </a:lnTo>
                <a:lnTo>
                  <a:pt x="26" y="2012"/>
                </a:lnTo>
                <a:lnTo>
                  <a:pt x="31" y="1995"/>
                </a:lnTo>
                <a:lnTo>
                  <a:pt x="35" y="1979"/>
                </a:lnTo>
                <a:lnTo>
                  <a:pt x="41" y="1962"/>
                </a:lnTo>
                <a:lnTo>
                  <a:pt x="45" y="1945"/>
                </a:lnTo>
                <a:lnTo>
                  <a:pt x="51" y="1927"/>
                </a:lnTo>
                <a:lnTo>
                  <a:pt x="56" y="1910"/>
                </a:lnTo>
                <a:lnTo>
                  <a:pt x="63" y="1892"/>
                </a:lnTo>
                <a:lnTo>
                  <a:pt x="70" y="1874"/>
                </a:lnTo>
                <a:lnTo>
                  <a:pt x="76" y="1856"/>
                </a:lnTo>
                <a:lnTo>
                  <a:pt x="83" y="1837"/>
                </a:lnTo>
                <a:lnTo>
                  <a:pt x="91" y="1818"/>
                </a:lnTo>
                <a:lnTo>
                  <a:pt x="99" y="1799"/>
                </a:lnTo>
                <a:lnTo>
                  <a:pt x="107" y="1780"/>
                </a:lnTo>
                <a:lnTo>
                  <a:pt x="114" y="1761"/>
                </a:lnTo>
                <a:lnTo>
                  <a:pt x="123" y="1743"/>
                </a:lnTo>
                <a:lnTo>
                  <a:pt x="132" y="1723"/>
                </a:lnTo>
                <a:lnTo>
                  <a:pt x="141" y="1704"/>
                </a:lnTo>
                <a:lnTo>
                  <a:pt x="151" y="1684"/>
                </a:lnTo>
                <a:lnTo>
                  <a:pt x="160" y="1664"/>
                </a:lnTo>
                <a:lnTo>
                  <a:pt x="170" y="1643"/>
                </a:lnTo>
                <a:lnTo>
                  <a:pt x="180" y="1623"/>
                </a:lnTo>
                <a:lnTo>
                  <a:pt x="191" y="1603"/>
                </a:lnTo>
                <a:lnTo>
                  <a:pt x="202" y="1582"/>
                </a:lnTo>
                <a:lnTo>
                  <a:pt x="212" y="1562"/>
                </a:lnTo>
                <a:lnTo>
                  <a:pt x="225" y="1541"/>
                </a:lnTo>
                <a:lnTo>
                  <a:pt x="236" y="1521"/>
                </a:lnTo>
                <a:lnTo>
                  <a:pt x="248" y="1500"/>
                </a:lnTo>
                <a:lnTo>
                  <a:pt x="259" y="1479"/>
                </a:lnTo>
                <a:lnTo>
                  <a:pt x="272" y="1458"/>
                </a:lnTo>
                <a:lnTo>
                  <a:pt x="285" y="1436"/>
                </a:lnTo>
                <a:lnTo>
                  <a:pt x="297" y="1415"/>
                </a:lnTo>
                <a:lnTo>
                  <a:pt x="310" y="1394"/>
                </a:lnTo>
                <a:lnTo>
                  <a:pt x="324" y="1373"/>
                </a:lnTo>
                <a:lnTo>
                  <a:pt x="337" y="1352"/>
                </a:lnTo>
                <a:lnTo>
                  <a:pt x="350" y="1331"/>
                </a:lnTo>
                <a:lnTo>
                  <a:pt x="365" y="1309"/>
                </a:lnTo>
                <a:lnTo>
                  <a:pt x="379" y="1288"/>
                </a:lnTo>
                <a:lnTo>
                  <a:pt x="393" y="1266"/>
                </a:lnTo>
                <a:lnTo>
                  <a:pt x="408" y="1245"/>
                </a:lnTo>
                <a:lnTo>
                  <a:pt x="423" y="1224"/>
                </a:lnTo>
                <a:lnTo>
                  <a:pt x="437" y="1203"/>
                </a:lnTo>
                <a:lnTo>
                  <a:pt x="453" y="1180"/>
                </a:lnTo>
                <a:lnTo>
                  <a:pt x="468" y="1159"/>
                </a:lnTo>
                <a:lnTo>
                  <a:pt x="484" y="1138"/>
                </a:lnTo>
                <a:lnTo>
                  <a:pt x="500" y="1117"/>
                </a:lnTo>
                <a:lnTo>
                  <a:pt x="515" y="1096"/>
                </a:lnTo>
                <a:lnTo>
                  <a:pt x="531" y="1075"/>
                </a:lnTo>
                <a:lnTo>
                  <a:pt x="547" y="1053"/>
                </a:lnTo>
                <a:lnTo>
                  <a:pt x="564" y="1032"/>
                </a:lnTo>
                <a:lnTo>
                  <a:pt x="580" y="1011"/>
                </a:lnTo>
                <a:lnTo>
                  <a:pt x="596" y="990"/>
                </a:lnTo>
                <a:lnTo>
                  <a:pt x="614" y="969"/>
                </a:lnTo>
                <a:lnTo>
                  <a:pt x="631" y="948"/>
                </a:lnTo>
                <a:lnTo>
                  <a:pt x="648" y="927"/>
                </a:lnTo>
                <a:lnTo>
                  <a:pt x="665" y="906"/>
                </a:lnTo>
                <a:lnTo>
                  <a:pt x="682" y="885"/>
                </a:lnTo>
                <a:lnTo>
                  <a:pt x="700" y="865"/>
                </a:lnTo>
                <a:lnTo>
                  <a:pt x="718" y="844"/>
                </a:lnTo>
                <a:lnTo>
                  <a:pt x="736" y="824"/>
                </a:lnTo>
                <a:lnTo>
                  <a:pt x="752" y="804"/>
                </a:lnTo>
                <a:lnTo>
                  <a:pt x="771" y="784"/>
                </a:lnTo>
                <a:lnTo>
                  <a:pt x="789" y="764"/>
                </a:lnTo>
                <a:lnTo>
                  <a:pt x="807" y="744"/>
                </a:lnTo>
                <a:lnTo>
                  <a:pt x="825" y="725"/>
                </a:lnTo>
                <a:lnTo>
                  <a:pt x="843" y="705"/>
                </a:lnTo>
                <a:lnTo>
                  <a:pt x="861" y="686"/>
                </a:lnTo>
                <a:lnTo>
                  <a:pt x="879" y="667"/>
                </a:lnTo>
                <a:lnTo>
                  <a:pt x="898" y="648"/>
                </a:lnTo>
                <a:lnTo>
                  <a:pt x="916" y="629"/>
                </a:lnTo>
                <a:lnTo>
                  <a:pt x="935" y="610"/>
                </a:lnTo>
                <a:lnTo>
                  <a:pt x="954" y="591"/>
                </a:lnTo>
                <a:lnTo>
                  <a:pt x="972" y="574"/>
                </a:lnTo>
                <a:lnTo>
                  <a:pt x="991" y="556"/>
                </a:lnTo>
                <a:lnTo>
                  <a:pt x="1010" y="538"/>
                </a:lnTo>
                <a:lnTo>
                  <a:pt x="1027" y="520"/>
                </a:lnTo>
                <a:lnTo>
                  <a:pt x="1046" y="502"/>
                </a:lnTo>
                <a:lnTo>
                  <a:pt x="1065" y="486"/>
                </a:lnTo>
                <a:lnTo>
                  <a:pt x="1084" y="469"/>
                </a:lnTo>
                <a:lnTo>
                  <a:pt x="1102" y="452"/>
                </a:lnTo>
                <a:lnTo>
                  <a:pt x="1121" y="436"/>
                </a:lnTo>
                <a:lnTo>
                  <a:pt x="1140" y="419"/>
                </a:lnTo>
                <a:lnTo>
                  <a:pt x="1159" y="403"/>
                </a:lnTo>
                <a:lnTo>
                  <a:pt x="1177" y="388"/>
                </a:lnTo>
                <a:lnTo>
                  <a:pt x="1195" y="372"/>
                </a:lnTo>
                <a:lnTo>
                  <a:pt x="1213" y="357"/>
                </a:lnTo>
                <a:lnTo>
                  <a:pt x="1232" y="342"/>
                </a:lnTo>
                <a:lnTo>
                  <a:pt x="1251" y="328"/>
                </a:lnTo>
                <a:lnTo>
                  <a:pt x="1269" y="313"/>
                </a:lnTo>
                <a:lnTo>
                  <a:pt x="1287" y="299"/>
                </a:lnTo>
                <a:lnTo>
                  <a:pt x="1306" y="284"/>
                </a:lnTo>
                <a:lnTo>
                  <a:pt x="1323" y="271"/>
                </a:lnTo>
                <a:lnTo>
                  <a:pt x="1341" y="257"/>
                </a:lnTo>
                <a:lnTo>
                  <a:pt x="1359" y="245"/>
                </a:lnTo>
                <a:lnTo>
                  <a:pt x="1377" y="232"/>
                </a:lnTo>
                <a:lnTo>
                  <a:pt x="1395" y="220"/>
                </a:lnTo>
                <a:lnTo>
                  <a:pt x="1413" y="207"/>
                </a:lnTo>
                <a:lnTo>
                  <a:pt x="1430" y="196"/>
                </a:lnTo>
                <a:lnTo>
                  <a:pt x="1448" y="184"/>
                </a:lnTo>
                <a:lnTo>
                  <a:pt x="1465" y="173"/>
                </a:lnTo>
                <a:lnTo>
                  <a:pt x="1483" y="163"/>
                </a:lnTo>
                <a:lnTo>
                  <a:pt x="1499" y="152"/>
                </a:lnTo>
                <a:lnTo>
                  <a:pt x="1516" y="142"/>
                </a:lnTo>
                <a:lnTo>
                  <a:pt x="1534" y="132"/>
                </a:lnTo>
                <a:lnTo>
                  <a:pt x="1551" y="123"/>
                </a:lnTo>
                <a:lnTo>
                  <a:pt x="1566" y="114"/>
                </a:lnTo>
                <a:lnTo>
                  <a:pt x="1583" y="105"/>
                </a:lnTo>
                <a:lnTo>
                  <a:pt x="1600" y="96"/>
                </a:lnTo>
                <a:lnTo>
                  <a:pt x="1615" y="88"/>
                </a:lnTo>
                <a:lnTo>
                  <a:pt x="1631" y="80"/>
                </a:lnTo>
                <a:lnTo>
                  <a:pt x="1646" y="73"/>
                </a:lnTo>
                <a:lnTo>
                  <a:pt x="1662" y="66"/>
                </a:lnTo>
                <a:lnTo>
                  <a:pt x="1678" y="59"/>
                </a:lnTo>
                <a:lnTo>
                  <a:pt x="1693" y="53"/>
                </a:lnTo>
                <a:lnTo>
                  <a:pt x="1708" y="47"/>
                </a:lnTo>
                <a:lnTo>
                  <a:pt x="1722" y="41"/>
                </a:lnTo>
                <a:lnTo>
                  <a:pt x="1738" y="36"/>
                </a:lnTo>
                <a:lnTo>
                  <a:pt x="1751" y="30"/>
                </a:lnTo>
                <a:lnTo>
                  <a:pt x="1766" y="26"/>
                </a:lnTo>
                <a:lnTo>
                  <a:pt x="1780" y="23"/>
                </a:lnTo>
                <a:lnTo>
                  <a:pt x="1793" y="18"/>
                </a:lnTo>
                <a:lnTo>
                  <a:pt x="1807" y="15"/>
                </a:lnTo>
                <a:lnTo>
                  <a:pt x="1820" y="11"/>
                </a:lnTo>
                <a:lnTo>
                  <a:pt x="1833" y="9"/>
                </a:lnTo>
                <a:lnTo>
                  <a:pt x="1846" y="7"/>
                </a:lnTo>
                <a:lnTo>
                  <a:pt x="1859" y="5"/>
                </a:lnTo>
                <a:lnTo>
                  <a:pt x="1871" y="4"/>
                </a:lnTo>
                <a:lnTo>
                  <a:pt x="1884" y="2"/>
                </a:lnTo>
                <a:lnTo>
                  <a:pt x="1895" y="1"/>
                </a:lnTo>
                <a:lnTo>
                  <a:pt x="1907" y="0"/>
                </a:lnTo>
                <a:lnTo>
                  <a:pt x="1918" y="0"/>
                </a:lnTo>
                <a:lnTo>
                  <a:pt x="1929" y="1"/>
                </a:lnTo>
                <a:lnTo>
                  <a:pt x="1939" y="1"/>
                </a:lnTo>
                <a:lnTo>
                  <a:pt x="1950" y="2"/>
                </a:lnTo>
                <a:lnTo>
                  <a:pt x="1960" y="4"/>
                </a:lnTo>
                <a:lnTo>
                  <a:pt x="1970" y="6"/>
                </a:lnTo>
                <a:lnTo>
                  <a:pt x="1980" y="8"/>
                </a:lnTo>
                <a:lnTo>
                  <a:pt x="1989" y="10"/>
                </a:lnTo>
                <a:lnTo>
                  <a:pt x="1998" y="14"/>
                </a:lnTo>
                <a:lnTo>
                  <a:pt x="2007" y="17"/>
                </a:lnTo>
                <a:lnTo>
                  <a:pt x="2016" y="20"/>
                </a:lnTo>
                <a:lnTo>
                  <a:pt x="2024" y="25"/>
                </a:lnTo>
                <a:lnTo>
                  <a:pt x="2033" y="29"/>
                </a:lnTo>
                <a:lnTo>
                  <a:pt x="2041" y="34"/>
                </a:lnTo>
                <a:lnTo>
                  <a:pt x="2047" y="38"/>
                </a:lnTo>
                <a:lnTo>
                  <a:pt x="2055" y="44"/>
                </a:lnTo>
                <a:lnTo>
                  <a:pt x="2062" y="50"/>
                </a:lnTo>
                <a:lnTo>
                  <a:pt x="2067" y="56"/>
                </a:lnTo>
                <a:lnTo>
                  <a:pt x="2074" y="63"/>
                </a:lnTo>
                <a:lnTo>
                  <a:pt x="2080" y="69"/>
                </a:lnTo>
                <a:lnTo>
                  <a:pt x="2085" y="77"/>
                </a:lnTo>
                <a:lnTo>
                  <a:pt x="2091" y="85"/>
                </a:lnTo>
                <a:lnTo>
                  <a:pt x="2095" y="93"/>
                </a:lnTo>
                <a:lnTo>
                  <a:pt x="2100" y="100"/>
                </a:lnTo>
                <a:lnTo>
                  <a:pt x="2104" y="109"/>
                </a:lnTo>
                <a:lnTo>
                  <a:pt x="2108" y="118"/>
                </a:lnTo>
                <a:lnTo>
                  <a:pt x="2112" y="128"/>
                </a:lnTo>
                <a:lnTo>
                  <a:pt x="2115" y="137"/>
                </a:lnTo>
                <a:lnTo>
                  <a:pt x="2118" y="147"/>
                </a:lnTo>
                <a:lnTo>
                  <a:pt x="2121" y="157"/>
                </a:lnTo>
                <a:lnTo>
                  <a:pt x="2123" y="168"/>
                </a:lnTo>
                <a:lnTo>
                  <a:pt x="2125" y="180"/>
                </a:lnTo>
                <a:lnTo>
                  <a:pt x="2127" y="191"/>
                </a:lnTo>
                <a:lnTo>
                  <a:pt x="2128" y="203"/>
                </a:lnTo>
                <a:lnTo>
                  <a:pt x="2130" y="214"/>
                </a:lnTo>
                <a:lnTo>
                  <a:pt x="2131" y="226"/>
                </a:lnTo>
                <a:lnTo>
                  <a:pt x="2131" y="240"/>
                </a:lnTo>
                <a:lnTo>
                  <a:pt x="2131" y="252"/>
                </a:lnTo>
                <a:lnTo>
                  <a:pt x="2131" y="265"/>
                </a:lnTo>
                <a:lnTo>
                  <a:pt x="2130" y="279"/>
                </a:lnTo>
                <a:lnTo>
                  <a:pt x="2130" y="292"/>
                </a:lnTo>
                <a:lnTo>
                  <a:pt x="2128" y="306"/>
                </a:lnTo>
                <a:lnTo>
                  <a:pt x="2126" y="321"/>
                </a:lnTo>
                <a:lnTo>
                  <a:pt x="2124" y="335"/>
                </a:lnTo>
                <a:lnTo>
                  <a:pt x="2122" y="350"/>
                </a:lnTo>
                <a:lnTo>
                  <a:pt x="2120" y="365"/>
                </a:lnTo>
                <a:lnTo>
                  <a:pt x="2117" y="381"/>
                </a:lnTo>
                <a:lnTo>
                  <a:pt x="2114" y="397"/>
                </a:lnTo>
                <a:lnTo>
                  <a:pt x="2111" y="412"/>
                </a:lnTo>
                <a:lnTo>
                  <a:pt x="2106" y="428"/>
                </a:lnTo>
                <a:lnTo>
                  <a:pt x="2103" y="444"/>
                </a:lnTo>
                <a:lnTo>
                  <a:pt x="2098" y="461"/>
                </a:lnTo>
                <a:lnTo>
                  <a:pt x="2093" y="478"/>
                </a:lnTo>
                <a:lnTo>
                  <a:pt x="2088" y="496"/>
                </a:lnTo>
                <a:lnTo>
                  <a:pt x="2083" y="512"/>
                </a:lnTo>
                <a:lnTo>
                  <a:pt x="2077" y="530"/>
                </a:lnTo>
                <a:lnTo>
                  <a:pt x="2071" y="548"/>
                </a:lnTo>
                <a:lnTo>
                  <a:pt x="2065" y="566"/>
                </a:lnTo>
                <a:lnTo>
                  <a:pt x="2058" y="584"/>
                </a:lnTo>
                <a:lnTo>
                  <a:pt x="2052" y="603"/>
                </a:lnTo>
                <a:lnTo>
                  <a:pt x="2044" y="620"/>
                </a:lnTo>
                <a:lnTo>
                  <a:pt x="2036" y="639"/>
                </a:lnTo>
                <a:lnTo>
                  <a:pt x="2028" y="658"/>
                </a:lnTo>
                <a:lnTo>
                  <a:pt x="2020" y="677"/>
                </a:lnTo>
                <a:lnTo>
                  <a:pt x="2013" y="696"/>
                </a:lnTo>
                <a:lnTo>
                  <a:pt x="2004" y="716"/>
                </a:lnTo>
                <a:lnTo>
                  <a:pt x="1995" y="735"/>
                </a:lnTo>
                <a:lnTo>
                  <a:pt x="1985" y="755"/>
                </a:lnTo>
                <a:lnTo>
                  <a:pt x="1976" y="775"/>
                </a:lnTo>
                <a:lnTo>
                  <a:pt x="1966" y="795"/>
                </a:lnTo>
                <a:lnTo>
                  <a:pt x="1956" y="815"/>
                </a:lnTo>
                <a:lnTo>
                  <a:pt x="1945" y="835"/>
                </a:lnTo>
                <a:lnTo>
                  <a:pt x="1935" y="856"/>
                </a:lnTo>
                <a:lnTo>
                  <a:pt x="1924" y="876"/>
                </a:lnTo>
                <a:lnTo>
                  <a:pt x="1912" y="896"/>
                </a:lnTo>
                <a:lnTo>
                  <a:pt x="1901" y="918"/>
                </a:lnTo>
                <a:lnTo>
                  <a:pt x="1889" y="939"/>
                </a:lnTo>
                <a:lnTo>
                  <a:pt x="1878" y="959"/>
                </a:lnTo>
                <a:lnTo>
                  <a:pt x="1866" y="980"/>
                </a:lnTo>
                <a:lnTo>
                  <a:pt x="1852" y="1001"/>
                </a:lnTo>
                <a:lnTo>
                  <a:pt x="1840" y="1022"/>
                </a:lnTo>
                <a:lnTo>
                  <a:pt x="1827" y="1043"/>
                </a:lnTo>
                <a:lnTo>
                  <a:pt x="1815" y="1065"/>
                </a:lnTo>
                <a:lnTo>
                  <a:pt x="1801" y="1086"/>
                </a:lnTo>
                <a:lnTo>
                  <a:pt x="1787" y="1107"/>
                </a:lnTo>
                <a:lnTo>
                  <a:pt x="1773" y="1128"/>
                </a:lnTo>
                <a:lnTo>
                  <a:pt x="1759" y="1150"/>
                </a:lnTo>
                <a:lnTo>
                  <a:pt x="1745" y="1171"/>
                </a:lnTo>
                <a:lnTo>
                  <a:pt x="1731" y="1193"/>
                </a:lnTo>
                <a:lnTo>
                  <a:pt x="1715" y="1214"/>
                </a:lnTo>
                <a:lnTo>
                  <a:pt x="1701" y="1236"/>
                </a:lnTo>
                <a:lnTo>
                  <a:pt x="1686" y="1257"/>
                </a:lnTo>
                <a:lnTo>
                  <a:pt x="1671" y="1278"/>
                </a:lnTo>
                <a:lnTo>
                  <a:pt x="1655" y="1299"/>
                </a:lnTo>
                <a:lnTo>
                  <a:pt x="1640" y="1321"/>
                </a:lnTo>
                <a:lnTo>
                  <a:pt x="1624" y="1343"/>
                </a:lnTo>
                <a:lnTo>
                  <a:pt x="1607" y="1364"/>
                </a:lnTo>
                <a:lnTo>
                  <a:pt x="1592" y="1385"/>
                </a:lnTo>
                <a:lnTo>
                  <a:pt x="1575" y="1406"/>
                </a:lnTo>
                <a:lnTo>
                  <a:pt x="1560" y="1427"/>
                </a:lnTo>
                <a:lnTo>
                  <a:pt x="1543" y="1449"/>
                </a:lnTo>
                <a:lnTo>
                  <a:pt x="1526" y="1470"/>
                </a:lnTo>
                <a:lnTo>
                  <a:pt x="1508" y="1491"/>
                </a:lnTo>
                <a:lnTo>
                  <a:pt x="1492" y="1511"/>
                </a:lnTo>
                <a:lnTo>
                  <a:pt x="1475" y="1532"/>
                </a:lnTo>
                <a:lnTo>
                  <a:pt x="1457" y="1552"/>
                </a:lnTo>
                <a:lnTo>
                  <a:pt x="1457" y="1553"/>
                </a:lnTo>
                <a:close/>
              </a:path>
            </a:pathLst>
          </a:custGeom>
          <a:solidFill>
            <a:srgbClr val="b2b2b2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20718600">
            <a:off x="343080" y="3895200"/>
            <a:ext cx="522000" cy="605160"/>
          </a:xfrm>
          <a:custGeom>
            <a:avLst/>
            <a:gdLst/>
            <a:ahLst/>
            <a:rect l="l" t="t" r="r" b="b"/>
            <a:pathLst>
              <a:path w="2131" h="2447">
                <a:moveTo>
                  <a:pt x="1457" y="1552"/>
                </a:moveTo>
                <a:lnTo>
                  <a:pt x="1440" y="1572"/>
                </a:lnTo>
                <a:lnTo>
                  <a:pt x="1422" y="1594"/>
                </a:lnTo>
                <a:lnTo>
                  <a:pt x="1405" y="1614"/>
                </a:lnTo>
                <a:lnTo>
                  <a:pt x="1387" y="1634"/>
                </a:lnTo>
                <a:lnTo>
                  <a:pt x="1370" y="1654"/>
                </a:lnTo>
                <a:lnTo>
                  <a:pt x="1352" y="1674"/>
                </a:lnTo>
                <a:lnTo>
                  <a:pt x="1333" y="1694"/>
                </a:lnTo>
                <a:lnTo>
                  <a:pt x="1315" y="1714"/>
                </a:lnTo>
                <a:lnTo>
                  <a:pt x="1297" y="1733"/>
                </a:lnTo>
                <a:lnTo>
                  <a:pt x="1279" y="1753"/>
                </a:lnTo>
                <a:lnTo>
                  <a:pt x="1260" y="1772"/>
                </a:lnTo>
                <a:lnTo>
                  <a:pt x="1243" y="1791"/>
                </a:lnTo>
                <a:lnTo>
                  <a:pt x="1224" y="1810"/>
                </a:lnTo>
                <a:lnTo>
                  <a:pt x="1205" y="1828"/>
                </a:lnTo>
                <a:lnTo>
                  <a:pt x="1187" y="1847"/>
                </a:lnTo>
                <a:lnTo>
                  <a:pt x="1168" y="1865"/>
                </a:lnTo>
                <a:lnTo>
                  <a:pt x="1150" y="1883"/>
                </a:lnTo>
                <a:lnTo>
                  <a:pt x="1131" y="1902"/>
                </a:lnTo>
                <a:lnTo>
                  <a:pt x="1112" y="1919"/>
                </a:lnTo>
                <a:lnTo>
                  <a:pt x="1093" y="1936"/>
                </a:lnTo>
                <a:lnTo>
                  <a:pt x="1076" y="1954"/>
                </a:lnTo>
                <a:lnTo>
                  <a:pt x="1057" y="1971"/>
                </a:lnTo>
                <a:lnTo>
                  <a:pt x="1038" y="1988"/>
                </a:lnTo>
                <a:lnTo>
                  <a:pt x="1019" y="2004"/>
                </a:lnTo>
                <a:lnTo>
                  <a:pt x="1001" y="2021"/>
                </a:lnTo>
                <a:lnTo>
                  <a:pt x="982" y="2037"/>
                </a:lnTo>
                <a:lnTo>
                  <a:pt x="963" y="2053"/>
                </a:lnTo>
                <a:lnTo>
                  <a:pt x="945" y="2069"/>
                </a:lnTo>
                <a:lnTo>
                  <a:pt x="926" y="2083"/>
                </a:lnTo>
                <a:lnTo>
                  <a:pt x="907" y="2099"/>
                </a:lnTo>
                <a:lnTo>
                  <a:pt x="890" y="2113"/>
                </a:lnTo>
                <a:lnTo>
                  <a:pt x="871" y="2128"/>
                </a:lnTo>
                <a:lnTo>
                  <a:pt x="853" y="2142"/>
                </a:lnTo>
                <a:lnTo>
                  <a:pt x="835" y="2157"/>
                </a:lnTo>
                <a:lnTo>
                  <a:pt x="816" y="2170"/>
                </a:lnTo>
                <a:lnTo>
                  <a:pt x="798" y="2184"/>
                </a:lnTo>
                <a:lnTo>
                  <a:pt x="781" y="2197"/>
                </a:lnTo>
                <a:lnTo>
                  <a:pt x="763" y="2210"/>
                </a:lnTo>
                <a:lnTo>
                  <a:pt x="745" y="2223"/>
                </a:lnTo>
                <a:lnTo>
                  <a:pt x="727" y="2235"/>
                </a:lnTo>
                <a:lnTo>
                  <a:pt x="709" y="2246"/>
                </a:lnTo>
                <a:lnTo>
                  <a:pt x="691" y="2258"/>
                </a:lnTo>
                <a:lnTo>
                  <a:pt x="675" y="2269"/>
                </a:lnTo>
                <a:lnTo>
                  <a:pt x="657" y="2280"/>
                </a:lnTo>
                <a:lnTo>
                  <a:pt x="640" y="2290"/>
                </a:lnTo>
                <a:lnTo>
                  <a:pt x="622" y="2302"/>
                </a:lnTo>
                <a:lnTo>
                  <a:pt x="606" y="2312"/>
                </a:lnTo>
                <a:lnTo>
                  <a:pt x="589" y="2321"/>
                </a:lnTo>
                <a:lnTo>
                  <a:pt x="572" y="2331"/>
                </a:lnTo>
                <a:lnTo>
                  <a:pt x="556" y="2339"/>
                </a:lnTo>
                <a:lnTo>
                  <a:pt x="540" y="2348"/>
                </a:lnTo>
                <a:lnTo>
                  <a:pt x="523" y="2356"/>
                </a:lnTo>
                <a:lnTo>
                  <a:pt x="508" y="2364"/>
                </a:lnTo>
                <a:lnTo>
                  <a:pt x="492" y="2372"/>
                </a:lnTo>
                <a:lnTo>
                  <a:pt x="477" y="2378"/>
                </a:lnTo>
                <a:lnTo>
                  <a:pt x="461" y="2386"/>
                </a:lnTo>
                <a:lnTo>
                  <a:pt x="445" y="2393"/>
                </a:lnTo>
                <a:lnTo>
                  <a:pt x="431" y="2398"/>
                </a:lnTo>
                <a:lnTo>
                  <a:pt x="415" y="2404"/>
                </a:lnTo>
                <a:lnTo>
                  <a:pt x="401" y="2410"/>
                </a:lnTo>
                <a:lnTo>
                  <a:pt x="386" y="2415"/>
                </a:lnTo>
                <a:lnTo>
                  <a:pt x="372" y="2420"/>
                </a:lnTo>
                <a:lnTo>
                  <a:pt x="359" y="2424"/>
                </a:lnTo>
                <a:lnTo>
                  <a:pt x="344" y="2429"/>
                </a:lnTo>
                <a:lnTo>
                  <a:pt x="331" y="2432"/>
                </a:lnTo>
                <a:lnTo>
                  <a:pt x="317" y="2435"/>
                </a:lnTo>
                <a:lnTo>
                  <a:pt x="304" y="2437"/>
                </a:lnTo>
                <a:lnTo>
                  <a:pt x="292" y="2441"/>
                </a:lnTo>
                <a:lnTo>
                  <a:pt x="278" y="2442"/>
                </a:lnTo>
                <a:lnTo>
                  <a:pt x="266" y="2444"/>
                </a:lnTo>
                <a:lnTo>
                  <a:pt x="254" y="2445"/>
                </a:lnTo>
                <a:lnTo>
                  <a:pt x="242" y="2446"/>
                </a:lnTo>
                <a:lnTo>
                  <a:pt x="230" y="2447"/>
                </a:lnTo>
                <a:lnTo>
                  <a:pt x="219" y="2447"/>
                </a:lnTo>
                <a:lnTo>
                  <a:pt x="207" y="2447"/>
                </a:lnTo>
                <a:lnTo>
                  <a:pt x="197" y="2447"/>
                </a:lnTo>
                <a:lnTo>
                  <a:pt x="186" y="2446"/>
                </a:lnTo>
                <a:lnTo>
                  <a:pt x="176" y="2445"/>
                </a:lnTo>
                <a:lnTo>
                  <a:pt x="166" y="2443"/>
                </a:lnTo>
                <a:lnTo>
                  <a:pt x="156" y="2441"/>
                </a:lnTo>
                <a:lnTo>
                  <a:pt x="146" y="2439"/>
                </a:lnTo>
                <a:lnTo>
                  <a:pt x="137" y="2436"/>
                </a:lnTo>
                <a:lnTo>
                  <a:pt x="128" y="2433"/>
                </a:lnTo>
                <a:lnTo>
                  <a:pt x="119" y="2430"/>
                </a:lnTo>
                <a:lnTo>
                  <a:pt x="110" y="2426"/>
                </a:lnTo>
                <a:lnTo>
                  <a:pt x="102" y="2422"/>
                </a:lnTo>
                <a:lnTo>
                  <a:pt x="95" y="2417"/>
                </a:lnTo>
                <a:lnTo>
                  <a:pt x="87" y="2412"/>
                </a:lnTo>
                <a:lnTo>
                  <a:pt x="80" y="2407"/>
                </a:lnTo>
                <a:lnTo>
                  <a:pt x="74" y="2401"/>
                </a:lnTo>
                <a:lnTo>
                  <a:pt x="67" y="2395"/>
                </a:lnTo>
                <a:lnTo>
                  <a:pt x="60" y="2388"/>
                </a:lnTo>
                <a:lnTo>
                  <a:pt x="55" y="2382"/>
                </a:lnTo>
                <a:lnTo>
                  <a:pt x="48" y="2375"/>
                </a:lnTo>
                <a:lnTo>
                  <a:pt x="43" y="2367"/>
                </a:lnTo>
                <a:lnTo>
                  <a:pt x="38" y="2359"/>
                </a:lnTo>
                <a:lnTo>
                  <a:pt x="33" y="2352"/>
                </a:lnTo>
                <a:lnTo>
                  <a:pt x="29" y="2343"/>
                </a:lnTo>
                <a:lnTo>
                  <a:pt x="25" y="2334"/>
                </a:lnTo>
                <a:lnTo>
                  <a:pt x="21" y="2325"/>
                </a:lnTo>
                <a:lnTo>
                  <a:pt x="18" y="2316"/>
                </a:lnTo>
                <a:lnTo>
                  <a:pt x="14" y="2306"/>
                </a:lnTo>
                <a:lnTo>
                  <a:pt x="11" y="2296"/>
                </a:lnTo>
                <a:lnTo>
                  <a:pt x="9" y="2285"/>
                </a:lnTo>
                <a:lnTo>
                  <a:pt x="7" y="2274"/>
                </a:lnTo>
                <a:lnTo>
                  <a:pt x="4" y="2263"/>
                </a:lnTo>
                <a:lnTo>
                  <a:pt x="3" y="2252"/>
                </a:lnTo>
                <a:lnTo>
                  <a:pt x="2" y="2240"/>
                </a:lnTo>
                <a:lnTo>
                  <a:pt x="1" y="2228"/>
                </a:lnTo>
                <a:lnTo>
                  <a:pt x="0" y="2216"/>
                </a:lnTo>
                <a:lnTo>
                  <a:pt x="0" y="2203"/>
                </a:lnTo>
                <a:lnTo>
                  <a:pt x="0" y="2189"/>
                </a:lnTo>
                <a:lnTo>
                  <a:pt x="1" y="2177"/>
                </a:lnTo>
                <a:lnTo>
                  <a:pt x="1" y="2162"/>
                </a:lnTo>
                <a:lnTo>
                  <a:pt x="2" y="2149"/>
                </a:lnTo>
                <a:lnTo>
                  <a:pt x="3" y="2135"/>
                </a:lnTo>
                <a:lnTo>
                  <a:pt x="6" y="2120"/>
                </a:lnTo>
                <a:lnTo>
                  <a:pt x="8" y="2106"/>
                </a:lnTo>
                <a:lnTo>
                  <a:pt x="10" y="2090"/>
                </a:lnTo>
                <a:lnTo>
                  <a:pt x="12" y="2076"/>
                </a:lnTo>
                <a:lnTo>
                  <a:pt x="16" y="2060"/>
                </a:lnTo>
                <a:lnTo>
                  <a:pt x="19" y="2044"/>
                </a:lnTo>
                <a:lnTo>
                  <a:pt x="22" y="2028"/>
                </a:lnTo>
                <a:lnTo>
                  <a:pt x="27" y="2012"/>
                </a:lnTo>
                <a:lnTo>
                  <a:pt x="31" y="1995"/>
                </a:lnTo>
                <a:lnTo>
                  <a:pt x="36" y="1979"/>
                </a:lnTo>
                <a:lnTo>
                  <a:pt x="40" y="1962"/>
                </a:lnTo>
                <a:lnTo>
                  <a:pt x="46" y="1944"/>
                </a:lnTo>
                <a:lnTo>
                  <a:pt x="51" y="1926"/>
                </a:lnTo>
                <a:lnTo>
                  <a:pt x="57" y="1910"/>
                </a:lnTo>
                <a:lnTo>
                  <a:pt x="63" y="1892"/>
                </a:lnTo>
                <a:lnTo>
                  <a:pt x="69" y="1873"/>
                </a:lnTo>
                <a:lnTo>
                  <a:pt x="76" y="1855"/>
                </a:lnTo>
                <a:lnTo>
                  <a:pt x="84" y="1836"/>
                </a:lnTo>
                <a:lnTo>
                  <a:pt x="90" y="1818"/>
                </a:lnTo>
                <a:lnTo>
                  <a:pt x="98" y="1800"/>
                </a:lnTo>
                <a:lnTo>
                  <a:pt x="106" y="1781"/>
                </a:lnTo>
                <a:lnTo>
                  <a:pt x="115" y="1762"/>
                </a:lnTo>
                <a:lnTo>
                  <a:pt x="124" y="1742"/>
                </a:lnTo>
                <a:lnTo>
                  <a:pt x="133" y="1723"/>
                </a:lnTo>
                <a:lnTo>
                  <a:pt x="141" y="1703"/>
                </a:lnTo>
                <a:lnTo>
                  <a:pt x="150" y="1683"/>
                </a:lnTo>
                <a:lnTo>
                  <a:pt x="160" y="1663"/>
                </a:lnTo>
                <a:lnTo>
                  <a:pt x="170" y="1643"/>
                </a:lnTo>
                <a:lnTo>
                  <a:pt x="180" y="1623"/>
                </a:lnTo>
                <a:lnTo>
                  <a:pt x="190" y="1602"/>
                </a:lnTo>
                <a:lnTo>
                  <a:pt x="202" y="1582"/>
                </a:lnTo>
                <a:lnTo>
                  <a:pt x="213" y="1561"/>
                </a:lnTo>
                <a:lnTo>
                  <a:pt x="224" y="1541"/>
                </a:lnTo>
                <a:lnTo>
                  <a:pt x="236" y="1520"/>
                </a:lnTo>
                <a:lnTo>
                  <a:pt x="247" y="1499"/>
                </a:lnTo>
                <a:lnTo>
                  <a:pt x="259" y="1479"/>
                </a:lnTo>
                <a:lnTo>
                  <a:pt x="272" y="1458"/>
                </a:lnTo>
                <a:lnTo>
                  <a:pt x="284" y="1437"/>
                </a:lnTo>
                <a:lnTo>
                  <a:pt x="297" y="1415"/>
                </a:lnTo>
                <a:lnTo>
                  <a:pt x="311" y="1394"/>
                </a:lnTo>
                <a:lnTo>
                  <a:pt x="324" y="1373"/>
                </a:lnTo>
                <a:lnTo>
                  <a:pt x="337" y="1352"/>
                </a:lnTo>
                <a:lnTo>
                  <a:pt x="351" y="1330"/>
                </a:lnTo>
                <a:lnTo>
                  <a:pt x="364" y="1309"/>
                </a:lnTo>
                <a:lnTo>
                  <a:pt x="379" y="1287"/>
                </a:lnTo>
                <a:lnTo>
                  <a:pt x="393" y="1266"/>
                </a:lnTo>
                <a:lnTo>
                  <a:pt x="408" y="1245"/>
                </a:lnTo>
                <a:lnTo>
                  <a:pt x="422" y="1223"/>
                </a:lnTo>
                <a:lnTo>
                  <a:pt x="438" y="1202"/>
                </a:lnTo>
                <a:lnTo>
                  <a:pt x="452" y="1181"/>
                </a:lnTo>
                <a:lnTo>
                  <a:pt x="468" y="1159"/>
                </a:lnTo>
                <a:lnTo>
                  <a:pt x="483" y="1138"/>
                </a:lnTo>
                <a:lnTo>
                  <a:pt x="499" y="1116"/>
                </a:lnTo>
                <a:lnTo>
                  <a:pt x="516" y="1095"/>
                </a:lnTo>
                <a:lnTo>
                  <a:pt x="531" y="1074"/>
                </a:lnTo>
                <a:lnTo>
                  <a:pt x="548" y="1053"/>
                </a:lnTo>
                <a:lnTo>
                  <a:pt x="563" y="1031"/>
                </a:lnTo>
                <a:lnTo>
                  <a:pt x="580" y="1010"/>
                </a:lnTo>
                <a:lnTo>
                  <a:pt x="597" y="989"/>
                </a:lnTo>
                <a:lnTo>
                  <a:pt x="614" y="968"/>
                </a:lnTo>
                <a:lnTo>
                  <a:pt x="630" y="948"/>
                </a:lnTo>
                <a:lnTo>
                  <a:pt x="648" y="927"/>
                </a:lnTo>
                <a:lnTo>
                  <a:pt x="665" y="906"/>
                </a:lnTo>
                <a:lnTo>
                  <a:pt x="683" y="886"/>
                </a:lnTo>
                <a:lnTo>
                  <a:pt x="699" y="864"/>
                </a:lnTo>
                <a:lnTo>
                  <a:pt x="717" y="844"/>
                </a:lnTo>
                <a:lnTo>
                  <a:pt x="735" y="824"/>
                </a:lnTo>
                <a:lnTo>
                  <a:pt x="753" y="804"/>
                </a:lnTo>
                <a:lnTo>
                  <a:pt x="771" y="784"/>
                </a:lnTo>
                <a:lnTo>
                  <a:pt x="788" y="764"/>
                </a:lnTo>
                <a:lnTo>
                  <a:pt x="806" y="744"/>
                </a:lnTo>
                <a:lnTo>
                  <a:pt x="825" y="724"/>
                </a:lnTo>
                <a:lnTo>
                  <a:pt x="843" y="705"/>
                </a:lnTo>
                <a:lnTo>
                  <a:pt x="862" y="685"/>
                </a:lnTo>
                <a:lnTo>
                  <a:pt x="880" y="666"/>
                </a:lnTo>
                <a:lnTo>
                  <a:pt x="897" y="647"/>
                </a:lnTo>
                <a:lnTo>
                  <a:pt x="916" y="628"/>
                </a:lnTo>
                <a:lnTo>
                  <a:pt x="935" y="611"/>
                </a:lnTo>
                <a:lnTo>
                  <a:pt x="953" y="592"/>
                </a:lnTo>
                <a:lnTo>
                  <a:pt x="972" y="574"/>
                </a:lnTo>
                <a:lnTo>
                  <a:pt x="991" y="555"/>
                </a:lnTo>
                <a:lnTo>
                  <a:pt x="1009" y="537"/>
                </a:lnTo>
                <a:lnTo>
                  <a:pt x="1028" y="520"/>
                </a:lnTo>
                <a:lnTo>
                  <a:pt x="1047" y="503"/>
                </a:lnTo>
                <a:lnTo>
                  <a:pt x="1066" y="485"/>
                </a:lnTo>
                <a:lnTo>
                  <a:pt x="1083" y="468"/>
                </a:lnTo>
                <a:lnTo>
                  <a:pt x="1102" y="451"/>
                </a:lnTo>
                <a:lnTo>
                  <a:pt x="1121" y="435"/>
                </a:lnTo>
                <a:lnTo>
                  <a:pt x="1140" y="419"/>
                </a:lnTo>
                <a:lnTo>
                  <a:pt x="1158" y="402"/>
                </a:lnTo>
                <a:lnTo>
                  <a:pt x="1177" y="387"/>
                </a:lnTo>
                <a:lnTo>
                  <a:pt x="1196" y="371"/>
                </a:lnTo>
                <a:lnTo>
                  <a:pt x="1214" y="357"/>
                </a:lnTo>
                <a:lnTo>
                  <a:pt x="1233" y="341"/>
                </a:lnTo>
                <a:lnTo>
                  <a:pt x="1250" y="327"/>
                </a:lnTo>
                <a:lnTo>
                  <a:pt x="1269" y="312"/>
                </a:lnTo>
                <a:lnTo>
                  <a:pt x="1287" y="298"/>
                </a:lnTo>
                <a:lnTo>
                  <a:pt x="1305" y="284"/>
                </a:lnTo>
                <a:lnTo>
                  <a:pt x="1324" y="271"/>
                </a:lnTo>
                <a:lnTo>
                  <a:pt x="1342" y="258"/>
                </a:lnTo>
                <a:lnTo>
                  <a:pt x="1360" y="244"/>
                </a:lnTo>
                <a:lnTo>
                  <a:pt x="1377" y="232"/>
                </a:lnTo>
                <a:lnTo>
                  <a:pt x="1395" y="220"/>
                </a:lnTo>
                <a:lnTo>
                  <a:pt x="1413" y="208"/>
                </a:lnTo>
                <a:lnTo>
                  <a:pt x="1431" y="195"/>
                </a:lnTo>
                <a:lnTo>
                  <a:pt x="1447" y="184"/>
                </a:lnTo>
                <a:lnTo>
                  <a:pt x="1465" y="173"/>
                </a:lnTo>
                <a:lnTo>
                  <a:pt x="1482" y="162"/>
                </a:lnTo>
                <a:lnTo>
                  <a:pt x="1500" y="152"/>
                </a:lnTo>
                <a:lnTo>
                  <a:pt x="1516" y="142"/>
                </a:lnTo>
                <a:lnTo>
                  <a:pt x="1533" y="132"/>
                </a:lnTo>
                <a:lnTo>
                  <a:pt x="1550" y="122"/>
                </a:lnTo>
                <a:lnTo>
                  <a:pt x="1567" y="113"/>
                </a:lnTo>
                <a:lnTo>
                  <a:pt x="1583" y="104"/>
                </a:lnTo>
                <a:lnTo>
                  <a:pt x="1599" y="96"/>
                </a:lnTo>
                <a:lnTo>
                  <a:pt x="1616" y="87"/>
                </a:lnTo>
                <a:lnTo>
                  <a:pt x="1631" y="79"/>
                </a:lnTo>
                <a:lnTo>
                  <a:pt x="1647" y="73"/>
                </a:lnTo>
                <a:lnTo>
                  <a:pt x="1662" y="65"/>
                </a:lnTo>
                <a:lnTo>
                  <a:pt x="1678" y="58"/>
                </a:lnTo>
                <a:lnTo>
                  <a:pt x="1692" y="53"/>
                </a:lnTo>
                <a:lnTo>
                  <a:pt x="1708" y="46"/>
                </a:lnTo>
                <a:lnTo>
                  <a:pt x="1722" y="41"/>
                </a:lnTo>
                <a:lnTo>
                  <a:pt x="1737" y="35"/>
                </a:lnTo>
                <a:lnTo>
                  <a:pt x="1751" y="31"/>
                </a:lnTo>
                <a:lnTo>
                  <a:pt x="1766" y="26"/>
                </a:lnTo>
                <a:lnTo>
                  <a:pt x="1779" y="22"/>
                </a:lnTo>
                <a:lnTo>
                  <a:pt x="1794" y="18"/>
                </a:lnTo>
                <a:lnTo>
                  <a:pt x="1807" y="15"/>
                </a:lnTo>
                <a:lnTo>
                  <a:pt x="1820" y="12"/>
                </a:lnTo>
                <a:lnTo>
                  <a:pt x="1833" y="8"/>
                </a:lnTo>
                <a:lnTo>
                  <a:pt x="1846" y="6"/>
                </a:lnTo>
                <a:lnTo>
                  <a:pt x="1858" y="5"/>
                </a:lnTo>
                <a:lnTo>
                  <a:pt x="1871" y="3"/>
                </a:lnTo>
                <a:lnTo>
                  <a:pt x="1883" y="2"/>
                </a:lnTo>
                <a:lnTo>
                  <a:pt x="1895" y="0"/>
                </a:lnTo>
                <a:lnTo>
                  <a:pt x="1906" y="0"/>
                </a:lnTo>
                <a:lnTo>
                  <a:pt x="1917" y="0"/>
                </a:lnTo>
                <a:lnTo>
                  <a:pt x="1928" y="0"/>
                </a:lnTo>
                <a:lnTo>
                  <a:pt x="1940" y="2"/>
                </a:lnTo>
                <a:lnTo>
                  <a:pt x="1950" y="3"/>
                </a:lnTo>
                <a:lnTo>
                  <a:pt x="1961" y="4"/>
                </a:lnTo>
                <a:lnTo>
                  <a:pt x="1971" y="5"/>
                </a:lnTo>
                <a:lnTo>
                  <a:pt x="1980" y="7"/>
                </a:lnTo>
                <a:lnTo>
                  <a:pt x="1990" y="10"/>
                </a:lnTo>
                <a:lnTo>
                  <a:pt x="1999" y="13"/>
                </a:lnTo>
                <a:lnTo>
                  <a:pt x="2008" y="16"/>
                </a:lnTo>
                <a:lnTo>
                  <a:pt x="2016" y="20"/>
                </a:lnTo>
                <a:lnTo>
                  <a:pt x="2024" y="24"/>
                </a:lnTo>
                <a:lnTo>
                  <a:pt x="2032" y="28"/>
                </a:lnTo>
                <a:lnTo>
                  <a:pt x="2040" y="33"/>
                </a:lnTo>
                <a:lnTo>
                  <a:pt x="2048" y="38"/>
                </a:lnTo>
                <a:lnTo>
                  <a:pt x="2054" y="44"/>
                </a:lnTo>
                <a:lnTo>
                  <a:pt x="2061" y="49"/>
                </a:lnTo>
                <a:lnTo>
                  <a:pt x="2068" y="56"/>
                </a:lnTo>
                <a:lnTo>
                  <a:pt x="2074" y="63"/>
                </a:lnTo>
                <a:lnTo>
                  <a:pt x="2080" y="69"/>
                </a:lnTo>
                <a:lnTo>
                  <a:pt x="2085" y="76"/>
                </a:lnTo>
                <a:lnTo>
                  <a:pt x="2091" y="84"/>
                </a:lnTo>
                <a:lnTo>
                  <a:pt x="2095" y="92"/>
                </a:lnTo>
                <a:lnTo>
                  <a:pt x="2100" y="101"/>
                </a:lnTo>
                <a:lnTo>
                  <a:pt x="2104" y="110"/>
                </a:lnTo>
                <a:lnTo>
                  <a:pt x="2109" y="118"/>
                </a:lnTo>
                <a:lnTo>
                  <a:pt x="2112" y="127"/>
                </a:lnTo>
                <a:lnTo>
                  <a:pt x="2116" y="137"/>
                </a:lnTo>
                <a:lnTo>
                  <a:pt x="2118" y="147"/>
                </a:lnTo>
                <a:lnTo>
                  <a:pt x="2121" y="157"/>
                </a:lnTo>
                <a:lnTo>
                  <a:pt x="2123" y="169"/>
                </a:lnTo>
                <a:lnTo>
                  <a:pt x="2126" y="179"/>
                </a:lnTo>
                <a:lnTo>
                  <a:pt x="2127" y="191"/>
                </a:lnTo>
                <a:lnTo>
                  <a:pt x="2129" y="202"/>
                </a:lnTo>
                <a:lnTo>
                  <a:pt x="2130" y="214"/>
                </a:lnTo>
                <a:lnTo>
                  <a:pt x="2130" y="226"/>
                </a:lnTo>
                <a:lnTo>
                  <a:pt x="2131" y="239"/>
                </a:lnTo>
                <a:lnTo>
                  <a:pt x="2131" y="252"/>
                </a:lnTo>
                <a:lnTo>
                  <a:pt x="2131" y="264"/>
                </a:lnTo>
                <a:lnTo>
                  <a:pt x="2130" y="278"/>
                </a:lnTo>
                <a:lnTo>
                  <a:pt x="2129" y="292"/>
                </a:lnTo>
                <a:lnTo>
                  <a:pt x="2128" y="305"/>
                </a:lnTo>
                <a:lnTo>
                  <a:pt x="2127" y="320"/>
                </a:lnTo>
                <a:lnTo>
                  <a:pt x="2124" y="334"/>
                </a:lnTo>
                <a:lnTo>
                  <a:pt x="2122" y="350"/>
                </a:lnTo>
                <a:lnTo>
                  <a:pt x="2120" y="364"/>
                </a:lnTo>
                <a:lnTo>
                  <a:pt x="2117" y="380"/>
                </a:lnTo>
                <a:lnTo>
                  <a:pt x="2113" y="396"/>
                </a:lnTo>
                <a:lnTo>
                  <a:pt x="2110" y="411"/>
                </a:lnTo>
                <a:lnTo>
                  <a:pt x="2107" y="428"/>
                </a:lnTo>
                <a:lnTo>
                  <a:pt x="2102" y="445"/>
                </a:lnTo>
                <a:lnTo>
                  <a:pt x="2098" y="461"/>
                </a:lnTo>
                <a:lnTo>
                  <a:pt x="2093" y="478"/>
                </a:lnTo>
                <a:lnTo>
                  <a:pt x="2088" y="495"/>
                </a:lnTo>
                <a:lnTo>
                  <a:pt x="2083" y="513"/>
                </a:lnTo>
                <a:lnTo>
                  <a:pt x="2077" y="529"/>
                </a:lnTo>
                <a:lnTo>
                  <a:pt x="2071" y="547"/>
                </a:lnTo>
                <a:lnTo>
                  <a:pt x="2064" y="565"/>
                </a:lnTo>
                <a:lnTo>
                  <a:pt x="2058" y="584"/>
                </a:lnTo>
                <a:lnTo>
                  <a:pt x="2051" y="602"/>
                </a:lnTo>
                <a:lnTo>
                  <a:pt x="2044" y="621"/>
                </a:lnTo>
                <a:lnTo>
                  <a:pt x="2036" y="639"/>
                </a:lnTo>
                <a:lnTo>
                  <a:pt x="2029" y="658"/>
                </a:lnTo>
                <a:lnTo>
                  <a:pt x="2021" y="677"/>
                </a:lnTo>
                <a:lnTo>
                  <a:pt x="2012" y="696"/>
                </a:lnTo>
                <a:lnTo>
                  <a:pt x="2003" y="715"/>
                </a:lnTo>
                <a:lnTo>
                  <a:pt x="1994" y="735"/>
                </a:lnTo>
                <a:lnTo>
                  <a:pt x="1985" y="755"/>
                </a:lnTo>
                <a:lnTo>
                  <a:pt x="1975" y="775"/>
                </a:lnTo>
                <a:lnTo>
                  <a:pt x="1966" y="794"/>
                </a:lnTo>
                <a:lnTo>
                  <a:pt x="1955" y="815"/>
                </a:lnTo>
                <a:lnTo>
                  <a:pt x="1945" y="835"/>
                </a:lnTo>
                <a:lnTo>
                  <a:pt x="1935" y="855"/>
                </a:lnTo>
                <a:lnTo>
                  <a:pt x="1924" y="875"/>
                </a:lnTo>
                <a:lnTo>
                  <a:pt x="1913" y="897"/>
                </a:lnTo>
                <a:lnTo>
                  <a:pt x="1901" y="917"/>
                </a:lnTo>
                <a:lnTo>
                  <a:pt x="1889" y="938"/>
                </a:lnTo>
                <a:lnTo>
                  <a:pt x="1877" y="959"/>
                </a:lnTo>
                <a:lnTo>
                  <a:pt x="1865" y="980"/>
                </a:lnTo>
                <a:lnTo>
                  <a:pt x="1853" y="1001"/>
                </a:lnTo>
                <a:lnTo>
                  <a:pt x="1841" y="1022"/>
                </a:lnTo>
                <a:lnTo>
                  <a:pt x="1827" y="1044"/>
                </a:lnTo>
                <a:lnTo>
                  <a:pt x="1814" y="1065"/>
                </a:lnTo>
                <a:lnTo>
                  <a:pt x="1800" y="1086"/>
                </a:lnTo>
                <a:lnTo>
                  <a:pt x="1787" y="1107"/>
                </a:lnTo>
                <a:lnTo>
                  <a:pt x="1774" y="1128"/>
                </a:lnTo>
                <a:lnTo>
                  <a:pt x="1759" y="1149"/>
                </a:lnTo>
                <a:lnTo>
                  <a:pt x="1745" y="1171"/>
                </a:lnTo>
                <a:lnTo>
                  <a:pt x="1730" y="1193"/>
                </a:lnTo>
                <a:lnTo>
                  <a:pt x="1716" y="1214"/>
                </a:lnTo>
                <a:lnTo>
                  <a:pt x="1701" y="1235"/>
                </a:lnTo>
                <a:lnTo>
                  <a:pt x="1686" y="1256"/>
                </a:lnTo>
                <a:lnTo>
                  <a:pt x="1670" y="1278"/>
                </a:lnTo>
                <a:lnTo>
                  <a:pt x="1656" y="1300"/>
                </a:lnTo>
                <a:lnTo>
                  <a:pt x="1640" y="1321"/>
                </a:lnTo>
                <a:lnTo>
                  <a:pt x="1623" y="1342"/>
                </a:lnTo>
                <a:lnTo>
                  <a:pt x="1608" y="1363"/>
                </a:lnTo>
                <a:lnTo>
                  <a:pt x="1592" y="1384"/>
                </a:lnTo>
                <a:lnTo>
                  <a:pt x="1576" y="1405"/>
                </a:lnTo>
                <a:lnTo>
                  <a:pt x="1559" y="1427"/>
                </a:lnTo>
                <a:lnTo>
                  <a:pt x="1542" y="1448"/>
                </a:lnTo>
                <a:lnTo>
                  <a:pt x="1525" y="1469"/>
                </a:lnTo>
                <a:lnTo>
                  <a:pt x="1509" y="1490"/>
                </a:lnTo>
                <a:lnTo>
                  <a:pt x="1492" y="1511"/>
                </a:lnTo>
                <a:lnTo>
                  <a:pt x="1474" y="1531"/>
                </a:lnTo>
                <a:lnTo>
                  <a:pt x="1457" y="1552"/>
                </a:lnTo>
                <a:close/>
              </a:path>
            </a:pathLst>
          </a:custGeom>
          <a:solidFill>
            <a:srgbClr val="b2b2b2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09400">
            <a:off x="1395360" y="2284200"/>
            <a:ext cx="522360" cy="603000"/>
          </a:xfrm>
          <a:custGeom>
            <a:avLst/>
            <a:gdLst/>
            <a:ahLst/>
            <a:rect l="l" t="t" r="r" b="b"/>
            <a:pathLst>
              <a:path w="2131" h="2452">
                <a:moveTo>
                  <a:pt x="1457" y="1556"/>
                </a:moveTo>
                <a:lnTo>
                  <a:pt x="1439" y="1577"/>
                </a:lnTo>
                <a:lnTo>
                  <a:pt x="1421" y="1597"/>
                </a:lnTo>
                <a:lnTo>
                  <a:pt x="1405" y="1617"/>
                </a:lnTo>
                <a:lnTo>
                  <a:pt x="1387" y="1639"/>
                </a:lnTo>
                <a:lnTo>
                  <a:pt x="1369" y="1659"/>
                </a:lnTo>
                <a:lnTo>
                  <a:pt x="1351" y="1679"/>
                </a:lnTo>
                <a:lnTo>
                  <a:pt x="1332" y="1698"/>
                </a:lnTo>
                <a:lnTo>
                  <a:pt x="1315" y="1718"/>
                </a:lnTo>
                <a:lnTo>
                  <a:pt x="1297" y="1738"/>
                </a:lnTo>
                <a:lnTo>
                  <a:pt x="1278" y="1757"/>
                </a:lnTo>
                <a:lnTo>
                  <a:pt x="1260" y="1775"/>
                </a:lnTo>
                <a:lnTo>
                  <a:pt x="1242" y="1796"/>
                </a:lnTo>
                <a:lnTo>
                  <a:pt x="1223" y="1814"/>
                </a:lnTo>
                <a:lnTo>
                  <a:pt x="1204" y="1832"/>
                </a:lnTo>
                <a:lnTo>
                  <a:pt x="1187" y="1851"/>
                </a:lnTo>
                <a:lnTo>
                  <a:pt x="1168" y="1870"/>
                </a:lnTo>
                <a:lnTo>
                  <a:pt x="1149" y="1888"/>
                </a:lnTo>
                <a:lnTo>
                  <a:pt x="1131" y="1906"/>
                </a:lnTo>
                <a:lnTo>
                  <a:pt x="1112" y="1924"/>
                </a:lnTo>
                <a:lnTo>
                  <a:pt x="1093" y="1941"/>
                </a:lnTo>
                <a:lnTo>
                  <a:pt x="1075" y="1958"/>
                </a:lnTo>
                <a:lnTo>
                  <a:pt x="1056" y="1976"/>
                </a:lnTo>
                <a:lnTo>
                  <a:pt x="1037" y="1993"/>
                </a:lnTo>
                <a:lnTo>
                  <a:pt x="1018" y="2009"/>
                </a:lnTo>
                <a:lnTo>
                  <a:pt x="1001" y="2025"/>
                </a:lnTo>
                <a:lnTo>
                  <a:pt x="982" y="2042"/>
                </a:lnTo>
                <a:lnTo>
                  <a:pt x="963" y="2057"/>
                </a:lnTo>
                <a:lnTo>
                  <a:pt x="945" y="2073"/>
                </a:lnTo>
                <a:lnTo>
                  <a:pt x="926" y="2088"/>
                </a:lnTo>
                <a:lnTo>
                  <a:pt x="907" y="2104"/>
                </a:lnTo>
                <a:lnTo>
                  <a:pt x="889" y="2118"/>
                </a:lnTo>
                <a:lnTo>
                  <a:pt x="870" y="2133"/>
                </a:lnTo>
                <a:lnTo>
                  <a:pt x="853" y="2147"/>
                </a:lnTo>
                <a:lnTo>
                  <a:pt x="835" y="2161"/>
                </a:lnTo>
                <a:lnTo>
                  <a:pt x="816" y="2175"/>
                </a:lnTo>
                <a:lnTo>
                  <a:pt x="798" y="2189"/>
                </a:lnTo>
                <a:lnTo>
                  <a:pt x="780" y="2202"/>
                </a:lnTo>
                <a:lnTo>
                  <a:pt x="762" y="2214"/>
                </a:lnTo>
                <a:lnTo>
                  <a:pt x="745" y="2226"/>
                </a:lnTo>
                <a:lnTo>
                  <a:pt x="727" y="2239"/>
                </a:lnTo>
                <a:lnTo>
                  <a:pt x="709" y="2251"/>
                </a:lnTo>
                <a:lnTo>
                  <a:pt x="691" y="2263"/>
                </a:lnTo>
                <a:lnTo>
                  <a:pt x="674" y="2274"/>
                </a:lnTo>
                <a:lnTo>
                  <a:pt x="657" y="2285"/>
                </a:lnTo>
                <a:lnTo>
                  <a:pt x="640" y="2295"/>
                </a:lnTo>
                <a:lnTo>
                  <a:pt x="622" y="2305"/>
                </a:lnTo>
                <a:lnTo>
                  <a:pt x="605" y="2315"/>
                </a:lnTo>
                <a:lnTo>
                  <a:pt x="589" y="2325"/>
                </a:lnTo>
                <a:lnTo>
                  <a:pt x="572" y="2334"/>
                </a:lnTo>
                <a:lnTo>
                  <a:pt x="555" y="2344"/>
                </a:lnTo>
                <a:lnTo>
                  <a:pt x="540" y="2352"/>
                </a:lnTo>
                <a:lnTo>
                  <a:pt x="523" y="2361"/>
                </a:lnTo>
                <a:lnTo>
                  <a:pt x="507" y="2369"/>
                </a:lnTo>
                <a:lnTo>
                  <a:pt x="492" y="2377"/>
                </a:lnTo>
                <a:lnTo>
                  <a:pt x="476" y="2383"/>
                </a:lnTo>
                <a:lnTo>
                  <a:pt x="461" y="2390"/>
                </a:lnTo>
                <a:lnTo>
                  <a:pt x="445" y="2397"/>
                </a:lnTo>
                <a:lnTo>
                  <a:pt x="431" y="2403"/>
                </a:lnTo>
                <a:lnTo>
                  <a:pt x="415" y="2409"/>
                </a:lnTo>
                <a:lnTo>
                  <a:pt x="400" y="2415"/>
                </a:lnTo>
                <a:lnTo>
                  <a:pt x="386" y="2419"/>
                </a:lnTo>
                <a:lnTo>
                  <a:pt x="372" y="2425"/>
                </a:lnTo>
                <a:lnTo>
                  <a:pt x="358" y="2429"/>
                </a:lnTo>
                <a:lnTo>
                  <a:pt x="344" y="2432"/>
                </a:lnTo>
                <a:lnTo>
                  <a:pt x="330" y="2436"/>
                </a:lnTo>
                <a:lnTo>
                  <a:pt x="317" y="2439"/>
                </a:lnTo>
                <a:lnTo>
                  <a:pt x="304" y="2442"/>
                </a:lnTo>
                <a:lnTo>
                  <a:pt x="291" y="2445"/>
                </a:lnTo>
                <a:lnTo>
                  <a:pt x="278" y="2447"/>
                </a:lnTo>
                <a:lnTo>
                  <a:pt x="266" y="2449"/>
                </a:lnTo>
                <a:lnTo>
                  <a:pt x="254" y="2450"/>
                </a:lnTo>
                <a:lnTo>
                  <a:pt x="241" y="2451"/>
                </a:lnTo>
                <a:lnTo>
                  <a:pt x="230" y="2451"/>
                </a:lnTo>
                <a:lnTo>
                  <a:pt x="218" y="2452"/>
                </a:lnTo>
                <a:lnTo>
                  <a:pt x="207" y="2451"/>
                </a:lnTo>
                <a:lnTo>
                  <a:pt x="197" y="2451"/>
                </a:lnTo>
                <a:lnTo>
                  <a:pt x="186" y="2450"/>
                </a:lnTo>
                <a:lnTo>
                  <a:pt x="176" y="2449"/>
                </a:lnTo>
                <a:lnTo>
                  <a:pt x="166" y="2448"/>
                </a:lnTo>
                <a:lnTo>
                  <a:pt x="156" y="2446"/>
                </a:lnTo>
                <a:lnTo>
                  <a:pt x="146" y="2443"/>
                </a:lnTo>
                <a:lnTo>
                  <a:pt x="137" y="2440"/>
                </a:lnTo>
                <a:lnTo>
                  <a:pt x="128" y="2437"/>
                </a:lnTo>
                <a:lnTo>
                  <a:pt x="119" y="2433"/>
                </a:lnTo>
                <a:lnTo>
                  <a:pt x="110" y="2430"/>
                </a:lnTo>
                <a:lnTo>
                  <a:pt x="102" y="2426"/>
                </a:lnTo>
                <a:lnTo>
                  <a:pt x="94" y="2421"/>
                </a:lnTo>
                <a:lnTo>
                  <a:pt x="86" y="2416"/>
                </a:lnTo>
                <a:lnTo>
                  <a:pt x="80" y="2411"/>
                </a:lnTo>
                <a:lnTo>
                  <a:pt x="73" y="2406"/>
                </a:lnTo>
                <a:lnTo>
                  <a:pt x="66" y="2399"/>
                </a:lnTo>
                <a:lnTo>
                  <a:pt x="60" y="2392"/>
                </a:lnTo>
                <a:lnTo>
                  <a:pt x="54" y="2386"/>
                </a:lnTo>
                <a:lnTo>
                  <a:pt x="48" y="2379"/>
                </a:lnTo>
                <a:lnTo>
                  <a:pt x="43" y="2371"/>
                </a:lnTo>
                <a:lnTo>
                  <a:pt x="38" y="2363"/>
                </a:lnTo>
                <a:lnTo>
                  <a:pt x="33" y="2356"/>
                </a:lnTo>
                <a:lnTo>
                  <a:pt x="29" y="2347"/>
                </a:lnTo>
                <a:lnTo>
                  <a:pt x="24" y="2338"/>
                </a:lnTo>
                <a:lnTo>
                  <a:pt x="21" y="2329"/>
                </a:lnTo>
                <a:lnTo>
                  <a:pt x="16" y="2319"/>
                </a:lnTo>
                <a:lnTo>
                  <a:pt x="14" y="2309"/>
                </a:lnTo>
                <a:lnTo>
                  <a:pt x="11" y="2299"/>
                </a:lnTo>
                <a:lnTo>
                  <a:pt x="9" y="2289"/>
                </a:lnTo>
                <a:lnTo>
                  <a:pt x="6" y="2278"/>
                </a:lnTo>
                <a:lnTo>
                  <a:pt x="4" y="2266"/>
                </a:lnTo>
                <a:lnTo>
                  <a:pt x="3" y="2255"/>
                </a:lnTo>
                <a:lnTo>
                  <a:pt x="2" y="2243"/>
                </a:lnTo>
                <a:lnTo>
                  <a:pt x="1" y="2231"/>
                </a:lnTo>
                <a:lnTo>
                  <a:pt x="0" y="2219"/>
                </a:lnTo>
                <a:lnTo>
                  <a:pt x="0" y="2206"/>
                </a:lnTo>
                <a:lnTo>
                  <a:pt x="0" y="2193"/>
                </a:lnTo>
                <a:lnTo>
                  <a:pt x="0" y="2180"/>
                </a:lnTo>
                <a:lnTo>
                  <a:pt x="1" y="2166"/>
                </a:lnTo>
                <a:lnTo>
                  <a:pt x="2" y="2152"/>
                </a:lnTo>
                <a:lnTo>
                  <a:pt x="3" y="2137"/>
                </a:lnTo>
                <a:lnTo>
                  <a:pt x="5" y="2123"/>
                </a:lnTo>
                <a:lnTo>
                  <a:pt x="7" y="2108"/>
                </a:lnTo>
                <a:lnTo>
                  <a:pt x="10" y="2094"/>
                </a:lnTo>
                <a:lnTo>
                  <a:pt x="12" y="2078"/>
                </a:lnTo>
                <a:lnTo>
                  <a:pt x="15" y="2063"/>
                </a:lnTo>
                <a:lnTo>
                  <a:pt x="19" y="2047"/>
                </a:lnTo>
                <a:lnTo>
                  <a:pt x="22" y="2030"/>
                </a:lnTo>
                <a:lnTo>
                  <a:pt x="26" y="2015"/>
                </a:lnTo>
                <a:lnTo>
                  <a:pt x="31" y="1998"/>
                </a:lnTo>
                <a:lnTo>
                  <a:pt x="35" y="1981"/>
                </a:lnTo>
                <a:lnTo>
                  <a:pt x="40" y="1964"/>
                </a:lnTo>
                <a:lnTo>
                  <a:pt x="45" y="1947"/>
                </a:lnTo>
                <a:lnTo>
                  <a:pt x="51" y="1929"/>
                </a:lnTo>
                <a:lnTo>
                  <a:pt x="56" y="1911"/>
                </a:lnTo>
                <a:lnTo>
                  <a:pt x="63" y="1893"/>
                </a:lnTo>
                <a:lnTo>
                  <a:pt x="69" y="1876"/>
                </a:lnTo>
                <a:lnTo>
                  <a:pt x="75" y="1858"/>
                </a:lnTo>
                <a:lnTo>
                  <a:pt x="83" y="1839"/>
                </a:lnTo>
                <a:lnTo>
                  <a:pt x="90" y="1820"/>
                </a:lnTo>
                <a:lnTo>
                  <a:pt x="98" y="1801"/>
                </a:lnTo>
                <a:lnTo>
                  <a:pt x="105" y="1782"/>
                </a:lnTo>
                <a:lnTo>
                  <a:pt x="114" y="1763"/>
                </a:lnTo>
                <a:lnTo>
                  <a:pt x="123" y="1744"/>
                </a:lnTo>
                <a:lnTo>
                  <a:pt x="131" y="1724"/>
                </a:lnTo>
                <a:lnTo>
                  <a:pt x="141" y="1704"/>
                </a:lnTo>
                <a:lnTo>
                  <a:pt x="150" y="1685"/>
                </a:lnTo>
                <a:lnTo>
                  <a:pt x="160" y="1665"/>
                </a:lnTo>
                <a:lnTo>
                  <a:pt x="170" y="1645"/>
                </a:lnTo>
                <a:lnTo>
                  <a:pt x="180" y="1624"/>
                </a:lnTo>
                <a:lnTo>
                  <a:pt x="190" y="1604"/>
                </a:lnTo>
                <a:lnTo>
                  <a:pt x="201" y="1584"/>
                </a:lnTo>
                <a:lnTo>
                  <a:pt x="212" y="1563"/>
                </a:lnTo>
                <a:lnTo>
                  <a:pt x="223" y="1543"/>
                </a:lnTo>
                <a:lnTo>
                  <a:pt x="236" y="1522"/>
                </a:lnTo>
                <a:lnTo>
                  <a:pt x="247" y="1501"/>
                </a:lnTo>
                <a:lnTo>
                  <a:pt x="259" y="1479"/>
                </a:lnTo>
                <a:lnTo>
                  <a:pt x="271" y="1459"/>
                </a:lnTo>
                <a:lnTo>
                  <a:pt x="284" y="1438"/>
                </a:lnTo>
                <a:lnTo>
                  <a:pt x="297" y="1417"/>
                </a:lnTo>
                <a:lnTo>
                  <a:pt x="310" y="1396"/>
                </a:lnTo>
                <a:lnTo>
                  <a:pt x="323" y="1374"/>
                </a:lnTo>
                <a:lnTo>
                  <a:pt x="337" y="1352"/>
                </a:lnTo>
                <a:lnTo>
                  <a:pt x="350" y="1331"/>
                </a:lnTo>
                <a:lnTo>
                  <a:pt x="364" y="1310"/>
                </a:lnTo>
                <a:lnTo>
                  <a:pt x="378" y="1289"/>
                </a:lnTo>
                <a:lnTo>
                  <a:pt x="393" y="1267"/>
                </a:lnTo>
                <a:lnTo>
                  <a:pt x="407" y="1246"/>
                </a:lnTo>
                <a:lnTo>
                  <a:pt x="422" y="1224"/>
                </a:lnTo>
                <a:lnTo>
                  <a:pt x="437" y="1203"/>
                </a:lnTo>
                <a:lnTo>
                  <a:pt x="452" y="1181"/>
                </a:lnTo>
                <a:lnTo>
                  <a:pt x="467" y="1160"/>
                </a:lnTo>
                <a:lnTo>
                  <a:pt x="483" y="1139"/>
                </a:lnTo>
                <a:lnTo>
                  <a:pt x="498" y="1118"/>
                </a:lnTo>
                <a:lnTo>
                  <a:pt x="515" y="1096"/>
                </a:lnTo>
                <a:lnTo>
                  <a:pt x="531" y="1074"/>
                </a:lnTo>
                <a:lnTo>
                  <a:pt x="547" y="1053"/>
                </a:lnTo>
                <a:lnTo>
                  <a:pt x="563" y="1032"/>
                </a:lnTo>
                <a:lnTo>
                  <a:pt x="580" y="1011"/>
                </a:lnTo>
                <a:lnTo>
                  <a:pt x="596" y="990"/>
                </a:lnTo>
                <a:lnTo>
                  <a:pt x="613" y="968"/>
                </a:lnTo>
                <a:lnTo>
                  <a:pt x="630" y="948"/>
                </a:lnTo>
                <a:lnTo>
                  <a:pt x="648" y="927"/>
                </a:lnTo>
                <a:lnTo>
                  <a:pt x="664" y="906"/>
                </a:lnTo>
                <a:lnTo>
                  <a:pt x="682" y="886"/>
                </a:lnTo>
                <a:lnTo>
                  <a:pt x="699" y="865"/>
                </a:lnTo>
                <a:lnTo>
                  <a:pt x="717" y="845"/>
                </a:lnTo>
                <a:lnTo>
                  <a:pt x="735" y="825"/>
                </a:lnTo>
                <a:lnTo>
                  <a:pt x="752" y="804"/>
                </a:lnTo>
                <a:lnTo>
                  <a:pt x="770" y="784"/>
                </a:lnTo>
                <a:lnTo>
                  <a:pt x="788" y="764"/>
                </a:lnTo>
                <a:lnTo>
                  <a:pt x="806" y="745"/>
                </a:lnTo>
                <a:lnTo>
                  <a:pt x="825" y="725"/>
                </a:lnTo>
                <a:lnTo>
                  <a:pt x="843" y="706"/>
                </a:lnTo>
                <a:lnTo>
                  <a:pt x="860" y="686"/>
                </a:lnTo>
                <a:lnTo>
                  <a:pt x="879" y="667"/>
                </a:lnTo>
                <a:lnTo>
                  <a:pt x="897" y="648"/>
                </a:lnTo>
                <a:lnTo>
                  <a:pt x="916" y="629"/>
                </a:lnTo>
                <a:lnTo>
                  <a:pt x="935" y="610"/>
                </a:lnTo>
                <a:lnTo>
                  <a:pt x="953" y="592"/>
                </a:lnTo>
                <a:lnTo>
                  <a:pt x="972" y="573"/>
                </a:lnTo>
                <a:lnTo>
                  <a:pt x="991" y="555"/>
                </a:lnTo>
                <a:lnTo>
                  <a:pt x="1008" y="538"/>
                </a:lnTo>
                <a:lnTo>
                  <a:pt x="1027" y="520"/>
                </a:lnTo>
                <a:lnTo>
                  <a:pt x="1046" y="502"/>
                </a:lnTo>
                <a:lnTo>
                  <a:pt x="1065" y="485"/>
                </a:lnTo>
                <a:lnTo>
                  <a:pt x="1083" y="468"/>
                </a:lnTo>
                <a:lnTo>
                  <a:pt x="1102" y="452"/>
                </a:lnTo>
                <a:lnTo>
                  <a:pt x="1121" y="435"/>
                </a:lnTo>
                <a:lnTo>
                  <a:pt x="1139" y="418"/>
                </a:lnTo>
                <a:lnTo>
                  <a:pt x="1158" y="403"/>
                </a:lnTo>
                <a:lnTo>
                  <a:pt x="1177" y="387"/>
                </a:lnTo>
                <a:lnTo>
                  <a:pt x="1194" y="372"/>
                </a:lnTo>
                <a:lnTo>
                  <a:pt x="1213" y="356"/>
                </a:lnTo>
                <a:lnTo>
                  <a:pt x="1232" y="342"/>
                </a:lnTo>
                <a:lnTo>
                  <a:pt x="1250" y="326"/>
                </a:lnTo>
                <a:lnTo>
                  <a:pt x="1269" y="312"/>
                </a:lnTo>
                <a:lnTo>
                  <a:pt x="1287" y="298"/>
                </a:lnTo>
                <a:lnTo>
                  <a:pt x="1305" y="284"/>
                </a:lnTo>
                <a:lnTo>
                  <a:pt x="1324" y="270"/>
                </a:lnTo>
                <a:lnTo>
                  <a:pt x="1341" y="257"/>
                </a:lnTo>
                <a:lnTo>
                  <a:pt x="1359" y="245"/>
                </a:lnTo>
                <a:lnTo>
                  <a:pt x="1377" y="231"/>
                </a:lnTo>
                <a:lnTo>
                  <a:pt x="1395" y="219"/>
                </a:lnTo>
                <a:lnTo>
                  <a:pt x="1413" y="207"/>
                </a:lnTo>
                <a:lnTo>
                  <a:pt x="1430" y="196"/>
                </a:lnTo>
                <a:lnTo>
                  <a:pt x="1447" y="183"/>
                </a:lnTo>
                <a:lnTo>
                  <a:pt x="1465" y="172"/>
                </a:lnTo>
                <a:lnTo>
                  <a:pt x="1482" y="162"/>
                </a:lnTo>
                <a:lnTo>
                  <a:pt x="1499" y="151"/>
                </a:lnTo>
                <a:lnTo>
                  <a:pt x="1516" y="141"/>
                </a:lnTo>
                <a:lnTo>
                  <a:pt x="1533" y="131"/>
                </a:lnTo>
                <a:lnTo>
                  <a:pt x="1550" y="122"/>
                </a:lnTo>
                <a:lnTo>
                  <a:pt x="1566" y="112"/>
                </a:lnTo>
                <a:lnTo>
                  <a:pt x="1583" y="104"/>
                </a:lnTo>
                <a:lnTo>
                  <a:pt x="1599" y="96"/>
                </a:lnTo>
                <a:lnTo>
                  <a:pt x="1615" y="88"/>
                </a:lnTo>
                <a:lnTo>
                  <a:pt x="1631" y="80"/>
                </a:lnTo>
                <a:lnTo>
                  <a:pt x="1646" y="72"/>
                </a:lnTo>
                <a:lnTo>
                  <a:pt x="1662" y="65"/>
                </a:lnTo>
                <a:lnTo>
                  <a:pt x="1678" y="59"/>
                </a:lnTo>
                <a:lnTo>
                  <a:pt x="1692" y="52"/>
                </a:lnTo>
                <a:lnTo>
                  <a:pt x="1708" y="47"/>
                </a:lnTo>
                <a:lnTo>
                  <a:pt x="1722" y="41"/>
                </a:lnTo>
                <a:lnTo>
                  <a:pt x="1737" y="35"/>
                </a:lnTo>
                <a:lnTo>
                  <a:pt x="1751" y="30"/>
                </a:lnTo>
                <a:lnTo>
                  <a:pt x="1766" y="25"/>
                </a:lnTo>
                <a:lnTo>
                  <a:pt x="1779" y="22"/>
                </a:lnTo>
                <a:lnTo>
                  <a:pt x="1793" y="18"/>
                </a:lnTo>
                <a:lnTo>
                  <a:pt x="1807" y="14"/>
                </a:lnTo>
                <a:lnTo>
                  <a:pt x="1820" y="11"/>
                </a:lnTo>
                <a:lnTo>
                  <a:pt x="1832" y="9"/>
                </a:lnTo>
                <a:lnTo>
                  <a:pt x="1846" y="6"/>
                </a:lnTo>
                <a:lnTo>
                  <a:pt x="1858" y="4"/>
                </a:lnTo>
                <a:lnTo>
                  <a:pt x="1870" y="3"/>
                </a:lnTo>
                <a:lnTo>
                  <a:pt x="1882" y="2"/>
                </a:lnTo>
                <a:lnTo>
                  <a:pt x="1895" y="1"/>
                </a:lnTo>
                <a:lnTo>
                  <a:pt x="1906" y="1"/>
                </a:lnTo>
                <a:lnTo>
                  <a:pt x="1917" y="0"/>
                </a:lnTo>
                <a:lnTo>
                  <a:pt x="1928" y="1"/>
                </a:lnTo>
                <a:lnTo>
                  <a:pt x="1939" y="1"/>
                </a:lnTo>
                <a:lnTo>
                  <a:pt x="1949" y="2"/>
                </a:lnTo>
                <a:lnTo>
                  <a:pt x="1960" y="4"/>
                </a:lnTo>
                <a:lnTo>
                  <a:pt x="1970" y="5"/>
                </a:lnTo>
                <a:lnTo>
                  <a:pt x="1979" y="8"/>
                </a:lnTo>
                <a:lnTo>
                  <a:pt x="1989" y="11"/>
                </a:lnTo>
                <a:lnTo>
                  <a:pt x="1998" y="13"/>
                </a:lnTo>
                <a:lnTo>
                  <a:pt x="2007" y="16"/>
                </a:lnTo>
                <a:lnTo>
                  <a:pt x="2016" y="20"/>
                </a:lnTo>
                <a:lnTo>
                  <a:pt x="2024" y="24"/>
                </a:lnTo>
                <a:lnTo>
                  <a:pt x="2032" y="29"/>
                </a:lnTo>
                <a:lnTo>
                  <a:pt x="2039" y="33"/>
                </a:lnTo>
                <a:lnTo>
                  <a:pt x="2047" y="39"/>
                </a:lnTo>
                <a:lnTo>
                  <a:pt x="2054" y="44"/>
                </a:lnTo>
                <a:lnTo>
                  <a:pt x="2061" y="50"/>
                </a:lnTo>
                <a:lnTo>
                  <a:pt x="2067" y="57"/>
                </a:lnTo>
                <a:lnTo>
                  <a:pt x="2074" y="63"/>
                </a:lnTo>
                <a:lnTo>
                  <a:pt x="2080" y="70"/>
                </a:lnTo>
                <a:lnTo>
                  <a:pt x="2085" y="77"/>
                </a:lnTo>
                <a:lnTo>
                  <a:pt x="2090" y="84"/>
                </a:lnTo>
                <a:lnTo>
                  <a:pt x="2095" y="92"/>
                </a:lnTo>
                <a:lnTo>
                  <a:pt x="2100" y="101"/>
                </a:lnTo>
                <a:lnTo>
                  <a:pt x="2104" y="110"/>
                </a:lnTo>
                <a:lnTo>
                  <a:pt x="2107" y="119"/>
                </a:lnTo>
                <a:lnTo>
                  <a:pt x="2112" y="128"/>
                </a:lnTo>
                <a:lnTo>
                  <a:pt x="2115" y="138"/>
                </a:lnTo>
                <a:lnTo>
                  <a:pt x="2117" y="148"/>
                </a:lnTo>
                <a:lnTo>
                  <a:pt x="2121" y="158"/>
                </a:lnTo>
                <a:lnTo>
                  <a:pt x="2123" y="169"/>
                </a:lnTo>
                <a:lnTo>
                  <a:pt x="2125" y="180"/>
                </a:lnTo>
                <a:lnTo>
                  <a:pt x="2126" y="191"/>
                </a:lnTo>
                <a:lnTo>
                  <a:pt x="2129" y="204"/>
                </a:lnTo>
                <a:lnTo>
                  <a:pt x="2130" y="215"/>
                </a:lnTo>
                <a:lnTo>
                  <a:pt x="2130" y="227"/>
                </a:lnTo>
                <a:lnTo>
                  <a:pt x="2131" y="240"/>
                </a:lnTo>
                <a:lnTo>
                  <a:pt x="2131" y="253"/>
                </a:lnTo>
                <a:lnTo>
                  <a:pt x="2130" y="266"/>
                </a:lnTo>
                <a:lnTo>
                  <a:pt x="2130" y="279"/>
                </a:lnTo>
                <a:lnTo>
                  <a:pt x="2129" y="294"/>
                </a:lnTo>
                <a:lnTo>
                  <a:pt x="2127" y="307"/>
                </a:lnTo>
                <a:lnTo>
                  <a:pt x="2126" y="322"/>
                </a:lnTo>
                <a:lnTo>
                  <a:pt x="2124" y="336"/>
                </a:lnTo>
                <a:lnTo>
                  <a:pt x="2122" y="352"/>
                </a:lnTo>
                <a:lnTo>
                  <a:pt x="2120" y="366"/>
                </a:lnTo>
                <a:lnTo>
                  <a:pt x="2116" y="382"/>
                </a:lnTo>
                <a:lnTo>
                  <a:pt x="2113" y="397"/>
                </a:lnTo>
                <a:lnTo>
                  <a:pt x="2110" y="413"/>
                </a:lnTo>
                <a:lnTo>
                  <a:pt x="2106" y="430"/>
                </a:lnTo>
                <a:lnTo>
                  <a:pt x="2102" y="446"/>
                </a:lnTo>
                <a:lnTo>
                  <a:pt x="2097" y="463"/>
                </a:lnTo>
                <a:lnTo>
                  <a:pt x="2093" y="480"/>
                </a:lnTo>
                <a:lnTo>
                  <a:pt x="2087" y="496"/>
                </a:lnTo>
                <a:lnTo>
                  <a:pt x="2083" y="514"/>
                </a:lnTo>
                <a:lnTo>
                  <a:pt x="2076" y="532"/>
                </a:lnTo>
                <a:lnTo>
                  <a:pt x="2071" y="550"/>
                </a:lnTo>
                <a:lnTo>
                  <a:pt x="2064" y="568"/>
                </a:lnTo>
                <a:lnTo>
                  <a:pt x="2057" y="585"/>
                </a:lnTo>
                <a:lnTo>
                  <a:pt x="2051" y="604"/>
                </a:lnTo>
                <a:lnTo>
                  <a:pt x="2044" y="622"/>
                </a:lnTo>
                <a:lnTo>
                  <a:pt x="2036" y="641"/>
                </a:lnTo>
                <a:lnTo>
                  <a:pt x="2028" y="660"/>
                </a:lnTo>
                <a:lnTo>
                  <a:pt x="2021" y="679"/>
                </a:lnTo>
                <a:lnTo>
                  <a:pt x="2012" y="699"/>
                </a:lnTo>
                <a:lnTo>
                  <a:pt x="2003" y="718"/>
                </a:lnTo>
                <a:lnTo>
                  <a:pt x="1994" y="738"/>
                </a:lnTo>
                <a:lnTo>
                  <a:pt x="1985" y="757"/>
                </a:lnTo>
                <a:lnTo>
                  <a:pt x="1975" y="777"/>
                </a:lnTo>
                <a:lnTo>
                  <a:pt x="1965" y="797"/>
                </a:lnTo>
                <a:lnTo>
                  <a:pt x="1955" y="817"/>
                </a:lnTo>
                <a:lnTo>
                  <a:pt x="1945" y="838"/>
                </a:lnTo>
                <a:lnTo>
                  <a:pt x="1935" y="858"/>
                </a:lnTo>
                <a:lnTo>
                  <a:pt x="1924" y="878"/>
                </a:lnTo>
                <a:lnTo>
                  <a:pt x="1913" y="899"/>
                </a:lnTo>
                <a:lnTo>
                  <a:pt x="1900" y="920"/>
                </a:lnTo>
                <a:lnTo>
                  <a:pt x="1889" y="941"/>
                </a:lnTo>
                <a:lnTo>
                  <a:pt x="1877" y="962"/>
                </a:lnTo>
                <a:lnTo>
                  <a:pt x="1865" y="983"/>
                </a:lnTo>
                <a:lnTo>
                  <a:pt x="1852" y="1004"/>
                </a:lnTo>
                <a:lnTo>
                  <a:pt x="1840" y="1025"/>
                </a:lnTo>
                <a:lnTo>
                  <a:pt x="1827" y="1046"/>
                </a:lnTo>
                <a:lnTo>
                  <a:pt x="1813" y="1067"/>
                </a:lnTo>
                <a:lnTo>
                  <a:pt x="1800" y="1089"/>
                </a:lnTo>
                <a:lnTo>
                  <a:pt x="1787" y="1110"/>
                </a:lnTo>
                <a:lnTo>
                  <a:pt x="1773" y="1131"/>
                </a:lnTo>
                <a:lnTo>
                  <a:pt x="1759" y="1153"/>
                </a:lnTo>
                <a:lnTo>
                  <a:pt x="1744" y="1174"/>
                </a:lnTo>
                <a:lnTo>
                  <a:pt x="1730" y="1195"/>
                </a:lnTo>
                <a:lnTo>
                  <a:pt x="1715" y="1217"/>
                </a:lnTo>
                <a:lnTo>
                  <a:pt x="1701" y="1239"/>
                </a:lnTo>
                <a:lnTo>
                  <a:pt x="1685" y="1260"/>
                </a:lnTo>
                <a:lnTo>
                  <a:pt x="1670" y="1281"/>
                </a:lnTo>
                <a:lnTo>
                  <a:pt x="1655" y="1302"/>
                </a:lnTo>
                <a:lnTo>
                  <a:pt x="1640" y="1325"/>
                </a:lnTo>
                <a:lnTo>
                  <a:pt x="1623" y="1346"/>
                </a:lnTo>
                <a:lnTo>
                  <a:pt x="1607" y="1367"/>
                </a:lnTo>
                <a:lnTo>
                  <a:pt x="1592" y="1388"/>
                </a:lnTo>
                <a:lnTo>
                  <a:pt x="1575" y="1409"/>
                </a:lnTo>
                <a:lnTo>
                  <a:pt x="1558" y="1430"/>
                </a:lnTo>
                <a:lnTo>
                  <a:pt x="1542" y="1452"/>
                </a:lnTo>
                <a:lnTo>
                  <a:pt x="1525" y="1473"/>
                </a:lnTo>
                <a:lnTo>
                  <a:pt x="1508" y="1494"/>
                </a:lnTo>
                <a:lnTo>
                  <a:pt x="1492" y="1515"/>
                </a:lnTo>
                <a:lnTo>
                  <a:pt x="1474" y="1535"/>
                </a:lnTo>
                <a:lnTo>
                  <a:pt x="1457" y="1556"/>
                </a:lnTo>
                <a:close/>
              </a:path>
            </a:pathLst>
          </a:custGeom>
          <a:solidFill>
            <a:srgbClr val="b2b2b2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882800" y="4235400"/>
            <a:ext cx="2749680" cy="7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94320" y="4216320"/>
            <a:ext cx="74520" cy="38160"/>
          </a:xfrm>
          <a:custGeom>
            <a:avLst/>
            <a:gdLst/>
            <a:ahLst/>
            <a:rect l="l" t="t" r="r" b="b"/>
            <a:pathLst>
              <a:path w="309" h="155">
                <a:moveTo>
                  <a:pt x="0" y="0"/>
                </a:moveTo>
                <a:lnTo>
                  <a:pt x="309" y="77"/>
                </a:lnTo>
                <a:lnTo>
                  <a:pt x="0" y="15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82800" y="2469960"/>
            <a:ext cx="1571760" cy="17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13160" y="2468520"/>
            <a:ext cx="44280" cy="44640"/>
          </a:xfrm>
          <a:custGeom>
            <a:avLst/>
            <a:gdLst/>
            <a:ahLst/>
            <a:rect l="l" t="t" r="r" b="b"/>
            <a:pathLst>
              <a:path w="175" h="187">
                <a:moveTo>
                  <a:pt x="0" y="118"/>
                </a:moveTo>
                <a:lnTo>
                  <a:pt x="175" y="0"/>
                </a:lnTo>
                <a:lnTo>
                  <a:pt x="76" y="187"/>
                </a:lnTo>
                <a:lnTo>
                  <a:pt x="66" y="123"/>
                </a:lnTo>
                <a:lnTo>
                  <a:pt x="0" y="118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1874880" y="1724040"/>
            <a:ext cx="7920" cy="2519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55800" y="1700280"/>
            <a:ext cx="38160" cy="74520"/>
          </a:xfrm>
          <a:custGeom>
            <a:avLst/>
            <a:gdLst/>
            <a:ahLst/>
            <a:rect l="l" t="t" r="r" b="b"/>
            <a:pathLst>
              <a:path w="155" h="308">
                <a:moveTo>
                  <a:pt x="0" y="308"/>
                </a:moveTo>
                <a:lnTo>
                  <a:pt x="78" y="0"/>
                </a:lnTo>
                <a:lnTo>
                  <a:pt x="155" y="308"/>
                </a:lnTo>
                <a:lnTo>
                  <a:pt x="0" y="308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11440" y="3949560"/>
            <a:ext cx="622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04840" y="1666800"/>
            <a:ext cx="1530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6640" y="4294080"/>
            <a:ext cx="162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05720" y="3749760"/>
            <a:ext cx="50976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5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5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5520" y="4314960"/>
            <a:ext cx="57528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5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684440" y="3930480"/>
            <a:ext cx="473040" cy="473040"/>
            <a:chOff x="1684440" y="3930480"/>
            <a:chExt cx="473040" cy="473040"/>
          </a:xfrm>
        </p:grpSpPr>
        <p:sp>
          <p:nvSpPr>
            <p:cNvPr id="299" name=""/>
            <p:cNvSpPr/>
            <p:nvPr/>
          </p:nvSpPr>
          <p:spPr>
            <a:xfrm>
              <a:off x="1697040" y="3941640"/>
              <a:ext cx="460440" cy="461880"/>
            </a:xfrm>
            <a:custGeom>
              <a:avLst/>
              <a:gdLst/>
              <a:ahLst/>
              <a:rect l="l" t="t" r="r" b="b"/>
              <a:pathLst>
                <a:path w="1876" h="1875">
                  <a:moveTo>
                    <a:pt x="15" y="778"/>
                  </a:moveTo>
                  <a:lnTo>
                    <a:pt x="11" y="794"/>
                  </a:lnTo>
                  <a:lnTo>
                    <a:pt x="9" y="810"/>
                  </a:lnTo>
                  <a:lnTo>
                    <a:pt x="7" y="827"/>
                  </a:lnTo>
                  <a:lnTo>
                    <a:pt x="6" y="842"/>
                  </a:lnTo>
                  <a:lnTo>
                    <a:pt x="3" y="859"/>
                  </a:lnTo>
                  <a:lnTo>
                    <a:pt x="2" y="876"/>
                  </a:lnTo>
                  <a:lnTo>
                    <a:pt x="1" y="891"/>
                  </a:lnTo>
                  <a:lnTo>
                    <a:pt x="1" y="908"/>
                  </a:lnTo>
                  <a:lnTo>
                    <a:pt x="0" y="925"/>
                  </a:lnTo>
                  <a:lnTo>
                    <a:pt x="0" y="940"/>
                  </a:lnTo>
                  <a:lnTo>
                    <a:pt x="0" y="957"/>
                  </a:lnTo>
                  <a:lnTo>
                    <a:pt x="1" y="974"/>
                  </a:lnTo>
                  <a:lnTo>
                    <a:pt x="1" y="989"/>
                  </a:lnTo>
                  <a:lnTo>
                    <a:pt x="2" y="1006"/>
                  </a:lnTo>
                  <a:lnTo>
                    <a:pt x="5" y="1022"/>
                  </a:lnTo>
                  <a:lnTo>
                    <a:pt x="6" y="1038"/>
                  </a:lnTo>
                  <a:lnTo>
                    <a:pt x="8" y="1055"/>
                  </a:lnTo>
                  <a:lnTo>
                    <a:pt x="10" y="1070"/>
                  </a:lnTo>
                  <a:lnTo>
                    <a:pt x="12" y="1087"/>
                  </a:lnTo>
                  <a:lnTo>
                    <a:pt x="15" y="1103"/>
                  </a:lnTo>
                  <a:lnTo>
                    <a:pt x="18" y="1119"/>
                  </a:lnTo>
                  <a:lnTo>
                    <a:pt x="21" y="1135"/>
                  </a:lnTo>
                  <a:lnTo>
                    <a:pt x="25" y="1151"/>
                  </a:lnTo>
                  <a:lnTo>
                    <a:pt x="29" y="1167"/>
                  </a:lnTo>
                  <a:lnTo>
                    <a:pt x="32" y="1183"/>
                  </a:lnTo>
                  <a:lnTo>
                    <a:pt x="37" y="1198"/>
                  </a:lnTo>
                  <a:lnTo>
                    <a:pt x="42" y="1214"/>
                  </a:lnTo>
                  <a:lnTo>
                    <a:pt x="47" y="1230"/>
                  </a:lnTo>
                  <a:lnTo>
                    <a:pt x="52" y="1245"/>
                  </a:lnTo>
                  <a:lnTo>
                    <a:pt x="58" y="1261"/>
                  </a:lnTo>
                  <a:lnTo>
                    <a:pt x="64" y="1275"/>
                  </a:lnTo>
                  <a:lnTo>
                    <a:pt x="69" y="1291"/>
                  </a:lnTo>
                  <a:lnTo>
                    <a:pt x="76" y="1306"/>
                  </a:lnTo>
                  <a:lnTo>
                    <a:pt x="82" y="1321"/>
                  </a:lnTo>
                  <a:lnTo>
                    <a:pt x="89" y="1335"/>
                  </a:lnTo>
                  <a:lnTo>
                    <a:pt x="96" y="1351"/>
                  </a:lnTo>
                  <a:lnTo>
                    <a:pt x="104" y="1365"/>
                  </a:lnTo>
                  <a:lnTo>
                    <a:pt x="111" y="1380"/>
                  </a:lnTo>
                  <a:lnTo>
                    <a:pt x="119" y="1394"/>
                  </a:lnTo>
                  <a:lnTo>
                    <a:pt x="127" y="1408"/>
                  </a:lnTo>
                  <a:lnTo>
                    <a:pt x="135" y="1422"/>
                  </a:lnTo>
                  <a:lnTo>
                    <a:pt x="144" y="1437"/>
                  </a:lnTo>
                  <a:lnTo>
                    <a:pt x="153" y="1450"/>
                  </a:lnTo>
                  <a:lnTo>
                    <a:pt x="162" y="1463"/>
                  </a:lnTo>
                  <a:lnTo>
                    <a:pt x="170" y="1477"/>
                  </a:lnTo>
                  <a:lnTo>
                    <a:pt x="180" y="1490"/>
                  </a:lnTo>
                  <a:lnTo>
                    <a:pt x="191" y="1503"/>
                  </a:lnTo>
                  <a:lnTo>
                    <a:pt x="201" y="1517"/>
                  </a:lnTo>
                  <a:lnTo>
                    <a:pt x="211" y="1529"/>
                  </a:lnTo>
                  <a:lnTo>
                    <a:pt x="221" y="1541"/>
                  </a:lnTo>
                  <a:lnTo>
                    <a:pt x="232" y="1554"/>
                  </a:lnTo>
                  <a:lnTo>
                    <a:pt x="243" y="1566"/>
                  </a:lnTo>
                  <a:lnTo>
                    <a:pt x="254" y="1578"/>
                  </a:lnTo>
                  <a:lnTo>
                    <a:pt x="265" y="1590"/>
                  </a:lnTo>
                  <a:lnTo>
                    <a:pt x="276" y="1601"/>
                  </a:lnTo>
                  <a:lnTo>
                    <a:pt x="287" y="1614"/>
                  </a:lnTo>
                  <a:lnTo>
                    <a:pt x="300" y="1625"/>
                  </a:lnTo>
                  <a:lnTo>
                    <a:pt x="312" y="1636"/>
                  </a:lnTo>
                  <a:lnTo>
                    <a:pt x="324" y="1646"/>
                  </a:lnTo>
                  <a:lnTo>
                    <a:pt x="336" y="1657"/>
                  </a:lnTo>
                  <a:lnTo>
                    <a:pt x="349" y="1667"/>
                  </a:lnTo>
                  <a:lnTo>
                    <a:pt x="362" y="1677"/>
                  </a:lnTo>
                  <a:lnTo>
                    <a:pt x="375" y="1687"/>
                  </a:lnTo>
                  <a:lnTo>
                    <a:pt x="388" y="1697"/>
                  </a:lnTo>
                  <a:lnTo>
                    <a:pt x="401" y="1706"/>
                  </a:lnTo>
                  <a:lnTo>
                    <a:pt x="414" y="1716"/>
                  </a:lnTo>
                  <a:lnTo>
                    <a:pt x="429" y="1725"/>
                  </a:lnTo>
                  <a:lnTo>
                    <a:pt x="442" y="1734"/>
                  </a:lnTo>
                  <a:lnTo>
                    <a:pt x="457" y="1742"/>
                  </a:lnTo>
                  <a:lnTo>
                    <a:pt x="470" y="1751"/>
                  </a:lnTo>
                  <a:lnTo>
                    <a:pt x="484" y="1758"/>
                  </a:lnTo>
                  <a:lnTo>
                    <a:pt x="499" y="1766"/>
                  </a:lnTo>
                  <a:lnTo>
                    <a:pt x="513" y="1774"/>
                  </a:lnTo>
                  <a:lnTo>
                    <a:pt x="528" y="1781"/>
                  </a:lnTo>
                  <a:lnTo>
                    <a:pt x="542" y="1787"/>
                  </a:lnTo>
                  <a:lnTo>
                    <a:pt x="558" y="1795"/>
                  </a:lnTo>
                  <a:lnTo>
                    <a:pt x="572" y="1801"/>
                  </a:lnTo>
                  <a:lnTo>
                    <a:pt x="588" y="1807"/>
                  </a:lnTo>
                  <a:lnTo>
                    <a:pt x="602" y="1813"/>
                  </a:lnTo>
                  <a:lnTo>
                    <a:pt x="618" y="1818"/>
                  </a:lnTo>
                  <a:lnTo>
                    <a:pt x="634" y="1824"/>
                  </a:lnTo>
                  <a:lnTo>
                    <a:pt x="649" y="1830"/>
                  </a:lnTo>
                  <a:lnTo>
                    <a:pt x="665" y="1834"/>
                  </a:lnTo>
                  <a:lnTo>
                    <a:pt x="680" y="1840"/>
                  </a:lnTo>
                  <a:lnTo>
                    <a:pt x="696" y="1843"/>
                  </a:lnTo>
                  <a:lnTo>
                    <a:pt x="712" y="1847"/>
                  </a:lnTo>
                  <a:lnTo>
                    <a:pt x="728" y="1852"/>
                  </a:lnTo>
                  <a:lnTo>
                    <a:pt x="744" y="1855"/>
                  </a:lnTo>
                  <a:lnTo>
                    <a:pt x="759" y="1859"/>
                  </a:lnTo>
                  <a:lnTo>
                    <a:pt x="776" y="1861"/>
                  </a:lnTo>
                  <a:lnTo>
                    <a:pt x="792" y="1864"/>
                  </a:lnTo>
                  <a:lnTo>
                    <a:pt x="808" y="1866"/>
                  </a:lnTo>
                  <a:lnTo>
                    <a:pt x="824" y="1869"/>
                  </a:lnTo>
                  <a:lnTo>
                    <a:pt x="841" y="1870"/>
                  </a:lnTo>
                  <a:lnTo>
                    <a:pt x="857" y="1872"/>
                  </a:lnTo>
                  <a:lnTo>
                    <a:pt x="873" y="1873"/>
                  </a:lnTo>
                  <a:lnTo>
                    <a:pt x="890" y="1874"/>
                  </a:lnTo>
                  <a:lnTo>
                    <a:pt x="906" y="1874"/>
                  </a:lnTo>
                  <a:lnTo>
                    <a:pt x="922" y="1875"/>
                  </a:lnTo>
                  <a:lnTo>
                    <a:pt x="939" y="1875"/>
                  </a:lnTo>
                  <a:lnTo>
                    <a:pt x="955" y="1875"/>
                  </a:lnTo>
                  <a:lnTo>
                    <a:pt x="971" y="1874"/>
                  </a:lnTo>
                  <a:lnTo>
                    <a:pt x="988" y="1874"/>
                  </a:lnTo>
                  <a:lnTo>
                    <a:pt x="1004" y="1873"/>
                  </a:lnTo>
                  <a:lnTo>
                    <a:pt x="1020" y="1872"/>
                  </a:lnTo>
                  <a:lnTo>
                    <a:pt x="1037" y="1870"/>
                  </a:lnTo>
                  <a:lnTo>
                    <a:pt x="1052" y="1869"/>
                  </a:lnTo>
                  <a:lnTo>
                    <a:pt x="1069" y="1866"/>
                  </a:lnTo>
                  <a:lnTo>
                    <a:pt x="1085" y="1864"/>
                  </a:lnTo>
                  <a:lnTo>
                    <a:pt x="1101" y="1861"/>
                  </a:lnTo>
                  <a:lnTo>
                    <a:pt x="1117" y="1857"/>
                  </a:lnTo>
                  <a:lnTo>
                    <a:pt x="1134" y="1855"/>
                  </a:lnTo>
                  <a:lnTo>
                    <a:pt x="1149" y="1851"/>
                  </a:lnTo>
                  <a:lnTo>
                    <a:pt x="1165" y="1847"/>
                  </a:lnTo>
                  <a:lnTo>
                    <a:pt x="1181" y="1843"/>
                  </a:lnTo>
                  <a:lnTo>
                    <a:pt x="1197" y="1839"/>
                  </a:lnTo>
                  <a:lnTo>
                    <a:pt x="1213" y="1834"/>
                  </a:lnTo>
                  <a:lnTo>
                    <a:pt x="1228" y="1830"/>
                  </a:lnTo>
                  <a:lnTo>
                    <a:pt x="1244" y="1824"/>
                  </a:lnTo>
                  <a:lnTo>
                    <a:pt x="1258" y="1818"/>
                  </a:lnTo>
                  <a:lnTo>
                    <a:pt x="1274" y="1813"/>
                  </a:lnTo>
                  <a:lnTo>
                    <a:pt x="1289" y="1807"/>
                  </a:lnTo>
                  <a:lnTo>
                    <a:pt x="1304" y="1801"/>
                  </a:lnTo>
                  <a:lnTo>
                    <a:pt x="1320" y="1794"/>
                  </a:lnTo>
                  <a:lnTo>
                    <a:pt x="1334" y="1787"/>
                  </a:lnTo>
                  <a:lnTo>
                    <a:pt x="1348" y="1781"/>
                  </a:lnTo>
                  <a:lnTo>
                    <a:pt x="1364" y="1773"/>
                  </a:lnTo>
                  <a:lnTo>
                    <a:pt x="1379" y="1765"/>
                  </a:lnTo>
                  <a:lnTo>
                    <a:pt x="1393" y="1757"/>
                  </a:lnTo>
                  <a:lnTo>
                    <a:pt x="1406" y="1749"/>
                  </a:lnTo>
                  <a:lnTo>
                    <a:pt x="1421" y="1742"/>
                  </a:lnTo>
                  <a:lnTo>
                    <a:pt x="1434" y="1733"/>
                  </a:lnTo>
                  <a:lnTo>
                    <a:pt x="1449" y="1724"/>
                  </a:lnTo>
                  <a:lnTo>
                    <a:pt x="1462" y="1715"/>
                  </a:lnTo>
                  <a:lnTo>
                    <a:pt x="1475" y="1706"/>
                  </a:lnTo>
                  <a:lnTo>
                    <a:pt x="1489" y="1696"/>
                  </a:lnTo>
                  <a:lnTo>
                    <a:pt x="1502" y="1687"/>
                  </a:lnTo>
                  <a:lnTo>
                    <a:pt x="1515" y="1677"/>
                  </a:lnTo>
                  <a:lnTo>
                    <a:pt x="1528" y="1667"/>
                  </a:lnTo>
                  <a:lnTo>
                    <a:pt x="1540" y="1656"/>
                  </a:lnTo>
                  <a:lnTo>
                    <a:pt x="1553" y="1646"/>
                  </a:lnTo>
                  <a:lnTo>
                    <a:pt x="1566" y="1635"/>
                  </a:lnTo>
                  <a:lnTo>
                    <a:pt x="1577" y="1624"/>
                  </a:lnTo>
                  <a:lnTo>
                    <a:pt x="1589" y="1613"/>
                  </a:lnTo>
                  <a:lnTo>
                    <a:pt x="1601" y="1601"/>
                  </a:lnTo>
                  <a:lnTo>
                    <a:pt x="1612" y="1589"/>
                  </a:lnTo>
                  <a:lnTo>
                    <a:pt x="1623" y="1578"/>
                  </a:lnTo>
                  <a:lnTo>
                    <a:pt x="1635" y="1566"/>
                  </a:lnTo>
                  <a:lnTo>
                    <a:pt x="1646" y="1554"/>
                  </a:lnTo>
                  <a:lnTo>
                    <a:pt x="1656" y="1541"/>
                  </a:lnTo>
                  <a:lnTo>
                    <a:pt x="1667" y="1528"/>
                  </a:lnTo>
                  <a:lnTo>
                    <a:pt x="1677" y="1516"/>
                  </a:lnTo>
                  <a:lnTo>
                    <a:pt x="1687" y="1502"/>
                  </a:lnTo>
                  <a:lnTo>
                    <a:pt x="1696" y="1489"/>
                  </a:lnTo>
                  <a:lnTo>
                    <a:pt x="1706" y="1476"/>
                  </a:lnTo>
                  <a:lnTo>
                    <a:pt x="1715" y="1462"/>
                  </a:lnTo>
                  <a:lnTo>
                    <a:pt x="1724" y="1449"/>
                  </a:lnTo>
                  <a:lnTo>
                    <a:pt x="1733" y="1436"/>
                  </a:lnTo>
                  <a:lnTo>
                    <a:pt x="1741" y="1421"/>
                  </a:lnTo>
                  <a:lnTo>
                    <a:pt x="1749" y="1408"/>
                  </a:lnTo>
                  <a:lnTo>
                    <a:pt x="1758" y="1393"/>
                  </a:lnTo>
                  <a:lnTo>
                    <a:pt x="1766" y="1379"/>
                  </a:lnTo>
                  <a:lnTo>
                    <a:pt x="1773" y="1364"/>
                  </a:lnTo>
                  <a:lnTo>
                    <a:pt x="1780" y="1350"/>
                  </a:lnTo>
                  <a:lnTo>
                    <a:pt x="1787" y="1335"/>
                  </a:lnTo>
                  <a:lnTo>
                    <a:pt x="1794" y="1320"/>
                  </a:lnTo>
                  <a:lnTo>
                    <a:pt x="1801" y="1305"/>
                  </a:lnTo>
                  <a:lnTo>
                    <a:pt x="1807" y="1290"/>
                  </a:lnTo>
                  <a:lnTo>
                    <a:pt x="1813" y="1275"/>
                  </a:lnTo>
                  <a:lnTo>
                    <a:pt x="1818" y="1260"/>
                  </a:lnTo>
                  <a:lnTo>
                    <a:pt x="1824" y="1244"/>
                  </a:lnTo>
                  <a:lnTo>
                    <a:pt x="1829" y="1228"/>
                  </a:lnTo>
                  <a:lnTo>
                    <a:pt x="1834" y="1213"/>
                  </a:lnTo>
                  <a:lnTo>
                    <a:pt x="1839" y="1197"/>
                  </a:lnTo>
                  <a:lnTo>
                    <a:pt x="1844" y="1182"/>
                  </a:lnTo>
                  <a:lnTo>
                    <a:pt x="1847" y="1166"/>
                  </a:lnTo>
                  <a:lnTo>
                    <a:pt x="1852" y="1149"/>
                  </a:lnTo>
                  <a:lnTo>
                    <a:pt x="1855" y="1134"/>
                  </a:lnTo>
                  <a:lnTo>
                    <a:pt x="1858" y="1118"/>
                  </a:lnTo>
                  <a:lnTo>
                    <a:pt x="1862" y="1102"/>
                  </a:lnTo>
                  <a:lnTo>
                    <a:pt x="1864" y="1086"/>
                  </a:lnTo>
                  <a:lnTo>
                    <a:pt x="1866" y="1069"/>
                  </a:lnTo>
                  <a:lnTo>
                    <a:pt x="1868" y="1054"/>
                  </a:lnTo>
                  <a:lnTo>
                    <a:pt x="1871" y="1037"/>
                  </a:lnTo>
                  <a:lnTo>
                    <a:pt x="1872" y="1021"/>
                  </a:lnTo>
                  <a:lnTo>
                    <a:pt x="1873" y="1005"/>
                  </a:lnTo>
                  <a:lnTo>
                    <a:pt x="1874" y="988"/>
                  </a:lnTo>
                  <a:lnTo>
                    <a:pt x="1875" y="972"/>
                  </a:lnTo>
                  <a:lnTo>
                    <a:pt x="1875" y="956"/>
                  </a:lnTo>
                  <a:lnTo>
                    <a:pt x="1876" y="939"/>
                  </a:lnTo>
                  <a:lnTo>
                    <a:pt x="1876" y="923"/>
                  </a:lnTo>
                  <a:lnTo>
                    <a:pt x="1875" y="907"/>
                  </a:lnTo>
                  <a:lnTo>
                    <a:pt x="1875" y="890"/>
                  </a:lnTo>
                  <a:lnTo>
                    <a:pt x="1874" y="874"/>
                  </a:lnTo>
                  <a:lnTo>
                    <a:pt x="1873" y="858"/>
                  </a:lnTo>
                  <a:lnTo>
                    <a:pt x="1871" y="841"/>
                  </a:lnTo>
                  <a:lnTo>
                    <a:pt x="1870" y="825"/>
                  </a:lnTo>
                  <a:lnTo>
                    <a:pt x="1867" y="809"/>
                  </a:lnTo>
                  <a:lnTo>
                    <a:pt x="1865" y="793"/>
                  </a:lnTo>
                  <a:lnTo>
                    <a:pt x="1862" y="776"/>
                  </a:lnTo>
                  <a:lnTo>
                    <a:pt x="1860" y="761"/>
                  </a:lnTo>
                  <a:lnTo>
                    <a:pt x="1856" y="744"/>
                  </a:lnTo>
                  <a:lnTo>
                    <a:pt x="1852" y="729"/>
                  </a:lnTo>
                  <a:lnTo>
                    <a:pt x="1848" y="713"/>
                  </a:lnTo>
                  <a:lnTo>
                    <a:pt x="1844" y="697"/>
                  </a:lnTo>
                  <a:lnTo>
                    <a:pt x="1841" y="682"/>
                  </a:lnTo>
                  <a:lnTo>
                    <a:pt x="1835" y="665"/>
                  </a:lnTo>
                  <a:lnTo>
                    <a:pt x="1831" y="650"/>
                  </a:lnTo>
                  <a:lnTo>
                    <a:pt x="1825" y="634"/>
                  </a:lnTo>
                  <a:lnTo>
                    <a:pt x="1821" y="619"/>
                  </a:lnTo>
                  <a:lnTo>
                    <a:pt x="1814" y="604"/>
                  </a:lnTo>
                  <a:lnTo>
                    <a:pt x="1808" y="588"/>
                  </a:lnTo>
                  <a:lnTo>
                    <a:pt x="1803" y="574"/>
                  </a:lnTo>
                  <a:lnTo>
                    <a:pt x="1796" y="558"/>
                  </a:lnTo>
                  <a:lnTo>
                    <a:pt x="1789" y="544"/>
                  </a:lnTo>
                  <a:lnTo>
                    <a:pt x="1782" y="529"/>
                  </a:lnTo>
                  <a:lnTo>
                    <a:pt x="1775" y="514"/>
                  </a:lnTo>
                  <a:lnTo>
                    <a:pt x="1767" y="499"/>
                  </a:lnTo>
                  <a:lnTo>
                    <a:pt x="1759" y="485"/>
                  </a:lnTo>
                  <a:lnTo>
                    <a:pt x="1752" y="471"/>
                  </a:lnTo>
                  <a:lnTo>
                    <a:pt x="1744" y="457"/>
                  </a:lnTo>
                  <a:lnTo>
                    <a:pt x="1735" y="442"/>
                  </a:lnTo>
                  <a:lnTo>
                    <a:pt x="1726" y="429"/>
                  </a:lnTo>
                  <a:lnTo>
                    <a:pt x="1717" y="416"/>
                  </a:lnTo>
                  <a:lnTo>
                    <a:pt x="1708" y="402"/>
                  </a:lnTo>
                  <a:lnTo>
                    <a:pt x="1698" y="389"/>
                  </a:lnTo>
                  <a:lnTo>
                    <a:pt x="1689" y="376"/>
                  </a:lnTo>
                  <a:lnTo>
                    <a:pt x="1679" y="362"/>
                  </a:lnTo>
                  <a:lnTo>
                    <a:pt x="1669" y="350"/>
                  </a:lnTo>
                  <a:lnTo>
                    <a:pt x="1658" y="337"/>
                  </a:lnTo>
                  <a:lnTo>
                    <a:pt x="1648" y="324"/>
                  </a:lnTo>
                  <a:lnTo>
                    <a:pt x="1637" y="312"/>
                  </a:lnTo>
                  <a:lnTo>
                    <a:pt x="1626" y="300"/>
                  </a:lnTo>
                  <a:lnTo>
                    <a:pt x="1615" y="289"/>
                  </a:lnTo>
                  <a:lnTo>
                    <a:pt x="1603" y="277"/>
                  </a:lnTo>
                  <a:lnTo>
                    <a:pt x="1591" y="265"/>
                  </a:lnTo>
                  <a:lnTo>
                    <a:pt x="1580" y="254"/>
                  </a:lnTo>
                  <a:lnTo>
                    <a:pt x="1568" y="243"/>
                  </a:lnTo>
                  <a:lnTo>
                    <a:pt x="1556" y="232"/>
                  </a:lnTo>
                  <a:lnTo>
                    <a:pt x="1543" y="221"/>
                  </a:lnTo>
                  <a:lnTo>
                    <a:pt x="1531" y="211"/>
                  </a:lnTo>
                  <a:lnTo>
                    <a:pt x="1518" y="201"/>
                  </a:lnTo>
                  <a:lnTo>
                    <a:pt x="1505" y="191"/>
                  </a:lnTo>
                  <a:lnTo>
                    <a:pt x="1492" y="181"/>
                  </a:lnTo>
                  <a:lnTo>
                    <a:pt x="1479" y="171"/>
                  </a:lnTo>
                  <a:lnTo>
                    <a:pt x="1465" y="162"/>
                  </a:lnTo>
                  <a:lnTo>
                    <a:pt x="1452" y="153"/>
                  </a:lnTo>
                  <a:lnTo>
                    <a:pt x="1438" y="144"/>
                  </a:lnTo>
                  <a:lnTo>
                    <a:pt x="1424" y="135"/>
                  </a:lnTo>
                  <a:lnTo>
                    <a:pt x="1410" y="127"/>
                  </a:lnTo>
                  <a:lnTo>
                    <a:pt x="1395" y="120"/>
                  </a:lnTo>
                  <a:lnTo>
                    <a:pt x="1382" y="112"/>
                  </a:lnTo>
                  <a:lnTo>
                    <a:pt x="1367" y="104"/>
                  </a:lnTo>
                  <a:lnTo>
                    <a:pt x="1352" y="96"/>
                  </a:lnTo>
                  <a:lnTo>
                    <a:pt x="1337" y="90"/>
                  </a:lnTo>
                  <a:lnTo>
                    <a:pt x="1323" y="83"/>
                  </a:lnTo>
                  <a:lnTo>
                    <a:pt x="1307" y="76"/>
                  </a:lnTo>
                  <a:lnTo>
                    <a:pt x="1293" y="70"/>
                  </a:lnTo>
                  <a:lnTo>
                    <a:pt x="1277" y="64"/>
                  </a:lnTo>
                  <a:lnTo>
                    <a:pt x="1263" y="57"/>
                  </a:lnTo>
                  <a:lnTo>
                    <a:pt x="1247" y="52"/>
                  </a:lnTo>
                  <a:lnTo>
                    <a:pt x="1232" y="47"/>
                  </a:lnTo>
                  <a:lnTo>
                    <a:pt x="1216" y="42"/>
                  </a:lnTo>
                  <a:lnTo>
                    <a:pt x="1200" y="37"/>
                  </a:lnTo>
                  <a:lnTo>
                    <a:pt x="1185" y="33"/>
                  </a:lnTo>
                  <a:lnTo>
                    <a:pt x="1168" y="28"/>
                  </a:lnTo>
                  <a:lnTo>
                    <a:pt x="1152" y="25"/>
                  </a:lnTo>
                  <a:lnTo>
                    <a:pt x="1137" y="22"/>
                  </a:lnTo>
                  <a:lnTo>
                    <a:pt x="1121" y="18"/>
                  </a:lnTo>
                  <a:lnTo>
                    <a:pt x="1105" y="15"/>
                  </a:lnTo>
                  <a:lnTo>
                    <a:pt x="1089" y="12"/>
                  </a:lnTo>
                  <a:lnTo>
                    <a:pt x="1072" y="9"/>
                  </a:lnTo>
                  <a:lnTo>
                    <a:pt x="1057" y="7"/>
                  </a:lnTo>
                  <a:lnTo>
                    <a:pt x="1040" y="5"/>
                  </a:lnTo>
                  <a:lnTo>
                    <a:pt x="1023" y="4"/>
                  </a:lnTo>
                  <a:lnTo>
                    <a:pt x="1008" y="3"/>
                  </a:lnTo>
                  <a:lnTo>
                    <a:pt x="991" y="2"/>
                  </a:lnTo>
                  <a:lnTo>
                    <a:pt x="974" y="0"/>
                  </a:lnTo>
                  <a:lnTo>
                    <a:pt x="959" y="0"/>
                  </a:lnTo>
                  <a:lnTo>
                    <a:pt x="942" y="0"/>
                  </a:lnTo>
                  <a:lnTo>
                    <a:pt x="925" y="0"/>
                  </a:lnTo>
                  <a:lnTo>
                    <a:pt x="910" y="0"/>
                  </a:lnTo>
                  <a:lnTo>
                    <a:pt x="893" y="0"/>
                  </a:lnTo>
                  <a:lnTo>
                    <a:pt x="876" y="2"/>
                  </a:lnTo>
                  <a:lnTo>
                    <a:pt x="861" y="3"/>
                  </a:lnTo>
                  <a:lnTo>
                    <a:pt x="844" y="5"/>
                  </a:lnTo>
                  <a:lnTo>
                    <a:pt x="828" y="6"/>
                  </a:lnTo>
                  <a:lnTo>
                    <a:pt x="812" y="8"/>
                  </a:lnTo>
                  <a:lnTo>
                    <a:pt x="796" y="11"/>
                  </a:lnTo>
                  <a:lnTo>
                    <a:pt x="779" y="14"/>
                  </a:lnTo>
                  <a:lnTo>
                    <a:pt x="764" y="16"/>
                  </a:lnTo>
                  <a:lnTo>
                    <a:pt x="747" y="19"/>
                  </a:lnTo>
                  <a:lnTo>
                    <a:pt x="732" y="23"/>
                  </a:lnTo>
                  <a:lnTo>
                    <a:pt x="716" y="27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84440" y="4102200"/>
              <a:ext cx="27000" cy="52200"/>
            </a:xfrm>
            <a:custGeom>
              <a:avLst/>
              <a:gdLst/>
              <a:ahLst/>
              <a:rect l="l" t="t" r="r" b="b"/>
              <a:pathLst>
                <a:path w="110" h="210">
                  <a:moveTo>
                    <a:pt x="0" y="181"/>
                  </a:moveTo>
                  <a:lnTo>
                    <a:pt x="110" y="0"/>
                  </a:lnTo>
                  <a:lnTo>
                    <a:pt x="97" y="210"/>
                  </a:lnTo>
                  <a:lnTo>
                    <a:pt x="62" y="157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41760" y="3930480"/>
              <a:ext cx="50760" cy="28800"/>
            </a:xfrm>
            <a:custGeom>
              <a:avLst/>
              <a:gdLst/>
              <a:ahLst/>
              <a:rect l="l" t="t" r="r" b="b"/>
              <a:pathLst>
                <a:path w="211" h="122">
                  <a:moveTo>
                    <a:pt x="211" y="96"/>
                  </a:moveTo>
                  <a:lnTo>
                    <a:pt x="0" y="122"/>
                  </a:lnTo>
                  <a:lnTo>
                    <a:pt x="174" y="0"/>
                  </a:lnTo>
                  <a:lnTo>
                    <a:pt x="155" y="62"/>
                  </a:lnTo>
                  <a:lnTo>
                    <a:pt x="211" y="96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454640" y="339840"/>
                <a:ext cx="3917880" cy="35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 rot="20568600">
            <a:off x="1595160" y="5149440"/>
            <a:ext cx="520560" cy="604800"/>
          </a:xfrm>
          <a:custGeom>
            <a:avLst/>
            <a:gdLst/>
            <a:ahLst/>
            <a:rect l="l" t="t" r="r" b="b"/>
            <a:pathLst>
              <a:path w="2131" h="2448">
                <a:moveTo>
                  <a:pt x="1457" y="1553"/>
                </a:moveTo>
                <a:lnTo>
                  <a:pt x="1440" y="1573"/>
                </a:lnTo>
                <a:lnTo>
                  <a:pt x="1423" y="1593"/>
                </a:lnTo>
                <a:lnTo>
                  <a:pt x="1405" y="1615"/>
                </a:lnTo>
                <a:lnTo>
                  <a:pt x="1387" y="1635"/>
                </a:lnTo>
                <a:lnTo>
                  <a:pt x="1369" y="1655"/>
                </a:lnTo>
                <a:lnTo>
                  <a:pt x="1351" y="1675"/>
                </a:lnTo>
                <a:lnTo>
                  <a:pt x="1334" y="1695"/>
                </a:lnTo>
                <a:lnTo>
                  <a:pt x="1316" y="1714"/>
                </a:lnTo>
                <a:lnTo>
                  <a:pt x="1297" y="1734"/>
                </a:lnTo>
                <a:lnTo>
                  <a:pt x="1279" y="1753"/>
                </a:lnTo>
                <a:lnTo>
                  <a:pt x="1260" y="1773"/>
                </a:lnTo>
                <a:lnTo>
                  <a:pt x="1242" y="1792"/>
                </a:lnTo>
                <a:lnTo>
                  <a:pt x="1223" y="1810"/>
                </a:lnTo>
                <a:lnTo>
                  <a:pt x="1205" y="1829"/>
                </a:lnTo>
                <a:lnTo>
                  <a:pt x="1187" y="1847"/>
                </a:lnTo>
                <a:lnTo>
                  <a:pt x="1169" y="1866"/>
                </a:lnTo>
                <a:lnTo>
                  <a:pt x="1150" y="1884"/>
                </a:lnTo>
                <a:lnTo>
                  <a:pt x="1131" y="1902"/>
                </a:lnTo>
                <a:lnTo>
                  <a:pt x="1112" y="1920"/>
                </a:lnTo>
                <a:lnTo>
                  <a:pt x="1094" y="1937"/>
                </a:lnTo>
                <a:lnTo>
                  <a:pt x="1075" y="1954"/>
                </a:lnTo>
                <a:lnTo>
                  <a:pt x="1056" y="1972"/>
                </a:lnTo>
                <a:lnTo>
                  <a:pt x="1038" y="1989"/>
                </a:lnTo>
                <a:lnTo>
                  <a:pt x="1020" y="2005"/>
                </a:lnTo>
                <a:lnTo>
                  <a:pt x="1001" y="2021"/>
                </a:lnTo>
                <a:lnTo>
                  <a:pt x="982" y="2038"/>
                </a:lnTo>
                <a:lnTo>
                  <a:pt x="964" y="2053"/>
                </a:lnTo>
                <a:lnTo>
                  <a:pt x="945" y="2069"/>
                </a:lnTo>
                <a:lnTo>
                  <a:pt x="926" y="2084"/>
                </a:lnTo>
                <a:lnTo>
                  <a:pt x="908" y="2100"/>
                </a:lnTo>
                <a:lnTo>
                  <a:pt x="889" y="2114"/>
                </a:lnTo>
                <a:lnTo>
                  <a:pt x="871" y="2129"/>
                </a:lnTo>
                <a:lnTo>
                  <a:pt x="853" y="2143"/>
                </a:lnTo>
                <a:lnTo>
                  <a:pt x="835" y="2157"/>
                </a:lnTo>
                <a:lnTo>
                  <a:pt x="817" y="2171"/>
                </a:lnTo>
                <a:lnTo>
                  <a:pt x="798" y="2185"/>
                </a:lnTo>
                <a:lnTo>
                  <a:pt x="780" y="2197"/>
                </a:lnTo>
                <a:lnTo>
                  <a:pt x="762" y="2210"/>
                </a:lnTo>
                <a:lnTo>
                  <a:pt x="745" y="2222"/>
                </a:lnTo>
                <a:lnTo>
                  <a:pt x="727" y="2235"/>
                </a:lnTo>
                <a:lnTo>
                  <a:pt x="709" y="2247"/>
                </a:lnTo>
                <a:lnTo>
                  <a:pt x="692" y="2258"/>
                </a:lnTo>
                <a:lnTo>
                  <a:pt x="674" y="2270"/>
                </a:lnTo>
                <a:lnTo>
                  <a:pt x="657" y="2280"/>
                </a:lnTo>
                <a:lnTo>
                  <a:pt x="640" y="2291"/>
                </a:lnTo>
                <a:lnTo>
                  <a:pt x="623" y="2301"/>
                </a:lnTo>
                <a:lnTo>
                  <a:pt x="606" y="2311"/>
                </a:lnTo>
                <a:lnTo>
                  <a:pt x="590" y="2321"/>
                </a:lnTo>
                <a:lnTo>
                  <a:pt x="573" y="2330"/>
                </a:lnTo>
                <a:lnTo>
                  <a:pt x="556" y="2339"/>
                </a:lnTo>
                <a:lnTo>
                  <a:pt x="540" y="2348"/>
                </a:lnTo>
                <a:lnTo>
                  <a:pt x="524" y="2357"/>
                </a:lnTo>
                <a:lnTo>
                  <a:pt x="507" y="2365"/>
                </a:lnTo>
                <a:lnTo>
                  <a:pt x="492" y="2372"/>
                </a:lnTo>
                <a:lnTo>
                  <a:pt x="476" y="2379"/>
                </a:lnTo>
                <a:lnTo>
                  <a:pt x="461" y="2386"/>
                </a:lnTo>
                <a:lnTo>
                  <a:pt x="446" y="2393"/>
                </a:lnTo>
                <a:lnTo>
                  <a:pt x="431" y="2399"/>
                </a:lnTo>
                <a:lnTo>
                  <a:pt x="416" y="2405"/>
                </a:lnTo>
                <a:lnTo>
                  <a:pt x="402" y="2411"/>
                </a:lnTo>
                <a:lnTo>
                  <a:pt x="387" y="2415"/>
                </a:lnTo>
                <a:lnTo>
                  <a:pt x="373" y="2421"/>
                </a:lnTo>
                <a:lnTo>
                  <a:pt x="358" y="2424"/>
                </a:lnTo>
                <a:lnTo>
                  <a:pt x="345" y="2428"/>
                </a:lnTo>
                <a:lnTo>
                  <a:pt x="330" y="2432"/>
                </a:lnTo>
                <a:lnTo>
                  <a:pt x="317" y="2435"/>
                </a:lnTo>
                <a:lnTo>
                  <a:pt x="305" y="2438"/>
                </a:lnTo>
                <a:lnTo>
                  <a:pt x="291" y="2441"/>
                </a:lnTo>
                <a:lnTo>
                  <a:pt x="279" y="2443"/>
                </a:lnTo>
                <a:lnTo>
                  <a:pt x="266" y="2445"/>
                </a:lnTo>
                <a:lnTo>
                  <a:pt x="254" y="2446"/>
                </a:lnTo>
                <a:lnTo>
                  <a:pt x="242" y="2447"/>
                </a:lnTo>
                <a:lnTo>
                  <a:pt x="230" y="2447"/>
                </a:lnTo>
                <a:lnTo>
                  <a:pt x="219" y="2448"/>
                </a:lnTo>
                <a:lnTo>
                  <a:pt x="208" y="2448"/>
                </a:lnTo>
                <a:lnTo>
                  <a:pt x="197" y="2447"/>
                </a:lnTo>
                <a:lnTo>
                  <a:pt x="186" y="2446"/>
                </a:lnTo>
                <a:lnTo>
                  <a:pt x="176" y="2445"/>
                </a:lnTo>
                <a:lnTo>
                  <a:pt x="166" y="2444"/>
                </a:lnTo>
                <a:lnTo>
                  <a:pt x="156" y="2442"/>
                </a:lnTo>
                <a:lnTo>
                  <a:pt x="147" y="2439"/>
                </a:lnTo>
                <a:lnTo>
                  <a:pt x="137" y="2436"/>
                </a:lnTo>
                <a:lnTo>
                  <a:pt x="128" y="2434"/>
                </a:lnTo>
                <a:lnTo>
                  <a:pt x="119" y="2431"/>
                </a:lnTo>
                <a:lnTo>
                  <a:pt x="111" y="2426"/>
                </a:lnTo>
                <a:lnTo>
                  <a:pt x="103" y="2422"/>
                </a:lnTo>
                <a:lnTo>
                  <a:pt x="94" y="2417"/>
                </a:lnTo>
                <a:lnTo>
                  <a:pt x="88" y="2413"/>
                </a:lnTo>
                <a:lnTo>
                  <a:pt x="80" y="2407"/>
                </a:lnTo>
                <a:lnTo>
                  <a:pt x="73" y="2402"/>
                </a:lnTo>
                <a:lnTo>
                  <a:pt x="66" y="2396"/>
                </a:lnTo>
                <a:lnTo>
                  <a:pt x="60" y="2389"/>
                </a:lnTo>
                <a:lnTo>
                  <a:pt x="54" y="2383"/>
                </a:lnTo>
                <a:lnTo>
                  <a:pt x="49" y="2375"/>
                </a:lnTo>
                <a:lnTo>
                  <a:pt x="43" y="2368"/>
                </a:lnTo>
                <a:lnTo>
                  <a:pt x="37" y="2360"/>
                </a:lnTo>
                <a:lnTo>
                  <a:pt x="33" y="2352"/>
                </a:lnTo>
                <a:lnTo>
                  <a:pt x="29" y="2344"/>
                </a:lnTo>
                <a:lnTo>
                  <a:pt x="24" y="2335"/>
                </a:lnTo>
                <a:lnTo>
                  <a:pt x="21" y="2326"/>
                </a:lnTo>
                <a:lnTo>
                  <a:pt x="17" y="2316"/>
                </a:lnTo>
                <a:lnTo>
                  <a:pt x="14" y="2306"/>
                </a:lnTo>
                <a:lnTo>
                  <a:pt x="11" y="2296"/>
                </a:lnTo>
                <a:lnTo>
                  <a:pt x="9" y="2286"/>
                </a:lnTo>
                <a:lnTo>
                  <a:pt x="6" y="2275"/>
                </a:lnTo>
                <a:lnTo>
                  <a:pt x="5" y="2264"/>
                </a:lnTo>
                <a:lnTo>
                  <a:pt x="3" y="2252"/>
                </a:lnTo>
                <a:lnTo>
                  <a:pt x="2" y="2240"/>
                </a:lnTo>
                <a:lnTo>
                  <a:pt x="1" y="2228"/>
                </a:lnTo>
                <a:lnTo>
                  <a:pt x="1" y="2216"/>
                </a:lnTo>
                <a:lnTo>
                  <a:pt x="0" y="2203"/>
                </a:lnTo>
                <a:lnTo>
                  <a:pt x="1" y="2190"/>
                </a:lnTo>
                <a:lnTo>
                  <a:pt x="1" y="2177"/>
                </a:lnTo>
                <a:lnTo>
                  <a:pt x="2" y="2163"/>
                </a:lnTo>
                <a:lnTo>
                  <a:pt x="3" y="2149"/>
                </a:lnTo>
                <a:lnTo>
                  <a:pt x="4" y="2136"/>
                </a:lnTo>
                <a:lnTo>
                  <a:pt x="5" y="2121"/>
                </a:lnTo>
                <a:lnTo>
                  <a:pt x="7" y="2105"/>
                </a:lnTo>
                <a:lnTo>
                  <a:pt x="10" y="2091"/>
                </a:lnTo>
                <a:lnTo>
                  <a:pt x="13" y="2075"/>
                </a:lnTo>
                <a:lnTo>
                  <a:pt x="15" y="2060"/>
                </a:lnTo>
                <a:lnTo>
                  <a:pt x="19" y="2044"/>
                </a:lnTo>
                <a:lnTo>
                  <a:pt x="23" y="2029"/>
                </a:lnTo>
                <a:lnTo>
                  <a:pt x="26" y="2012"/>
                </a:lnTo>
                <a:lnTo>
                  <a:pt x="31" y="1995"/>
                </a:lnTo>
                <a:lnTo>
                  <a:pt x="35" y="1979"/>
                </a:lnTo>
                <a:lnTo>
                  <a:pt x="41" y="1962"/>
                </a:lnTo>
                <a:lnTo>
                  <a:pt x="45" y="1945"/>
                </a:lnTo>
                <a:lnTo>
                  <a:pt x="51" y="1927"/>
                </a:lnTo>
                <a:lnTo>
                  <a:pt x="56" y="1910"/>
                </a:lnTo>
                <a:lnTo>
                  <a:pt x="63" y="1892"/>
                </a:lnTo>
                <a:lnTo>
                  <a:pt x="70" y="1874"/>
                </a:lnTo>
                <a:lnTo>
                  <a:pt x="76" y="1856"/>
                </a:lnTo>
                <a:lnTo>
                  <a:pt x="83" y="1837"/>
                </a:lnTo>
                <a:lnTo>
                  <a:pt x="91" y="1818"/>
                </a:lnTo>
                <a:lnTo>
                  <a:pt x="99" y="1799"/>
                </a:lnTo>
                <a:lnTo>
                  <a:pt x="107" y="1780"/>
                </a:lnTo>
                <a:lnTo>
                  <a:pt x="114" y="1761"/>
                </a:lnTo>
                <a:lnTo>
                  <a:pt x="123" y="1743"/>
                </a:lnTo>
                <a:lnTo>
                  <a:pt x="132" y="1723"/>
                </a:lnTo>
                <a:lnTo>
                  <a:pt x="141" y="1704"/>
                </a:lnTo>
                <a:lnTo>
                  <a:pt x="151" y="1684"/>
                </a:lnTo>
                <a:lnTo>
                  <a:pt x="160" y="1664"/>
                </a:lnTo>
                <a:lnTo>
                  <a:pt x="170" y="1643"/>
                </a:lnTo>
                <a:lnTo>
                  <a:pt x="180" y="1623"/>
                </a:lnTo>
                <a:lnTo>
                  <a:pt x="191" y="1603"/>
                </a:lnTo>
                <a:lnTo>
                  <a:pt x="202" y="1582"/>
                </a:lnTo>
                <a:lnTo>
                  <a:pt x="212" y="1562"/>
                </a:lnTo>
                <a:lnTo>
                  <a:pt x="225" y="1541"/>
                </a:lnTo>
                <a:lnTo>
                  <a:pt x="236" y="1521"/>
                </a:lnTo>
                <a:lnTo>
                  <a:pt x="248" y="1500"/>
                </a:lnTo>
                <a:lnTo>
                  <a:pt x="259" y="1479"/>
                </a:lnTo>
                <a:lnTo>
                  <a:pt x="272" y="1458"/>
                </a:lnTo>
                <a:lnTo>
                  <a:pt x="285" y="1436"/>
                </a:lnTo>
                <a:lnTo>
                  <a:pt x="297" y="1415"/>
                </a:lnTo>
                <a:lnTo>
                  <a:pt x="310" y="1394"/>
                </a:lnTo>
                <a:lnTo>
                  <a:pt x="324" y="1373"/>
                </a:lnTo>
                <a:lnTo>
                  <a:pt x="337" y="1352"/>
                </a:lnTo>
                <a:lnTo>
                  <a:pt x="350" y="1331"/>
                </a:lnTo>
                <a:lnTo>
                  <a:pt x="365" y="1309"/>
                </a:lnTo>
                <a:lnTo>
                  <a:pt x="379" y="1288"/>
                </a:lnTo>
                <a:lnTo>
                  <a:pt x="393" y="1266"/>
                </a:lnTo>
                <a:lnTo>
                  <a:pt x="408" y="1245"/>
                </a:lnTo>
                <a:lnTo>
                  <a:pt x="423" y="1224"/>
                </a:lnTo>
                <a:lnTo>
                  <a:pt x="437" y="1203"/>
                </a:lnTo>
                <a:lnTo>
                  <a:pt x="453" y="1180"/>
                </a:lnTo>
                <a:lnTo>
                  <a:pt x="468" y="1159"/>
                </a:lnTo>
                <a:lnTo>
                  <a:pt x="484" y="1138"/>
                </a:lnTo>
                <a:lnTo>
                  <a:pt x="500" y="1117"/>
                </a:lnTo>
                <a:lnTo>
                  <a:pt x="515" y="1096"/>
                </a:lnTo>
                <a:lnTo>
                  <a:pt x="531" y="1075"/>
                </a:lnTo>
                <a:lnTo>
                  <a:pt x="547" y="1053"/>
                </a:lnTo>
                <a:lnTo>
                  <a:pt x="564" y="1032"/>
                </a:lnTo>
                <a:lnTo>
                  <a:pt x="580" y="1011"/>
                </a:lnTo>
                <a:lnTo>
                  <a:pt x="596" y="990"/>
                </a:lnTo>
                <a:lnTo>
                  <a:pt x="614" y="969"/>
                </a:lnTo>
                <a:lnTo>
                  <a:pt x="631" y="948"/>
                </a:lnTo>
                <a:lnTo>
                  <a:pt x="648" y="927"/>
                </a:lnTo>
                <a:lnTo>
                  <a:pt x="665" y="906"/>
                </a:lnTo>
                <a:lnTo>
                  <a:pt x="682" y="885"/>
                </a:lnTo>
                <a:lnTo>
                  <a:pt x="700" y="865"/>
                </a:lnTo>
                <a:lnTo>
                  <a:pt x="718" y="844"/>
                </a:lnTo>
                <a:lnTo>
                  <a:pt x="736" y="824"/>
                </a:lnTo>
                <a:lnTo>
                  <a:pt x="752" y="804"/>
                </a:lnTo>
                <a:lnTo>
                  <a:pt x="771" y="784"/>
                </a:lnTo>
                <a:lnTo>
                  <a:pt x="789" y="764"/>
                </a:lnTo>
                <a:lnTo>
                  <a:pt x="807" y="744"/>
                </a:lnTo>
                <a:lnTo>
                  <a:pt x="825" y="725"/>
                </a:lnTo>
                <a:lnTo>
                  <a:pt x="843" y="705"/>
                </a:lnTo>
                <a:lnTo>
                  <a:pt x="861" y="686"/>
                </a:lnTo>
                <a:lnTo>
                  <a:pt x="879" y="667"/>
                </a:lnTo>
                <a:lnTo>
                  <a:pt x="898" y="648"/>
                </a:lnTo>
                <a:lnTo>
                  <a:pt x="916" y="629"/>
                </a:lnTo>
                <a:lnTo>
                  <a:pt x="935" y="610"/>
                </a:lnTo>
                <a:lnTo>
                  <a:pt x="954" y="591"/>
                </a:lnTo>
                <a:lnTo>
                  <a:pt x="972" y="574"/>
                </a:lnTo>
                <a:lnTo>
                  <a:pt x="991" y="556"/>
                </a:lnTo>
                <a:lnTo>
                  <a:pt x="1010" y="538"/>
                </a:lnTo>
                <a:lnTo>
                  <a:pt x="1027" y="520"/>
                </a:lnTo>
                <a:lnTo>
                  <a:pt x="1046" y="502"/>
                </a:lnTo>
                <a:lnTo>
                  <a:pt x="1065" y="486"/>
                </a:lnTo>
                <a:lnTo>
                  <a:pt x="1084" y="469"/>
                </a:lnTo>
                <a:lnTo>
                  <a:pt x="1102" y="452"/>
                </a:lnTo>
                <a:lnTo>
                  <a:pt x="1121" y="436"/>
                </a:lnTo>
                <a:lnTo>
                  <a:pt x="1140" y="419"/>
                </a:lnTo>
                <a:lnTo>
                  <a:pt x="1159" y="403"/>
                </a:lnTo>
                <a:lnTo>
                  <a:pt x="1177" y="388"/>
                </a:lnTo>
                <a:lnTo>
                  <a:pt x="1195" y="372"/>
                </a:lnTo>
                <a:lnTo>
                  <a:pt x="1213" y="357"/>
                </a:lnTo>
                <a:lnTo>
                  <a:pt x="1232" y="342"/>
                </a:lnTo>
                <a:lnTo>
                  <a:pt x="1251" y="328"/>
                </a:lnTo>
                <a:lnTo>
                  <a:pt x="1269" y="313"/>
                </a:lnTo>
                <a:lnTo>
                  <a:pt x="1287" y="299"/>
                </a:lnTo>
                <a:lnTo>
                  <a:pt x="1306" y="284"/>
                </a:lnTo>
                <a:lnTo>
                  <a:pt x="1323" y="271"/>
                </a:lnTo>
                <a:lnTo>
                  <a:pt x="1341" y="257"/>
                </a:lnTo>
                <a:lnTo>
                  <a:pt x="1359" y="245"/>
                </a:lnTo>
                <a:lnTo>
                  <a:pt x="1377" y="232"/>
                </a:lnTo>
                <a:lnTo>
                  <a:pt x="1395" y="220"/>
                </a:lnTo>
                <a:lnTo>
                  <a:pt x="1413" y="207"/>
                </a:lnTo>
                <a:lnTo>
                  <a:pt x="1430" y="196"/>
                </a:lnTo>
                <a:lnTo>
                  <a:pt x="1448" y="184"/>
                </a:lnTo>
                <a:lnTo>
                  <a:pt x="1465" y="173"/>
                </a:lnTo>
                <a:lnTo>
                  <a:pt x="1483" y="163"/>
                </a:lnTo>
                <a:lnTo>
                  <a:pt x="1499" y="152"/>
                </a:lnTo>
                <a:lnTo>
                  <a:pt x="1516" y="142"/>
                </a:lnTo>
                <a:lnTo>
                  <a:pt x="1534" y="132"/>
                </a:lnTo>
                <a:lnTo>
                  <a:pt x="1551" y="123"/>
                </a:lnTo>
                <a:lnTo>
                  <a:pt x="1566" y="114"/>
                </a:lnTo>
                <a:lnTo>
                  <a:pt x="1583" y="105"/>
                </a:lnTo>
                <a:lnTo>
                  <a:pt x="1600" y="96"/>
                </a:lnTo>
                <a:lnTo>
                  <a:pt x="1615" y="88"/>
                </a:lnTo>
                <a:lnTo>
                  <a:pt x="1631" y="80"/>
                </a:lnTo>
                <a:lnTo>
                  <a:pt x="1646" y="73"/>
                </a:lnTo>
                <a:lnTo>
                  <a:pt x="1662" y="66"/>
                </a:lnTo>
                <a:lnTo>
                  <a:pt x="1678" y="59"/>
                </a:lnTo>
                <a:lnTo>
                  <a:pt x="1693" y="53"/>
                </a:lnTo>
                <a:lnTo>
                  <a:pt x="1708" y="47"/>
                </a:lnTo>
                <a:lnTo>
                  <a:pt x="1722" y="41"/>
                </a:lnTo>
                <a:lnTo>
                  <a:pt x="1738" y="36"/>
                </a:lnTo>
                <a:lnTo>
                  <a:pt x="1751" y="30"/>
                </a:lnTo>
                <a:lnTo>
                  <a:pt x="1766" y="26"/>
                </a:lnTo>
                <a:lnTo>
                  <a:pt x="1780" y="23"/>
                </a:lnTo>
                <a:lnTo>
                  <a:pt x="1793" y="18"/>
                </a:lnTo>
                <a:lnTo>
                  <a:pt x="1807" y="15"/>
                </a:lnTo>
                <a:lnTo>
                  <a:pt x="1820" y="11"/>
                </a:lnTo>
                <a:lnTo>
                  <a:pt x="1833" y="9"/>
                </a:lnTo>
                <a:lnTo>
                  <a:pt x="1846" y="7"/>
                </a:lnTo>
                <a:lnTo>
                  <a:pt x="1859" y="5"/>
                </a:lnTo>
                <a:lnTo>
                  <a:pt x="1871" y="4"/>
                </a:lnTo>
                <a:lnTo>
                  <a:pt x="1884" y="2"/>
                </a:lnTo>
                <a:lnTo>
                  <a:pt x="1895" y="1"/>
                </a:lnTo>
                <a:lnTo>
                  <a:pt x="1907" y="0"/>
                </a:lnTo>
                <a:lnTo>
                  <a:pt x="1918" y="0"/>
                </a:lnTo>
                <a:lnTo>
                  <a:pt x="1929" y="1"/>
                </a:lnTo>
                <a:lnTo>
                  <a:pt x="1939" y="1"/>
                </a:lnTo>
                <a:lnTo>
                  <a:pt x="1950" y="2"/>
                </a:lnTo>
                <a:lnTo>
                  <a:pt x="1960" y="4"/>
                </a:lnTo>
                <a:lnTo>
                  <a:pt x="1970" y="6"/>
                </a:lnTo>
                <a:lnTo>
                  <a:pt x="1980" y="8"/>
                </a:lnTo>
                <a:lnTo>
                  <a:pt x="1989" y="10"/>
                </a:lnTo>
                <a:lnTo>
                  <a:pt x="1998" y="14"/>
                </a:lnTo>
                <a:lnTo>
                  <a:pt x="2007" y="17"/>
                </a:lnTo>
                <a:lnTo>
                  <a:pt x="2016" y="20"/>
                </a:lnTo>
                <a:lnTo>
                  <a:pt x="2024" y="25"/>
                </a:lnTo>
                <a:lnTo>
                  <a:pt x="2033" y="29"/>
                </a:lnTo>
                <a:lnTo>
                  <a:pt x="2041" y="34"/>
                </a:lnTo>
                <a:lnTo>
                  <a:pt x="2047" y="38"/>
                </a:lnTo>
                <a:lnTo>
                  <a:pt x="2055" y="44"/>
                </a:lnTo>
                <a:lnTo>
                  <a:pt x="2062" y="50"/>
                </a:lnTo>
                <a:lnTo>
                  <a:pt x="2067" y="56"/>
                </a:lnTo>
                <a:lnTo>
                  <a:pt x="2074" y="63"/>
                </a:lnTo>
                <a:lnTo>
                  <a:pt x="2080" y="69"/>
                </a:lnTo>
                <a:lnTo>
                  <a:pt x="2085" y="77"/>
                </a:lnTo>
                <a:lnTo>
                  <a:pt x="2091" y="85"/>
                </a:lnTo>
                <a:lnTo>
                  <a:pt x="2095" y="93"/>
                </a:lnTo>
                <a:lnTo>
                  <a:pt x="2100" y="100"/>
                </a:lnTo>
                <a:lnTo>
                  <a:pt x="2104" y="109"/>
                </a:lnTo>
                <a:lnTo>
                  <a:pt x="2108" y="118"/>
                </a:lnTo>
                <a:lnTo>
                  <a:pt x="2112" y="128"/>
                </a:lnTo>
                <a:lnTo>
                  <a:pt x="2115" y="137"/>
                </a:lnTo>
                <a:lnTo>
                  <a:pt x="2118" y="147"/>
                </a:lnTo>
                <a:lnTo>
                  <a:pt x="2121" y="157"/>
                </a:lnTo>
                <a:lnTo>
                  <a:pt x="2123" y="168"/>
                </a:lnTo>
                <a:lnTo>
                  <a:pt x="2125" y="180"/>
                </a:lnTo>
                <a:lnTo>
                  <a:pt x="2127" y="191"/>
                </a:lnTo>
                <a:lnTo>
                  <a:pt x="2128" y="203"/>
                </a:lnTo>
                <a:lnTo>
                  <a:pt x="2130" y="214"/>
                </a:lnTo>
                <a:lnTo>
                  <a:pt x="2131" y="226"/>
                </a:lnTo>
                <a:lnTo>
                  <a:pt x="2131" y="240"/>
                </a:lnTo>
                <a:lnTo>
                  <a:pt x="2131" y="252"/>
                </a:lnTo>
                <a:lnTo>
                  <a:pt x="2131" y="265"/>
                </a:lnTo>
                <a:lnTo>
                  <a:pt x="2130" y="279"/>
                </a:lnTo>
                <a:lnTo>
                  <a:pt x="2130" y="292"/>
                </a:lnTo>
                <a:lnTo>
                  <a:pt x="2128" y="306"/>
                </a:lnTo>
                <a:lnTo>
                  <a:pt x="2126" y="321"/>
                </a:lnTo>
                <a:lnTo>
                  <a:pt x="2124" y="335"/>
                </a:lnTo>
                <a:lnTo>
                  <a:pt x="2122" y="350"/>
                </a:lnTo>
                <a:lnTo>
                  <a:pt x="2120" y="365"/>
                </a:lnTo>
                <a:lnTo>
                  <a:pt x="2117" y="381"/>
                </a:lnTo>
                <a:lnTo>
                  <a:pt x="2114" y="397"/>
                </a:lnTo>
                <a:lnTo>
                  <a:pt x="2111" y="412"/>
                </a:lnTo>
                <a:lnTo>
                  <a:pt x="2106" y="428"/>
                </a:lnTo>
                <a:lnTo>
                  <a:pt x="2103" y="444"/>
                </a:lnTo>
                <a:lnTo>
                  <a:pt x="2098" y="461"/>
                </a:lnTo>
                <a:lnTo>
                  <a:pt x="2093" y="478"/>
                </a:lnTo>
                <a:lnTo>
                  <a:pt x="2088" y="496"/>
                </a:lnTo>
                <a:lnTo>
                  <a:pt x="2083" y="512"/>
                </a:lnTo>
                <a:lnTo>
                  <a:pt x="2077" y="530"/>
                </a:lnTo>
                <a:lnTo>
                  <a:pt x="2071" y="548"/>
                </a:lnTo>
                <a:lnTo>
                  <a:pt x="2065" y="566"/>
                </a:lnTo>
                <a:lnTo>
                  <a:pt x="2058" y="584"/>
                </a:lnTo>
                <a:lnTo>
                  <a:pt x="2052" y="603"/>
                </a:lnTo>
                <a:lnTo>
                  <a:pt x="2044" y="620"/>
                </a:lnTo>
                <a:lnTo>
                  <a:pt x="2036" y="639"/>
                </a:lnTo>
                <a:lnTo>
                  <a:pt x="2028" y="658"/>
                </a:lnTo>
                <a:lnTo>
                  <a:pt x="2020" y="677"/>
                </a:lnTo>
                <a:lnTo>
                  <a:pt x="2013" y="696"/>
                </a:lnTo>
                <a:lnTo>
                  <a:pt x="2004" y="716"/>
                </a:lnTo>
                <a:lnTo>
                  <a:pt x="1995" y="735"/>
                </a:lnTo>
                <a:lnTo>
                  <a:pt x="1985" y="755"/>
                </a:lnTo>
                <a:lnTo>
                  <a:pt x="1976" y="775"/>
                </a:lnTo>
                <a:lnTo>
                  <a:pt x="1966" y="795"/>
                </a:lnTo>
                <a:lnTo>
                  <a:pt x="1956" y="815"/>
                </a:lnTo>
                <a:lnTo>
                  <a:pt x="1945" y="835"/>
                </a:lnTo>
                <a:lnTo>
                  <a:pt x="1935" y="856"/>
                </a:lnTo>
                <a:lnTo>
                  <a:pt x="1924" y="876"/>
                </a:lnTo>
                <a:lnTo>
                  <a:pt x="1912" y="896"/>
                </a:lnTo>
                <a:lnTo>
                  <a:pt x="1901" y="918"/>
                </a:lnTo>
                <a:lnTo>
                  <a:pt x="1889" y="939"/>
                </a:lnTo>
                <a:lnTo>
                  <a:pt x="1878" y="959"/>
                </a:lnTo>
                <a:lnTo>
                  <a:pt x="1866" y="980"/>
                </a:lnTo>
                <a:lnTo>
                  <a:pt x="1852" y="1001"/>
                </a:lnTo>
                <a:lnTo>
                  <a:pt x="1840" y="1022"/>
                </a:lnTo>
                <a:lnTo>
                  <a:pt x="1827" y="1043"/>
                </a:lnTo>
                <a:lnTo>
                  <a:pt x="1815" y="1065"/>
                </a:lnTo>
                <a:lnTo>
                  <a:pt x="1801" y="1086"/>
                </a:lnTo>
                <a:lnTo>
                  <a:pt x="1787" y="1107"/>
                </a:lnTo>
                <a:lnTo>
                  <a:pt x="1773" y="1128"/>
                </a:lnTo>
                <a:lnTo>
                  <a:pt x="1759" y="1150"/>
                </a:lnTo>
                <a:lnTo>
                  <a:pt x="1745" y="1171"/>
                </a:lnTo>
                <a:lnTo>
                  <a:pt x="1731" y="1193"/>
                </a:lnTo>
                <a:lnTo>
                  <a:pt x="1715" y="1214"/>
                </a:lnTo>
                <a:lnTo>
                  <a:pt x="1701" y="1236"/>
                </a:lnTo>
                <a:lnTo>
                  <a:pt x="1686" y="1257"/>
                </a:lnTo>
                <a:lnTo>
                  <a:pt x="1671" y="1278"/>
                </a:lnTo>
                <a:lnTo>
                  <a:pt x="1655" y="1299"/>
                </a:lnTo>
                <a:lnTo>
                  <a:pt x="1640" y="1321"/>
                </a:lnTo>
                <a:lnTo>
                  <a:pt x="1624" y="1343"/>
                </a:lnTo>
                <a:lnTo>
                  <a:pt x="1607" y="1364"/>
                </a:lnTo>
                <a:lnTo>
                  <a:pt x="1592" y="1385"/>
                </a:lnTo>
                <a:lnTo>
                  <a:pt x="1575" y="1406"/>
                </a:lnTo>
                <a:lnTo>
                  <a:pt x="1560" y="1427"/>
                </a:lnTo>
                <a:lnTo>
                  <a:pt x="1543" y="1449"/>
                </a:lnTo>
                <a:lnTo>
                  <a:pt x="1526" y="1470"/>
                </a:lnTo>
                <a:lnTo>
                  <a:pt x="1508" y="1491"/>
                </a:lnTo>
                <a:lnTo>
                  <a:pt x="1492" y="1511"/>
                </a:lnTo>
                <a:lnTo>
                  <a:pt x="1475" y="1532"/>
                </a:lnTo>
                <a:lnTo>
                  <a:pt x="1457" y="1552"/>
                </a:lnTo>
                <a:lnTo>
                  <a:pt x="1457" y="1553"/>
                </a:lnTo>
                <a:close/>
              </a:path>
            </a:pathLst>
          </a:custGeom>
          <a:solidFill>
            <a:srgbClr val="b2b2b2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89280" y="3981240"/>
            <a:ext cx="361800" cy="276120"/>
          </a:xfrm>
          <a:prstGeom prst="line">
            <a:avLst/>
          </a:prstGeom>
          <a:ln w="255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56000" y="632448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84280" y="2603520"/>
            <a:ext cx="4447440" cy="3784680"/>
            <a:chOff x="584280" y="2603520"/>
            <a:chExt cx="4447440" cy="3784680"/>
          </a:xfrm>
        </p:grpSpPr>
        <p:grpSp>
          <p:nvGrpSpPr>
            <p:cNvPr id="307" name=""/>
            <p:cNvGrpSpPr/>
            <p:nvPr/>
          </p:nvGrpSpPr>
          <p:grpSpPr>
            <a:xfrm>
              <a:off x="584280" y="2603520"/>
              <a:ext cx="3835440" cy="3784680"/>
              <a:chOff x="584280" y="2603520"/>
              <a:chExt cx="3835440" cy="3784680"/>
            </a:xfrm>
          </p:grpSpPr>
          <p:sp>
            <p:nvSpPr>
              <p:cNvPr id="308" name=""/>
              <p:cNvSpPr/>
              <p:nvPr/>
            </p:nvSpPr>
            <p:spPr>
              <a:xfrm>
                <a:off x="3416400" y="3975120"/>
                <a:ext cx="990360" cy="237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866960" y="5460840"/>
                <a:ext cx="2552760" cy="90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4280" y="4203720"/>
                <a:ext cx="3835440" cy="218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89120" y="2603520"/>
                <a:ext cx="2717640" cy="37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879560" y="4254480"/>
                <a:ext cx="2540160" cy="21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4440960" y="582300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28C-1CB1-421E-99CF-4873C7EF35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XR4000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627200" y="1236600"/>
            <a:ext cx="5854680" cy="4390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515040" y="5802480"/>
            <a:ext cx="3917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courtesy by Oliver Brock &amp; Oussama Khatib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051-639A-44E1-9345-33001B255011}" type="slidenum">
              <a:t>11</a:t>
            </a:fld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53500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9" dur="1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Mecanum Wheel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22920" y="809640"/>
                <a:ext cx="40719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66760" y="2525760"/>
            <a:ext cx="448308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EFB-2464-4138-ACDF-F5B1C8E4D2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Example: Priamos (Karlsruhe)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028960" y="1749600"/>
            <a:ext cx="4741560" cy="372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290-ACBE-4C2A-84A7-A19BFFB6905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11280" y="1355760"/>
            <a:ext cx="6127920" cy="41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F31-A99F-4CC5-8D15-50F67CD04DA8}" type="slidenum">
              <a:t>14</a:t>
            </a:fld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27289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6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Odomet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734000" y="1913040"/>
            <a:ext cx="4052880" cy="35226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85640" y="2695680"/>
            <a:ext cx="3670560" cy="26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425-8F39-44C8-A5C0-104D861265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12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n-Holonomic Constraint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71600" y="1306440"/>
            <a:ext cx="855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holonomic constraints limit the possible incremental movements within the configuration space of the robo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bots with differential drive or synchro-drive move on a circular trajectory and cannot move sideway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R-4000 or Mecanum-wheeled robots can move sideway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C30-EC66-47D3-BC1A-9416A0064A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lonomic vs. Non-Holonomic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holonomic constraints reduce the control space with respect to the current configuration (e.g., moving sideways is impossible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lonomic constraints reduce the configuration sp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F40-C3DE-4663-A540-5D1FCC3E80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ocomotion of Wheeled Robot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230120"/>
            <a:ext cx="841032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comotion (Oxford Dict.)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 of motion from place to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l drive (AmigoBot, Pioneer 2-D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 drive (Ackerman steer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chronous drive (B2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canum wheels, XR4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63560" y="2365200"/>
            <a:ext cx="5191200" cy="1719360"/>
          </a:xfrm>
          <a:prstGeom prst="rect">
            <a:avLst/>
          </a:prstGeom>
          <a:ln w="25560">
            <a:solidFill>
              <a:srgbClr val="0033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107-FC21-427A-ABC9-D392490C36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Instantaneous Center of Curvature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94360" y="1380240"/>
            <a:ext cx="2795760" cy="3435840"/>
            <a:chOff x="594360" y="1380240"/>
            <a:chExt cx="2795760" cy="3435840"/>
          </a:xfrm>
        </p:grpSpPr>
        <p:sp>
          <p:nvSpPr>
            <p:cNvPr id="91" name=""/>
            <p:cNvSpPr/>
            <p:nvPr/>
          </p:nvSpPr>
          <p:spPr>
            <a:xfrm>
              <a:off x="776160" y="1607040"/>
              <a:ext cx="2509920" cy="3209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393920" y="1380240"/>
              <a:ext cx="82440" cy="3261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4360" y="1891800"/>
              <a:ext cx="2795760" cy="208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961200" y="1644480"/>
            <a:ext cx="2591640" cy="3343680"/>
            <a:chOff x="961200" y="1644480"/>
            <a:chExt cx="2591640" cy="3343680"/>
          </a:xfrm>
        </p:grpSpPr>
        <p:sp>
          <p:nvSpPr>
            <p:cNvPr id="95" name=""/>
            <p:cNvSpPr/>
            <p:nvPr/>
          </p:nvSpPr>
          <p:spPr>
            <a:xfrm rot="19319400">
              <a:off x="2719080" y="4572000"/>
              <a:ext cx="876240" cy="163440"/>
            </a:xfrm>
            <a:custGeom>
              <a:avLst/>
              <a:gdLst/>
              <a:ahLst/>
              <a:rect l="l" t="t" r="r" b="b"/>
              <a:pathLst>
                <a:path w="3315" h="622">
                  <a:moveTo>
                    <a:pt x="3315" y="312"/>
                  </a:moveTo>
                  <a:lnTo>
                    <a:pt x="3315" y="317"/>
                  </a:lnTo>
                  <a:lnTo>
                    <a:pt x="3314" y="322"/>
                  </a:lnTo>
                  <a:lnTo>
                    <a:pt x="3313" y="328"/>
                  </a:lnTo>
                  <a:lnTo>
                    <a:pt x="3311" y="333"/>
                  </a:lnTo>
                  <a:lnTo>
                    <a:pt x="3309" y="338"/>
                  </a:lnTo>
                  <a:lnTo>
                    <a:pt x="3307" y="344"/>
                  </a:lnTo>
                  <a:lnTo>
                    <a:pt x="3303" y="349"/>
                  </a:lnTo>
                  <a:lnTo>
                    <a:pt x="3299" y="354"/>
                  </a:lnTo>
                  <a:lnTo>
                    <a:pt x="3295" y="360"/>
                  </a:lnTo>
                  <a:lnTo>
                    <a:pt x="3290" y="365"/>
                  </a:lnTo>
                  <a:lnTo>
                    <a:pt x="3284" y="370"/>
                  </a:lnTo>
                  <a:lnTo>
                    <a:pt x="3279" y="376"/>
                  </a:lnTo>
                  <a:lnTo>
                    <a:pt x="3273" y="381"/>
                  </a:lnTo>
                  <a:lnTo>
                    <a:pt x="3266" y="386"/>
                  </a:lnTo>
                  <a:lnTo>
                    <a:pt x="3259" y="392"/>
                  </a:lnTo>
                  <a:lnTo>
                    <a:pt x="3251" y="397"/>
                  </a:lnTo>
                  <a:lnTo>
                    <a:pt x="3243" y="402"/>
                  </a:lnTo>
                  <a:lnTo>
                    <a:pt x="3234" y="408"/>
                  </a:lnTo>
                  <a:lnTo>
                    <a:pt x="3225" y="413"/>
                  </a:lnTo>
                  <a:lnTo>
                    <a:pt x="3215" y="418"/>
                  </a:lnTo>
                  <a:lnTo>
                    <a:pt x="3204" y="423"/>
                  </a:lnTo>
                  <a:lnTo>
                    <a:pt x="3194" y="428"/>
                  </a:lnTo>
                  <a:lnTo>
                    <a:pt x="3183" y="433"/>
                  </a:lnTo>
                  <a:lnTo>
                    <a:pt x="3171" y="439"/>
                  </a:lnTo>
                  <a:lnTo>
                    <a:pt x="3159" y="443"/>
                  </a:lnTo>
                  <a:lnTo>
                    <a:pt x="3147" y="448"/>
                  </a:lnTo>
                  <a:lnTo>
                    <a:pt x="3134" y="452"/>
                  </a:lnTo>
                  <a:lnTo>
                    <a:pt x="3120" y="458"/>
                  </a:lnTo>
                  <a:lnTo>
                    <a:pt x="3106" y="462"/>
                  </a:lnTo>
                  <a:lnTo>
                    <a:pt x="3092" y="467"/>
                  </a:lnTo>
                  <a:lnTo>
                    <a:pt x="3077" y="472"/>
                  </a:lnTo>
                  <a:lnTo>
                    <a:pt x="3062" y="477"/>
                  </a:lnTo>
                  <a:lnTo>
                    <a:pt x="3046" y="481"/>
                  </a:lnTo>
                  <a:lnTo>
                    <a:pt x="3030" y="486"/>
                  </a:lnTo>
                  <a:lnTo>
                    <a:pt x="3013" y="490"/>
                  </a:lnTo>
                  <a:lnTo>
                    <a:pt x="2997" y="494"/>
                  </a:lnTo>
                  <a:lnTo>
                    <a:pt x="2979" y="499"/>
                  </a:lnTo>
                  <a:lnTo>
                    <a:pt x="2962" y="504"/>
                  </a:lnTo>
                  <a:lnTo>
                    <a:pt x="2944" y="508"/>
                  </a:lnTo>
                  <a:lnTo>
                    <a:pt x="2925" y="512"/>
                  </a:lnTo>
                  <a:lnTo>
                    <a:pt x="2907" y="515"/>
                  </a:lnTo>
                  <a:lnTo>
                    <a:pt x="2888" y="520"/>
                  </a:lnTo>
                  <a:lnTo>
                    <a:pt x="2867" y="524"/>
                  </a:lnTo>
                  <a:lnTo>
                    <a:pt x="2847" y="528"/>
                  </a:lnTo>
                  <a:lnTo>
                    <a:pt x="2827" y="531"/>
                  </a:lnTo>
                  <a:lnTo>
                    <a:pt x="2807" y="536"/>
                  </a:lnTo>
                  <a:lnTo>
                    <a:pt x="2785" y="539"/>
                  </a:lnTo>
                  <a:lnTo>
                    <a:pt x="2764" y="543"/>
                  </a:lnTo>
                  <a:lnTo>
                    <a:pt x="2743" y="546"/>
                  </a:lnTo>
                  <a:lnTo>
                    <a:pt x="2720" y="550"/>
                  </a:lnTo>
                  <a:lnTo>
                    <a:pt x="2698" y="554"/>
                  </a:lnTo>
                  <a:lnTo>
                    <a:pt x="2674" y="557"/>
                  </a:lnTo>
                  <a:lnTo>
                    <a:pt x="2652" y="560"/>
                  </a:lnTo>
                  <a:lnTo>
                    <a:pt x="2628" y="563"/>
                  </a:lnTo>
                  <a:lnTo>
                    <a:pt x="2605" y="567"/>
                  </a:lnTo>
                  <a:lnTo>
                    <a:pt x="2580" y="570"/>
                  </a:lnTo>
                  <a:lnTo>
                    <a:pt x="2557" y="573"/>
                  </a:lnTo>
                  <a:lnTo>
                    <a:pt x="2532" y="575"/>
                  </a:lnTo>
                  <a:lnTo>
                    <a:pt x="2507" y="578"/>
                  </a:lnTo>
                  <a:lnTo>
                    <a:pt x="2482" y="582"/>
                  </a:lnTo>
                  <a:lnTo>
                    <a:pt x="2457" y="584"/>
                  </a:lnTo>
                  <a:lnTo>
                    <a:pt x="2431" y="586"/>
                  </a:lnTo>
                  <a:lnTo>
                    <a:pt x="2406" y="589"/>
                  </a:lnTo>
                  <a:lnTo>
                    <a:pt x="2380" y="591"/>
                  </a:lnTo>
                  <a:lnTo>
                    <a:pt x="2353" y="593"/>
                  </a:lnTo>
                  <a:lnTo>
                    <a:pt x="2327" y="595"/>
                  </a:lnTo>
                  <a:lnTo>
                    <a:pt x="2300" y="598"/>
                  </a:lnTo>
                  <a:lnTo>
                    <a:pt x="2273" y="600"/>
                  </a:lnTo>
                  <a:lnTo>
                    <a:pt x="2247" y="602"/>
                  </a:lnTo>
                  <a:lnTo>
                    <a:pt x="2219" y="604"/>
                  </a:lnTo>
                  <a:lnTo>
                    <a:pt x="2191" y="606"/>
                  </a:lnTo>
                  <a:lnTo>
                    <a:pt x="2165" y="607"/>
                  </a:lnTo>
                  <a:lnTo>
                    <a:pt x="2137" y="609"/>
                  </a:lnTo>
                  <a:lnTo>
                    <a:pt x="2109" y="610"/>
                  </a:lnTo>
                  <a:lnTo>
                    <a:pt x="2080" y="612"/>
                  </a:lnTo>
                  <a:lnTo>
                    <a:pt x="2053" y="614"/>
                  </a:lnTo>
                  <a:lnTo>
                    <a:pt x="2024" y="615"/>
                  </a:lnTo>
                  <a:lnTo>
                    <a:pt x="1996" y="616"/>
                  </a:lnTo>
                  <a:lnTo>
                    <a:pt x="1967" y="617"/>
                  </a:lnTo>
                  <a:lnTo>
                    <a:pt x="1939" y="618"/>
                  </a:lnTo>
                  <a:lnTo>
                    <a:pt x="1911" y="619"/>
                  </a:lnTo>
                  <a:lnTo>
                    <a:pt x="1882" y="620"/>
                  </a:lnTo>
                  <a:lnTo>
                    <a:pt x="1853" y="620"/>
                  </a:lnTo>
                  <a:lnTo>
                    <a:pt x="1824" y="621"/>
                  </a:lnTo>
                  <a:lnTo>
                    <a:pt x="1795" y="621"/>
                  </a:lnTo>
                  <a:lnTo>
                    <a:pt x="1766" y="622"/>
                  </a:lnTo>
                  <a:lnTo>
                    <a:pt x="1737" y="622"/>
                  </a:lnTo>
                  <a:lnTo>
                    <a:pt x="1708" y="622"/>
                  </a:lnTo>
                  <a:lnTo>
                    <a:pt x="1679" y="622"/>
                  </a:lnTo>
                  <a:lnTo>
                    <a:pt x="1651" y="622"/>
                  </a:lnTo>
                  <a:lnTo>
                    <a:pt x="1621" y="622"/>
                  </a:lnTo>
                  <a:lnTo>
                    <a:pt x="1592" y="622"/>
                  </a:lnTo>
                  <a:lnTo>
                    <a:pt x="1563" y="622"/>
                  </a:lnTo>
                  <a:lnTo>
                    <a:pt x="1534" y="621"/>
                  </a:lnTo>
                  <a:lnTo>
                    <a:pt x="1506" y="621"/>
                  </a:lnTo>
                  <a:lnTo>
                    <a:pt x="1477" y="620"/>
                  </a:lnTo>
                  <a:lnTo>
                    <a:pt x="1448" y="620"/>
                  </a:lnTo>
                  <a:lnTo>
                    <a:pt x="1419" y="619"/>
                  </a:lnTo>
                  <a:lnTo>
                    <a:pt x="1390" y="618"/>
                  </a:lnTo>
                  <a:lnTo>
                    <a:pt x="1362" y="618"/>
                  </a:lnTo>
                  <a:lnTo>
                    <a:pt x="1333" y="617"/>
                  </a:lnTo>
                  <a:lnTo>
                    <a:pt x="1305" y="616"/>
                  </a:lnTo>
                  <a:lnTo>
                    <a:pt x="1276" y="614"/>
                  </a:lnTo>
                  <a:lnTo>
                    <a:pt x="1249" y="612"/>
                  </a:lnTo>
                  <a:lnTo>
                    <a:pt x="1220" y="611"/>
                  </a:lnTo>
                  <a:lnTo>
                    <a:pt x="1192" y="609"/>
                  </a:lnTo>
                  <a:lnTo>
                    <a:pt x="1164" y="608"/>
                  </a:lnTo>
                  <a:lnTo>
                    <a:pt x="1137" y="606"/>
                  </a:lnTo>
                  <a:lnTo>
                    <a:pt x="1109" y="605"/>
                  </a:lnTo>
                  <a:lnTo>
                    <a:pt x="1082" y="603"/>
                  </a:lnTo>
                  <a:lnTo>
                    <a:pt x="1055" y="601"/>
                  </a:lnTo>
                  <a:lnTo>
                    <a:pt x="1028" y="599"/>
                  </a:lnTo>
                  <a:lnTo>
                    <a:pt x="1001" y="596"/>
                  </a:lnTo>
                  <a:lnTo>
                    <a:pt x="975" y="594"/>
                  </a:lnTo>
                  <a:lnTo>
                    <a:pt x="948" y="592"/>
                  </a:lnTo>
                  <a:lnTo>
                    <a:pt x="922" y="590"/>
                  </a:lnTo>
                  <a:lnTo>
                    <a:pt x="897" y="588"/>
                  </a:lnTo>
                  <a:lnTo>
                    <a:pt x="871" y="585"/>
                  </a:lnTo>
                  <a:lnTo>
                    <a:pt x="846" y="583"/>
                  </a:lnTo>
                  <a:lnTo>
                    <a:pt x="820" y="579"/>
                  </a:lnTo>
                  <a:lnTo>
                    <a:pt x="796" y="577"/>
                  </a:lnTo>
                  <a:lnTo>
                    <a:pt x="771" y="574"/>
                  </a:lnTo>
                  <a:lnTo>
                    <a:pt x="746" y="571"/>
                  </a:lnTo>
                  <a:lnTo>
                    <a:pt x="722" y="568"/>
                  </a:lnTo>
                  <a:lnTo>
                    <a:pt x="698" y="564"/>
                  </a:lnTo>
                  <a:lnTo>
                    <a:pt x="675" y="561"/>
                  </a:lnTo>
                  <a:lnTo>
                    <a:pt x="652" y="558"/>
                  </a:lnTo>
                  <a:lnTo>
                    <a:pt x="628" y="555"/>
                  </a:lnTo>
                  <a:lnTo>
                    <a:pt x="606" y="552"/>
                  </a:lnTo>
                  <a:lnTo>
                    <a:pt x="583" y="548"/>
                  </a:lnTo>
                  <a:lnTo>
                    <a:pt x="562" y="544"/>
                  </a:lnTo>
                  <a:lnTo>
                    <a:pt x="541" y="541"/>
                  </a:lnTo>
                  <a:lnTo>
                    <a:pt x="519" y="538"/>
                  </a:lnTo>
                  <a:lnTo>
                    <a:pt x="498" y="534"/>
                  </a:lnTo>
                  <a:lnTo>
                    <a:pt x="478" y="529"/>
                  </a:lnTo>
                  <a:lnTo>
                    <a:pt x="457" y="526"/>
                  </a:lnTo>
                  <a:lnTo>
                    <a:pt x="437" y="522"/>
                  </a:lnTo>
                  <a:lnTo>
                    <a:pt x="418" y="518"/>
                  </a:lnTo>
                  <a:lnTo>
                    <a:pt x="399" y="513"/>
                  </a:lnTo>
                  <a:lnTo>
                    <a:pt x="380" y="510"/>
                  </a:lnTo>
                  <a:lnTo>
                    <a:pt x="362" y="506"/>
                  </a:lnTo>
                  <a:lnTo>
                    <a:pt x="344" y="502"/>
                  </a:lnTo>
                  <a:lnTo>
                    <a:pt x="326" y="497"/>
                  </a:lnTo>
                  <a:lnTo>
                    <a:pt x="309" y="492"/>
                  </a:lnTo>
                  <a:lnTo>
                    <a:pt x="292" y="488"/>
                  </a:lnTo>
                  <a:lnTo>
                    <a:pt x="276" y="483"/>
                  </a:lnTo>
                  <a:lnTo>
                    <a:pt x="260" y="479"/>
                  </a:lnTo>
                  <a:lnTo>
                    <a:pt x="245" y="474"/>
                  </a:lnTo>
                  <a:lnTo>
                    <a:pt x="230" y="470"/>
                  </a:lnTo>
                  <a:lnTo>
                    <a:pt x="215" y="465"/>
                  </a:lnTo>
                  <a:lnTo>
                    <a:pt x="202" y="460"/>
                  </a:lnTo>
                  <a:lnTo>
                    <a:pt x="188" y="456"/>
                  </a:lnTo>
                  <a:lnTo>
                    <a:pt x="175" y="450"/>
                  </a:lnTo>
                  <a:lnTo>
                    <a:pt x="162" y="446"/>
                  </a:lnTo>
                  <a:lnTo>
                    <a:pt x="149" y="441"/>
                  </a:lnTo>
                  <a:lnTo>
                    <a:pt x="138" y="435"/>
                  </a:lnTo>
                  <a:lnTo>
                    <a:pt x="126" y="431"/>
                  </a:lnTo>
                  <a:lnTo>
                    <a:pt x="115" y="426"/>
                  </a:lnTo>
                  <a:lnTo>
                    <a:pt x="105" y="420"/>
                  </a:lnTo>
                  <a:lnTo>
                    <a:pt x="95" y="415"/>
                  </a:lnTo>
                  <a:lnTo>
                    <a:pt x="85" y="410"/>
                  </a:lnTo>
                  <a:lnTo>
                    <a:pt x="77" y="406"/>
                  </a:lnTo>
                  <a:lnTo>
                    <a:pt x="68" y="400"/>
                  </a:lnTo>
                  <a:lnTo>
                    <a:pt x="60" y="395"/>
                  </a:lnTo>
                  <a:lnTo>
                    <a:pt x="52" y="390"/>
                  </a:lnTo>
                  <a:lnTo>
                    <a:pt x="46" y="384"/>
                  </a:lnTo>
                  <a:lnTo>
                    <a:pt x="39" y="379"/>
                  </a:lnTo>
                  <a:lnTo>
                    <a:pt x="33" y="374"/>
                  </a:lnTo>
                  <a:lnTo>
                    <a:pt x="28" y="368"/>
                  </a:lnTo>
                  <a:lnTo>
                    <a:pt x="22" y="363"/>
                  </a:lnTo>
                  <a:lnTo>
                    <a:pt x="18" y="358"/>
                  </a:lnTo>
                  <a:lnTo>
                    <a:pt x="14" y="352"/>
                  </a:lnTo>
                  <a:lnTo>
                    <a:pt x="11" y="347"/>
                  </a:lnTo>
                  <a:lnTo>
                    <a:pt x="8" y="342"/>
                  </a:lnTo>
                  <a:lnTo>
                    <a:pt x="4" y="336"/>
                  </a:lnTo>
                  <a:lnTo>
                    <a:pt x="2" y="331"/>
                  </a:lnTo>
                  <a:lnTo>
                    <a:pt x="1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1" y="298"/>
                  </a:lnTo>
                  <a:lnTo>
                    <a:pt x="2" y="293"/>
                  </a:lnTo>
                  <a:lnTo>
                    <a:pt x="4" y="287"/>
                  </a:lnTo>
                  <a:lnTo>
                    <a:pt x="8" y="282"/>
                  </a:lnTo>
                  <a:lnTo>
                    <a:pt x="11" y="277"/>
                  </a:lnTo>
                  <a:lnTo>
                    <a:pt x="14" y="271"/>
                  </a:lnTo>
                  <a:lnTo>
                    <a:pt x="18" y="265"/>
                  </a:lnTo>
                  <a:lnTo>
                    <a:pt x="22" y="259"/>
                  </a:lnTo>
                  <a:lnTo>
                    <a:pt x="28" y="254"/>
                  </a:lnTo>
                  <a:lnTo>
                    <a:pt x="33" y="249"/>
                  </a:lnTo>
                  <a:lnTo>
                    <a:pt x="39" y="243"/>
                  </a:lnTo>
                  <a:lnTo>
                    <a:pt x="46" y="238"/>
                  </a:lnTo>
                  <a:lnTo>
                    <a:pt x="52" y="233"/>
                  </a:lnTo>
                  <a:lnTo>
                    <a:pt x="60" y="229"/>
                  </a:lnTo>
                  <a:lnTo>
                    <a:pt x="68" y="223"/>
                  </a:lnTo>
                  <a:lnTo>
                    <a:pt x="77" y="218"/>
                  </a:lnTo>
                  <a:lnTo>
                    <a:pt x="85" y="213"/>
                  </a:lnTo>
                  <a:lnTo>
                    <a:pt x="95" y="207"/>
                  </a:lnTo>
                  <a:lnTo>
                    <a:pt x="105" y="202"/>
                  </a:lnTo>
                  <a:lnTo>
                    <a:pt x="115" y="198"/>
                  </a:lnTo>
                  <a:lnTo>
                    <a:pt x="126" y="192"/>
                  </a:lnTo>
                  <a:lnTo>
                    <a:pt x="138" y="187"/>
                  </a:lnTo>
                  <a:lnTo>
                    <a:pt x="149" y="182"/>
                  </a:lnTo>
                  <a:lnTo>
                    <a:pt x="162" y="177"/>
                  </a:lnTo>
                  <a:lnTo>
                    <a:pt x="175" y="172"/>
                  </a:lnTo>
                  <a:lnTo>
                    <a:pt x="188" y="168"/>
                  </a:lnTo>
                  <a:lnTo>
                    <a:pt x="202" y="162"/>
                  </a:lnTo>
                  <a:lnTo>
                    <a:pt x="215" y="158"/>
                  </a:lnTo>
                  <a:lnTo>
                    <a:pt x="230" y="153"/>
                  </a:lnTo>
                  <a:lnTo>
                    <a:pt x="245" y="149"/>
                  </a:lnTo>
                  <a:lnTo>
                    <a:pt x="260" y="144"/>
                  </a:lnTo>
                  <a:lnTo>
                    <a:pt x="276" y="139"/>
                  </a:lnTo>
                  <a:lnTo>
                    <a:pt x="292" y="135"/>
                  </a:lnTo>
                  <a:lnTo>
                    <a:pt x="309" y="130"/>
                  </a:lnTo>
                  <a:lnTo>
                    <a:pt x="326" y="126"/>
                  </a:lnTo>
                  <a:lnTo>
                    <a:pt x="343" y="122"/>
                  </a:lnTo>
                  <a:lnTo>
                    <a:pt x="362" y="118"/>
                  </a:lnTo>
                  <a:lnTo>
                    <a:pt x="380" y="113"/>
                  </a:lnTo>
                  <a:lnTo>
                    <a:pt x="399" y="109"/>
                  </a:lnTo>
                  <a:lnTo>
                    <a:pt x="418" y="105"/>
                  </a:lnTo>
                  <a:lnTo>
                    <a:pt x="437" y="101"/>
                  </a:lnTo>
                  <a:lnTo>
                    <a:pt x="457" y="97"/>
                  </a:lnTo>
                  <a:lnTo>
                    <a:pt x="478" y="93"/>
                  </a:lnTo>
                  <a:lnTo>
                    <a:pt x="498" y="89"/>
                  </a:lnTo>
                  <a:lnTo>
                    <a:pt x="519" y="86"/>
                  </a:lnTo>
                  <a:lnTo>
                    <a:pt x="541" y="81"/>
                  </a:lnTo>
                  <a:lnTo>
                    <a:pt x="562" y="78"/>
                  </a:lnTo>
                  <a:lnTo>
                    <a:pt x="583" y="75"/>
                  </a:lnTo>
                  <a:lnTo>
                    <a:pt x="606" y="71"/>
                  </a:lnTo>
                  <a:lnTo>
                    <a:pt x="628" y="67"/>
                  </a:lnTo>
                  <a:lnTo>
                    <a:pt x="652" y="64"/>
                  </a:lnTo>
                  <a:lnTo>
                    <a:pt x="675" y="61"/>
                  </a:lnTo>
                  <a:lnTo>
                    <a:pt x="698" y="58"/>
                  </a:lnTo>
                  <a:lnTo>
                    <a:pt x="722" y="55"/>
                  </a:lnTo>
                  <a:lnTo>
                    <a:pt x="746" y="51"/>
                  </a:lnTo>
                  <a:lnTo>
                    <a:pt x="771" y="48"/>
                  </a:lnTo>
                  <a:lnTo>
                    <a:pt x="796" y="46"/>
                  </a:lnTo>
                  <a:lnTo>
                    <a:pt x="820" y="43"/>
                  </a:lnTo>
                  <a:lnTo>
                    <a:pt x="846" y="41"/>
                  </a:lnTo>
                  <a:lnTo>
                    <a:pt x="870" y="38"/>
                  </a:lnTo>
                  <a:lnTo>
                    <a:pt x="897" y="36"/>
                  </a:lnTo>
                  <a:lnTo>
                    <a:pt x="922" y="32"/>
                  </a:lnTo>
                  <a:lnTo>
                    <a:pt x="948" y="30"/>
                  </a:lnTo>
                  <a:lnTo>
                    <a:pt x="975" y="28"/>
                  </a:lnTo>
                  <a:lnTo>
                    <a:pt x="1001" y="26"/>
                  </a:lnTo>
                  <a:lnTo>
                    <a:pt x="1028" y="24"/>
                  </a:lnTo>
                  <a:lnTo>
                    <a:pt x="1055" y="22"/>
                  </a:lnTo>
                  <a:lnTo>
                    <a:pt x="1082" y="20"/>
                  </a:lnTo>
                  <a:lnTo>
                    <a:pt x="1109" y="18"/>
                  </a:lnTo>
                  <a:lnTo>
                    <a:pt x="1137" y="16"/>
                  </a:lnTo>
                  <a:lnTo>
                    <a:pt x="1164" y="14"/>
                  </a:lnTo>
                  <a:lnTo>
                    <a:pt x="1192" y="13"/>
                  </a:lnTo>
                  <a:lnTo>
                    <a:pt x="1220" y="11"/>
                  </a:lnTo>
                  <a:lnTo>
                    <a:pt x="1249" y="10"/>
                  </a:lnTo>
                  <a:lnTo>
                    <a:pt x="1276" y="9"/>
                  </a:lnTo>
                  <a:lnTo>
                    <a:pt x="1304" y="8"/>
                  </a:lnTo>
                  <a:lnTo>
                    <a:pt x="1333" y="7"/>
                  </a:lnTo>
                  <a:lnTo>
                    <a:pt x="1362" y="6"/>
                  </a:lnTo>
                  <a:lnTo>
                    <a:pt x="1390" y="5"/>
                  </a:lnTo>
                  <a:lnTo>
                    <a:pt x="1419" y="4"/>
                  </a:lnTo>
                  <a:lnTo>
                    <a:pt x="1448" y="2"/>
                  </a:lnTo>
                  <a:lnTo>
                    <a:pt x="1477" y="2"/>
                  </a:lnTo>
                  <a:lnTo>
                    <a:pt x="1506" y="1"/>
                  </a:lnTo>
                  <a:lnTo>
                    <a:pt x="1534" y="1"/>
                  </a:lnTo>
                  <a:lnTo>
                    <a:pt x="1563" y="1"/>
                  </a:lnTo>
                  <a:lnTo>
                    <a:pt x="1592" y="0"/>
                  </a:lnTo>
                  <a:lnTo>
                    <a:pt x="1621" y="0"/>
                  </a:lnTo>
                  <a:lnTo>
                    <a:pt x="1650" y="0"/>
                  </a:lnTo>
                  <a:lnTo>
                    <a:pt x="1679" y="0"/>
                  </a:lnTo>
                  <a:lnTo>
                    <a:pt x="1708" y="0"/>
                  </a:lnTo>
                  <a:lnTo>
                    <a:pt x="1737" y="0"/>
                  </a:lnTo>
                  <a:lnTo>
                    <a:pt x="1766" y="1"/>
                  </a:lnTo>
                  <a:lnTo>
                    <a:pt x="1795" y="1"/>
                  </a:lnTo>
                  <a:lnTo>
                    <a:pt x="1823" y="2"/>
                  </a:lnTo>
                  <a:lnTo>
                    <a:pt x="1853" y="2"/>
                  </a:lnTo>
                  <a:lnTo>
                    <a:pt x="1882" y="4"/>
                  </a:lnTo>
                  <a:lnTo>
                    <a:pt x="1910" y="5"/>
                  </a:lnTo>
                  <a:lnTo>
                    <a:pt x="1939" y="5"/>
                  </a:lnTo>
                  <a:lnTo>
                    <a:pt x="1967" y="6"/>
                  </a:lnTo>
                  <a:lnTo>
                    <a:pt x="1996" y="7"/>
                  </a:lnTo>
                  <a:lnTo>
                    <a:pt x="2024" y="8"/>
                  </a:lnTo>
                  <a:lnTo>
                    <a:pt x="2053" y="10"/>
                  </a:lnTo>
                  <a:lnTo>
                    <a:pt x="2080" y="11"/>
                  </a:lnTo>
                  <a:lnTo>
                    <a:pt x="2108" y="12"/>
                  </a:lnTo>
                  <a:lnTo>
                    <a:pt x="2137" y="14"/>
                  </a:lnTo>
                  <a:lnTo>
                    <a:pt x="2165" y="15"/>
                  </a:lnTo>
                  <a:lnTo>
                    <a:pt x="2191" y="17"/>
                  </a:lnTo>
                  <a:lnTo>
                    <a:pt x="2219" y="18"/>
                  </a:lnTo>
                  <a:lnTo>
                    <a:pt x="2247" y="21"/>
                  </a:lnTo>
                  <a:lnTo>
                    <a:pt x="2273" y="23"/>
                  </a:lnTo>
                  <a:lnTo>
                    <a:pt x="2300" y="25"/>
                  </a:lnTo>
                  <a:lnTo>
                    <a:pt x="2327" y="27"/>
                  </a:lnTo>
                  <a:lnTo>
                    <a:pt x="2353" y="29"/>
                  </a:lnTo>
                  <a:lnTo>
                    <a:pt x="2380" y="31"/>
                  </a:lnTo>
                  <a:lnTo>
                    <a:pt x="2406" y="34"/>
                  </a:lnTo>
                  <a:lnTo>
                    <a:pt x="2431" y="37"/>
                  </a:lnTo>
                  <a:lnTo>
                    <a:pt x="2457" y="39"/>
                  </a:lnTo>
                  <a:lnTo>
                    <a:pt x="2482" y="42"/>
                  </a:lnTo>
                  <a:lnTo>
                    <a:pt x="2507" y="44"/>
                  </a:lnTo>
                  <a:lnTo>
                    <a:pt x="2532" y="47"/>
                  </a:lnTo>
                  <a:lnTo>
                    <a:pt x="2557" y="50"/>
                  </a:lnTo>
                  <a:lnTo>
                    <a:pt x="2580" y="54"/>
                  </a:lnTo>
                  <a:lnTo>
                    <a:pt x="2605" y="56"/>
                  </a:lnTo>
                  <a:lnTo>
                    <a:pt x="2628" y="59"/>
                  </a:lnTo>
                  <a:lnTo>
                    <a:pt x="2652" y="62"/>
                  </a:lnTo>
                  <a:lnTo>
                    <a:pt x="2674" y="65"/>
                  </a:lnTo>
                  <a:lnTo>
                    <a:pt x="2698" y="70"/>
                  </a:lnTo>
                  <a:lnTo>
                    <a:pt x="2720" y="73"/>
                  </a:lnTo>
                  <a:lnTo>
                    <a:pt x="2743" y="76"/>
                  </a:lnTo>
                  <a:lnTo>
                    <a:pt x="2764" y="80"/>
                  </a:lnTo>
                  <a:lnTo>
                    <a:pt x="2785" y="83"/>
                  </a:lnTo>
                  <a:lnTo>
                    <a:pt x="2807" y="88"/>
                  </a:lnTo>
                  <a:lnTo>
                    <a:pt x="2827" y="91"/>
                  </a:lnTo>
                  <a:lnTo>
                    <a:pt x="2847" y="95"/>
                  </a:lnTo>
                  <a:lnTo>
                    <a:pt x="2867" y="98"/>
                  </a:lnTo>
                  <a:lnTo>
                    <a:pt x="2888" y="103"/>
                  </a:lnTo>
                  <a:lnTo>
                    <a:pt x="2907" y="107"/>
                  </a:lnTo>
                  <a:lnTo>
                    <a:pt x="2925" y="111"/>
                  </a:lnTo>
                  <a:lnTo>
                    <a:pt x="2944" y="115"/>
                  </a:lnTo>
                  <a:lnTo>
                    <a:pt x="2962" y="120"/>
                  </a:lnTo>
                  <a:lnTo>
                    <a:pt x="2979" y="124"/>
                  </a:lnTo>
                  <a:lnTo>
                    <a:pt x="2997" y="128"/>
                  </a:lnTo>
                  <a:lnTo>
                    <a:pt x="3013" y="133"/>
                  </a:lnTo>
                  <a:lnTo>
                    <a:pt x="3030" y="137"/>
                  </a:lnTo>
                  <a:lnTo>
                    <a:pt x="3046" y="141"/>
                  </a:lnTo>
                  <a:lnTo>
                    <a:pt x="3062" y="146"/>
                  </a:lnTo>
                  <a:lnTo>
                    <a:pt x="3077" y="151"/>
                  </a:lnTo>
                  <a:lnTo>
                    <a:pt x="3092" y="156"/>
                  </a:lnTo>
                  <a:lnTo>
                    <a:pt x="3106" y="160"/>
                  </a:lnTo>
                  <a:lnTo>
                    <a:pt x="3120" y="165"/>
                  </a:lnTo>
                  <a:lnTo>
                    <a:pt x="3134" y="170"/>
                  </a:lnTo>
                  <a:lnTo>
                    <a:pt x="3147" y="175"/>
                  </a:lnTo>
                  <a:lnTo>
                    <a:pt x="3159" y="179"/>
                  </a:lnTo>
                  <a:lnTo>
                    <a:pt x="3171" y="185"/>
                  </a:lnTo>
                  <a:lnTo>
                    <a:pt x="3183" y="189"/>
                  </a:lnTo>
                  <a:lnTo>
                    <a:pt x="3194" y="194"/>
                  </a:lnTo>
                  <a:lnTo>
                    <a:pt x="3204" y="200"/>
                  </a:lnTo>
                  <a:lnTo>
                    <a:pt x="3215" y="205"/>
                  </a:lnTo>
                  <a:lnTo>
                    <a:pt x="3225" y="209"/>
                  </a:lnTo>
                  <a:lnTo>
                    <a:pt x="3234" y="215"/>
                  </a:lnTo>
                  <a:lnTo>
                    <a:pt x="3243" y="220"/>
                  </a:lnTo>
                  <a:lnTo>
                    <a:pt x="3251" y="225"/>
                  </a:lnTo>
                  <a:lnTo>
                    <a:pt x="3259" y="231"/>
                  </a:lnTo>
                  <a:lnTo>
                    <a:pt x="3266" y="236"/>
                  </a:lnTo>
                  <a:lnTo>
                    <a:pt x="3273" y="241"/>
                  </a:lnTo>
                  <a:lnTo>
                    <a:pt x="3279" y="247"/>
                  </a:lnTo>
                  <a:lnTo>
                    <a:pt x="3284" y="252"/>
                  </a:lnTo>
                  <a:lnTo>
                    <a:pt x="3290" y="257"/>
                  </a:lnTo>
                  <a:lnTo>
                    <a:pt x="3295" y="263"/>
                  </a:lnTo>
                  <a:lnTo>
                    <a:pt x="3299" y="268"/>
                  </a:lnTo>
                  <a:lnTo>
                    <a:pt x="3303" y="273"/>
                  </a:lnTo>
                  <a:lnTo>
                    <a:pt x="3307" y="279"/>
                  </a:lnTo>
                  <a:lnTo>
                    <a:pt x="3309" y="284"/>
                  </a:lnTo>
                  <a:lnTo>
                    <a:pt x="3311" y="289"/>
                  </a:lnTo>
                  <a:lnTo>
                    <a:pt x="3313" y="295"/>
                  </a:lnTo>
                  <a:lnTo>
                    <a:pt x="3314" y="300"/>
                  </a:lnTo>
                  <a:lnTo>
                    <a:pt x="3315" y="306"/>
                  </a:lnTo>
                  <a:lnTo>
                    <a:pt x="3315" y="312"/>
                  </a:lnTo>
                  <a:close/>
                </a:path>
              </a:pathLst>
            </a:custGeom>
            <a:solidFill>
              <a:srgbClr val="b2b2b2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68400">
              <a:off x="1025280" y="4127040"/>
              <a:ext cx="765000" cy="462240"/>
            </a:xfrm>
            <a:custGeom>
              <a:avLst/>
              <a:gdLst/>
              <a:ahLst/>
              <a:rect l="l" t="t" r="r" b="b"/>
              <a:pathLst>
                <a:path w="2887" h="1745">
                  <a:moveTo>
                    <a:pt x="2879" y="42"/>
                  </a:moveTo>
                  <a:lnTo>
                    <a:pt x="2882" y="47"/>
                  </a:lnTo>
                  <a:lnTo>
                    <a:pt x="2884" y="52"/>
                  </a:lnTo>
                  <a:lnTo>
                    <a:pt x="2885" y="58"/>
                  </a:lnTo>
                  <a:lnTo>
                    <a:pt x="2886" y="63"/>
                  </a:lnTo>
                  <a:lnTo>
                    <a:pt x="2887" y="68"/>
                  </a:lnTo>
                  <a:lnTo>
                    <a:pt x="2887" y="75"/>
                  </a:lnTo>
                  <a:lnTo>
                    <a:pt x="2887" y="81"/>
                  </a:lnTo>
                  <a:lnTo>
                    <a:pt x="2886" y="88"/>
                  </a:lnTo>
                  <a:lnTo>
                    <a:pt x="2885" y="94"/>
                  </a:lnTo>
                  <a:lnTo>
                    <a:pt x="2884" y="101"/>
                  </a:lnTo>
                  <a:lnTo>
                    <a:pt x="2882" y="109"/>
                  </a:lnTo>
                  <a:lnTo>
                    <a:pt x="2880" y="116"/>
                  </a:lnTo>
                  <a:lnTo>
                    <a:pt x="2877" y="124"/>
                  </a:lnTo>
                  <a:lnTo>
                    <a:pt x="2874" y="131"/>
                  </a:lnTo>
                  <a:lnTo>
                    <a:pt x="2870" y="140"/>
                  </a:lnTo>
                  <a:lnTo>
                    <a:pt x="2866" y="148"/>
                  </a:lnTo>
                  <a:lnTo>
                    <a:pt x="2862" y="157"/>
                  </a:lnTo>
                  <a:lnTo>
                    <a:pt x="2857" y="165"/>
                  </a:lnTo>
                  <a:lnTo>
                    <a:pt x="2851" y="175"/>
                  </a:lnTo>
                  <a:lnTo>
                    <a:pt x="2845" y="185"/>
                  </a:lnTo>
                  <a:lnTo>
                    <a:pt x="2839" y="194"/>
                  </a:lnTo>
                  <a:lnTo>
                    <a:pt x="2832" y="204"/>
                  </a:lnTo>
                  <a:lnTo>
                    <a:pt x="2826" y="213"/>
                  </a:lnTo>
                  <a:lnTo>
                    <a:pt x="2817" y="223"/>
                  </a:lnTo>
                  <a:lnTo>
                    <a:pt x="2810" y="234"/>
                  </a:lnTo>
                  <a:lnTo>
                    <a:pt x="2801" y="244"/>
                  </a:lnTo>
                  <a:lnTo>
                    <a:pt x="2793" y="255"/>
                  </a:lnTo>
                  <a:lnTo>
                    <a:pt x="2783" y="266"/>
                  </a:lnTo>
                  <a:lnTo>
                    <a:pt x="2773" y="277"/>
                  </a:lnTo>
                  <a:lnTo>
                    <a:pt x="2764" y="288"/>
                  </a:lnTo>
                  <a:lnTo>
                    <a:pt x="2753" y="300"/>
                  </a:lnTo>
                  <a:lnTo>
                    <a:pt x="2742" y="312"/>
                  </a:lnTo>
                  <a:lnTo>
                    <a:pt x="2731" y="323"/>
                  </a:lnTo>
                  <a:lnTo>
                    <a:pt x="2719" y="335"/>
                  </a:lnTo>
                  <a:lnTo>
                    <a:pt x="2707" y="347"/>
                  </a:lnTo>
                  <a:lnTo>
                    <a:pt x="2694" y="360"/>
                  </a:lnTo>
                  <a:lnTo>
                    <a:pt x="2682" y="372"/>
                  </a:lnTo>
                  <a:lnTo>
                    <a:pt x="2669" y="384"/>
                  </a:lnTo>
                  <a:lnTo>
                    <a:pt x="2655" y="397"/>
                  </a:lnTo>
                  <a:lnTo>
                    <a:pt x="2641" y="410"/>
                  </a:lnTo>
                  <a:lnTo>
                    <a:pt x="2627" y="424"/>
                  </a:lnTo>
                  <a:lnTo>
                    <a:pt x="2612" y="436"/>
                  </a:lnTo>
                  <a:lnTo>
                    <a:pt x="2597" y="449"/>
                  </a:lnTo>
                  <a:lnTo>
                    <a:pt x="2582" y="463"/>
                  </a:lnTo>
                  <a:lnTo>
                    <a:pt x="2566" y="477"/>
                  </a:lnTo>
                  <a:lnTo>
                    <a:pt x="2550" y="490"/>
                  </a:lnTo>
                  <a:lnTo>
                    <a:pt x="2533" y="503"/>
                  </a:lnTo>
                  <a:lnTo>
                    <a:pt x="2517" y="517"/>
                  </a:lnTo>
                  <a:lnTo>
                    <a:pt x="2500" y="532"/>
                  </a:lnTo>
                  <a:lnTo>
                    <a:pt x="2482" y="546"/>
                  </a:lnTo>
                  <a:lnTo>
                    <a:pt x="2465" y="560"/>
                  </a:lnTo>
                  <a:lnTo>
                    <a:pt x="2447" y="575"/>
                  </a:lnTo>
                  <a:lnTo>
                    <a:pt x="2429" y="589"/>
                  </a:lnTo>
                  <a:lnTo>
                    <a:pt x="2410" y="604"/>
                  </a:lnTo>
                  <a:lnTo>
                    <a:pt x="2391" y="618"/>
                  </a:lnTo>
                  <a:lnTo>
                    <a:pt x="2371" y="633"/>
                  </a:lnTo>
                  <a:lnTo>
                    <a:pt x="2352" y="647"/>
                  </a:lnTo>
                  <a:lnTo>
                    <a:pt x="2333" y="662"/>
                  </a:lnTo>
                  <a:lnTo>
                    <a:pt x="2313" y="677"/>
                  </a:lnTo>
                  <a:lnTo>
                    <a:pt x="2292" y="692"/>
                  </a:lnTo>
                  <a:lnTo>
                    <a:pt x="2271" y="707"/>
                  </a:lnTo>
                  <a:lnTo>
                    <a:pt x="2251" y="722"/>
                  </a:lnTo>
                  <a:lnTo>
                    <a:pt x="2230" y="737"/>
                  </a:lnTo>
                  <a:lnTo>
                    <a:pt x="2208" y="752"/>
                  </a:lnTo>
                  <a:lnTo>
                    <a:pt x="2187" y="767"/>
                  </a:lnTo>
                  <a:lnTo>
                    <a:pt x="2164" y="782"/>
                  </a:lnTo>
                  <a:lnTo>
                    <a:pt x="2143" y="798"/>
                  </a:lnTo>
                  <a:lnTo>
                    <a:pt x="2121" y="813"/>
                  </a:lnTo>
                  <a:lnTo>
                    <a:pt x="2098" y="828"/>
                  </a:lnTo>
                  <a:lnTo>
                    <a:pt x="2076" y="844"/>
                  </a:lnTo>
                  <a:lnTo>
                    <a:pt x="2053" y="859"/>
                  </a:lnTo>
                  <a:lnTo>
                    <a:pt x="2030" y="874"/>
                  </a:lnTo>
                  <a:lnTo>
                    <a:pt x="2007" y="890"/>
                  </a:lnTo>
                  <a:lnTo>
                    <a:pt x="1983" y="904"/>
                  </a:lnTo>
                  <a:lnTo>
                    <a:pt x="1960" y="919"/>
                  </a:lnTo>
                  <a:lnTo>
                    <a:pt x="1936" y="934"/>
                  </a:lnTo>
                  <a:lnTo>
                    <a:pt x="1913" y="950"/>
                  </a:lnTo>
                  <a:lnTo>
                    <a:pt x="1888" y="965"/>
                  </a:lnTo>
                  <a:lnTo>
                    <a:pt x="1864" y="980"/>
                  </a:lnTo>
                  <a:lnTo>
                    <a:pt x="1840" y="995"/>
                  </a:lnTo>
                  <a:lnTo>
                    <a:pt x="1816" y="1011"/>
                  </a:lnTo>
                  <a:lnTo>
                    <a:pt x="1791" y="1026"/>
                  </a:lnTo>
                  <a:lnTo>
                    <a:pt x="1767" y="1041"/>
                  </a:lnTo>
                  <a:lnTo>
                    <a:pt x="1742" y="1056"/>
                  </a:lnTo>
                  <a:lnTo>
                    <a:pt x="1717" y="1071"/>
                  </a:lnTo>
                  <a:lnTo>
                    <a:pt x="1692" y="1086"/>
                  </a:lnTo>
                  <a:lnTo>
                    <a:pt x="1668" y="1101"/>
                  </a:lnTo>
                  <a:lnTo>
                    <a:pt x="1642" y="1115"/>
                  </a:lnTo>
                  <a:lnTo>
                    <a:pt x="1617" y="1130"/>
                  </a:lnTo>
                  <a:lnTo>
                    <a:pt x="1592" y="1144"/>
                  </a:lnTo>
                  <a:lnTo>
                    <a:pt x="1567" y="1158"/>
                  </a:lnTo>
                  <a:lnTo>
                    <a:pt x="1542" y="1173"/>
                  </a:lnTo>
                  <a:lnTo>
                    <a:pt x="1516" y="1187"/>
                  </a:lnTo>
                  <a:lnTo>
                    <a:pt x="1492" y="1202"/>
                  </a:lnTo>
                  <a:lnTo>
                    <a:pt x="1466" y="1216"/>
                  </a:lnTo>
                  <a:lnTo>
                    <a:pt x="1440" y="1230"/>
                  </a:lnTo>
                  <a:lnTo>
                    <a:pt x="1416" y="1244"/>
                  </a:lnTo>
                  <a:lnTo>
                    <a:pt x="1390" y="1257"/>
                  </a:lnTo>
                  <a:lnTo>
                    <a:pt x="1365" y="1271"/>
                  </a:lnTo>
                  <a:lnTo>
                    <a:pt x="1340" y="1284"/>
                  </a:lnTo>
                  <a:lnTo>
                    <a:pt x="1315" y="1298"/>
                  </a:lnTo>
                  <a:lnTo>
                    <a:pt x="1289" y="1311"/>
                  </a:lnTo>
                  <a:lnTo>
                    <a:pt x="1265" y="1325"/>
                  </a:lnTo>
                  <a:lnTo>
                    <a:pt x="1239" y="1337"/>
                  </a:lnTo>
                  <a:lnTo>
                    <a:pt x="1214" y="1350"/>
                  </a:lnTo>
                  <a:lnTo>
                    <a:pt x="1190" y="1363"/>
                  </a:lnTo>
                  <a:lnTo>
                    <a:pt x="1164" y="1376"/>
                  </a:lnTo>
                  <a:lnTo>
                    <a:pt x="1140" y="1388"/>
                  </a:lnTo>
                  <a:lnTo>
                    <a:pt x="1115" y="1400"/>
                  </a:lnTo>
                  <a:lnTo>
                    <a:pt x="1091" y="1412"/>
                  </a:lnTo>
                  <a:lnTo>
                    <a:pt x="1066" y="1424"/>
                  </a:lnTo>
                  <a:lnTo>
                    <a:pt x="1042" y="1436"/>
                  </a:lnTo>
                  <a:lnTo>
                    <a:pt x="1018" y="1447"/>
                  </a:lnTo>
                  <a:lnTo>
                    <a:pt x="994" y="1459"/>
                  </a:lnTo>
                  <a:lnTo>
                    <a:pt x="969" y="1470"/>
                  </a:lnTo>
                  <a:lnTo>
                    <a:pt x="946" y="1481"/>
                  </a:lnTo>
                  <a:lnTo>
                    <a:pt x="922" y="1492"/>
                  </a:lnTo>
                  <a:lnTo>
                    <a:pt x="899" y="1503"/>
                  </a:lnTo>
                  <a:lnTo>
                    <a:pt x="875" y="1513"/>
                  </a:lnTo>
                  <a:lnTo>
                    <a:pt x="852" y="1523"/>
                  </a:lnTo>
                  <a:lnTo>
                    <a:pt x="829" y="1534"/>
                  </a:lnTo>
                  <a:lnTo>
                    <a:pt x="807" y="1543"/>
                  </a:lnTo>
                  <a:lnTo>
                    <a:pt x="784" y="1553"/>
                  </a:lnTo>
                  <a:lnTo>
                    <a:pt x="761" y="1562"/>
                  </a:lnTo>
                  <a:lnTo>
                    <a:pt x="740" y="1572"/>
                  </a:lnTo>
                  <a:lnTo>
                    <a:pt x="718" y="1581"/>
                  </a:lnTo>
                  <a:lnTo>
                    <a:pt x="696" y="1589"/>
                  </a:lnTo>
                  <a:lnTo>
                    <a:pt x="674" y="1598"/>
                  </a:lnTo>
                  <a:lnTo>
                    <a:pt x="654" y="1606"/>
                  </a:lnTo>
                  <a:lnTo>
                    <a:pt x="632" y="1615"/>
                  </a:lnTo>
                  <a:lnTo>
                    <a:pt x="611" y="1622"/>
                  </a:lnTo>
                  <a:lnTo>
                    <a:pt x="591" y="1630"/>
                  </a:lnTo>
                  <a:lnTo>
                    <a:pt x="570" y="1637"/>
                  </a:lnTo>
                  <a:lnTo>
                    <a:pt x="550" y="1645"/>
                  </a:lnTo>
                  <a:lnTo>
                    <a:pt x="531" y="1652"/>
                  </a:lnTo>
                  <a:lnTo>
                    <a:pt x="512" y="1658"/>
                  </a:lnTo>
                  <a:lnTo>
                    <a:pt x="493" y="1665"/>
                  </a:lnTo>
                  <a:lnTo>
                    <a:pt x="473" y="1671"/>
                  </a:lnTo>
                  <a:lnTo>
                    <a:pt x="455" y="1678"/>
                  </a:lnTo>
                  <a:lnTo>
                    <a:pt x="436" y="1683"/>
                  </a:lnTo>
                  <a:lnTo>
                    <a:pt x="419" y="1688"/>
                  </a:lnTo>
                  <a:lnTo>
                    <a:pt x="401" y="1694"/>
                  </a:lnTo>
                  <a:lnTo>
                    <a:pt x="384" y="1699"/>
                  </a:lnTo>
                  <a:lnTo>
                    <a:pt x="367" y="1703"/>
                  </a:lnTo>
                  <a:lnTo>
                    <a:pt x="350" y="1709"/>
                  </a:lnTo>
                  <a:lnTo>
                    <a:pt x="334" y="1713"/>
                  </a:lnTo>
                  <a:lnTo>
                    <a:pt x="318" y="1716"/>
                  </a:lnTo>
                  <a:lnTo>
                    <a:pt x="302" y="1720"/>
                  </a:lnTo>
                  <a:lnTo>
                    <a:pt x="287" y="1724"/>
                  </a:lnTo>
                  <a:lnTo>
                    <a:pt x="272" y="1727"/>
                  </a:lnTo>
                  <a:lnTo>
                    <a:pt x="257" y="1730"/>
                  </a:lnTo>
                  <a:lnTo>
                    <a:pt x="243" y="1733"/>
                  </a:lnTo>
                  <a:lnTo>
                    <a:pt x="229" y="1735"/>
                  </a:lnTo>
                  <a:lnTo>
                    <a:pt x="215" y="1737"/>
                  </a:lnTo>
                  <a:lnTo>
                    <a:pt x="203" y="1740"/>
                  </a:lnTo>
                  <a:lnTo>
                    <a:pt x="190" y="1741"/>
                  </a:lnTo>
                  <a:lnTo>
                    <a:pt x="178" y="1743"/>
                  </a:lnTo>
                  <a:lnTo>
                    <a:pt x="165" y="1744"/>
                  </a:lnTo>
                  <a:lnTo>
                    <a:pt x="155" y="1744"/>
                  </a:lnTo>
                  <a:lnTo>
                    <a:pt x="143" y="1745"/>
                  </a:lnTo>
                  <a:lnTo>
                    <a:pt x="132" y="1745"/>
                  </a:lnTo>
                  <a:lnTo>
                    <a:pt x="121" y="1745"/>
                  </a:lnTo>
                  <a:lnTo>
                    <a:pt x="112" y="1745"/>
                  </a:lnTo>
                  <a:lnTo>
                    <a:pt x="102" y="1745"/>
                  </a:lnTo>
                  <a:lnTo>
                    <a:pt x="93" y="1744"/>
                  </a:lnTo>
                  <a:lnTo>
                    <a:pt x="84" y="1743"/>
                  </a:lnTo>
                  <a:lnTo>
                    <a:pt x="76" y="1742"/>
                  </a:lnTo>
                  <a:lnTo>
                    <a:pt x="68" y="1740"/>
                  </a:lnTo>
                  <a:lnTo>
                    <a:pt x="61" y="1738"/>
                  </a:lnTo>
                  <a:lnTo>
                    <a:pt x="53" y="1736"/>
                  </a:lnTo>
                  <a:lnTo>
                    <a:pt x="47" y="1733"/>
                  </a:lnTo>
                  <a:lnTo>
                    <a:pt x="40" y="1731"/>
                  </a:lnTo>
                  <a:lnTo>
                    <a:pt x="35" y="1728"/>
                  </a:lnTo>
                  <a:lnTo>
                    <a:pt x="30" y="1725"/>
                  </a:lnTo>
                  <a:lnTo>
                    <a:pt x="24" y="1721"/>
                  </a:lnTo>
                  <a:lnTo>
                    <a:pt x="20" y="1718"/>
                  </a:lnTo>
                  <a:lnTo>
                    <a:pt x="16" y="1714"/>
                  </a:lnTo>
                  <a:lnTo>
                    <a:pt x="13" y="1710"/>
                  </a:lnTo>
                  <a:lnTo>
                    <a:pt x="10" y="1705"/>
                  </a:lnTo>
                  <a:lnTo>
                    <a:pt x="7" y="1700"/>
                  </a:lnTo>
                  <a:lnTo>
                    <a:pt x="4" y="1696"/>
                  </a:lnTo>
                  <a:lnTo>
                    <a:pt x="3" y="1690"/>
                  </a:lnTo>
                  <a:lnTo>
                    <a:pt x="1" y="1685"/>
                  </a:lnTo>
                  <a:lnTo>
                    <a:pt x="1" y="1680"/>
                  </a:lnTo>
                  <a:lnTo>
                    <a:pt x="0" y="1673"/>
                  </a:lnTo>
                  <a:lnTo>
                    <a:pt x="0" y="1667"/>
                  </a:lnTo>
                  <a:lnTo>
                    <a:pt x="0" y="1661"/>
                  </a:lnTo>
                  <a:lnTo>
                    <a:pt x="1" y="1654"/>
                  </a:lnTo>
                  <a:lnTo>
                    <a:pt x="2" y="1647"/>
                  </a:lnTo>
                  <a:lnTo>
                    <a:pt x="4" y="1640"/>
                  </a:lnTo>
                  <a:lnTo>
                    <a:pt x="6" y="1633"/>
                  </a:lnTo>
                  <a:lnTo>
                    <a:pt x="8" y="1625"/>
                  </a:lnTo>
                  <a:lnTo>
                    <a:pt x="12" y="1617"/>
                  </a:lnTo>
                  <a:lnTo>
                    <a:pt x="16" y="1609"/>
                  </a:lnTo>
                  <a:lnTo>
                    <a:pt x="19" y="1601"/>
                  </a:lnTo>
                  <a:lnTo>
                    <a:pt x="23" y="1592"/>
                  </a:lnTo>
                  <a:lnTo>
                    <a:pt x="29" y="1584"/>
                  </a:lnTo>
                  <a:lnTo>
                    <a:pt x="34" y="1574"/>
                  </a:lnTo>
                  <a:lnTo>
                    <a:pt x="39" y="1566"/>
                  </a:lnTo>
                  <a:lnTo>
                    <a:pt x="46" y="1556"/>
                  </a:lnTo>
                  <a:lnTo>
                    <a:pt x="52" y="1547"/>
                  </a:lnTo>
                  <a:lnTo>
                    <a:pt x="59" y="1537"/>
                  </a:lnTo>
                  <a:lnTo>
                    <a:pt x="66" y="1526"/>
                  </a:lnTo>
                  <a:lnTo>
                    <a:pt x="73" y="1517"/>
                  </a:lnTo>
                  <a:lnTo>
                    <a:pt x="82" y="1506"/>
                  </a:lnTo>
                  <a:lnTo>
                    <a:pt x="91" y="1495"/>
                  </a:lnTo>
                  <a:lnTo>
                    <a:pt x="100" y="1485"/>
                  </a:lnTo>
                  <a:lnTo>
                    <a:pt x="109" y="1474"/>
                  </a:lnTo>
                  <a:lnTo>
                    <a:pt x="119" y="1462"/>
                  </a:lnTo>
                  <a:lnTo>
                    <a:pt x="129" y="1451"/>
                  </a:lnTo>
                  <a:lnTo>
                    <a:pt x="140" y="1440"/>
                  </a:lnTo>
                  <a:lnTo>
                    <a:pt x="151" y="1428"/>
                  </a:lnTo>
                  <a:lnTo>
                    <a:pt x="162" y="1416"/>
                  </a:lnTo>
                  <a:lnTo>
                    <a:pt x="174" y="1404"/>
                  </a:lnTo>
                  <a:lnTo>
                    <a:pt x="187" y="1392"/>
                  </a:lnTo>
                  <a:lnTo>
                    <a:pt x="199" y="1379"/>
                  </a:lnTo>
                  <a:lnTo>
                    <a:pt x="212" y="1367"/>
                  </a:lnTo>
                  <a:lnTo>
                    <a:pt x="225" y="1355"/>
                  </a:lnTo>
                  <a:lnTo>
                    <a:pt x="239" y="1342"/>
                  </a:lnTo>
                  <a:lnTo>
                    <a:pt x="254" y="1329"/>
                  </a:lnTo>
                  <a:lnTo>
                    <a:pt x="268" y="1315"/>
                  </a:lnTo>
                  <a:lnTo>
                    <a:pt x="282" y="1302"/>
                  </a:lnTo>
                  <a:lnTo>
                    <a:pt x="297" y="1288"/>
                  </a:lnTo>
                  <a:lnTo>
                    <a:pt x="313" y="1276"/>
                  </a:lnTo>
                  <a:lnTo>
                    <a:pt x="329" y="1262"/>
                  </a:lnTo>
                  <a:lnTo>
                    <a:pt x="345" y="1248"/>
                  </a:lnTo>
                  <a:lnTo>
                    <a:pt x="362" y="1234"/>
                  </a:lnTo>
                  <a:lnTo>
                    <a:pt x="378" y="1220"/>
                  </a:lnTo>
                  <a:lnTo>
                    <a:pt x="397" y="1206"/>
                  </a:lnTo>
                  <a:lnTo>
                    <a:pt x="414" y="1191"/>
                  </a:lnTo>
                  <a:lnTo>
                    <a:pt x="432" y="1178"/>
                  </a:lnTo>
                  <a:lnTo>
                    <a:pt x="450" y="1164"/>
                  </a:lnTo>
                  <a:lnTo>
                    <a:pt x="468" y="1149"/>
                  </a:lnTo>
                  <a:lnTo>
                    <a:pt x="487" y="1134"/>
                  </a:lnTo>
                  <a:lnTo>
                    <a:pt x="506" y="1120"/>
                  </a:lnTo>
                  <a:lnTo>
                    <a:pt x="526" y="1105"/>
                  </a:lnTo>
                  <a:lnTo>
                    <a:pt x="545" y="1090"/>
                  </a:lnTo>
                  <a:lnTo>
                    <a:pt x="565" y="1075"/>
                  </a:lnTo>
                  <a:lnTo>
                    <a:pt x="585" y="1060"/>
                  </a:lnTo>
                  <a:lnTo>
                    <a:pt x="606" y="1045"/>
                  </a:lnTo>
                  <a:lnTo>
                    <a:pt x="626" y="1030"/>
                  </a:lnTo>
                  <a:lnTo>
                    <a:pt x="647" y="1015"/>
                  </a:lnTo>
                  <a:lnTo>
                    <a:pt x="668" y="1000"/>
                  </a:lnTo>
                  <a:lnTo>
                    <a:pt x="690" y="986"/>
                  </a:lnTo>
                  <a:lnTo>
                    <a:pt x="711" y="971"/>
                  </a:lnTo>
                  <a:lnTo>
                    <a:pt x="734" y="955"/>
                  </a:lnTo>
                  <a:lnTo>
                    <a:pt x="756" y="940"/>
                  </a:lnTo>
                  <a:lnTo>
                    <a:pt x="778" y="925"/>
                  </a:lnTo>
                  <a:lnTo>
                    <a:pt x="801" y="909"/>
                  </a:lnTo>
                  <a:lnTo>
                    <a:pt x="823" y="894"/>
                  </a:lnTo>
                  <a:lnTo>
                    <a:pt x="847" y="879"/>
                  </a:lnTo>
                  <a:lnTo>
                    <a:pt x="869" y="864"/>
                  </a:lnTo>
                  <a:lnTo>
                    <a:pt x="892" y="848"/>
                  </a:lnTo>
                  <a:lnTo>
                    <a:pt x="916" y="833"/>
                  </a:lnTo>
                  <a:lnTo>
                    <a:pt x="939" y="818"/>
                  </a:lnTo>
                  <a:lnTo>
                    <a:pt x="963" y="802"/>
                  </a:lnTo>
                  <a:lnTo>
                    <a:pt x="987" y="787"/>
                  </a:lnTo>
                  <a:lnTo>
                    <a:pt x="1011" y="772"/>
                  </a:lnTo>
                  <a:lnTo>
                    <a:pt x="1035" y="757"/>
                  </a:lnTo>
                  <a:lnTo>
                    <a:pt x="1060" y="741"/>
                  </a:lnTo>
                  <a:lnTo>
                    <a:pt x="1084" y="726"/>
                  </a:lnTo>
                  <a:lnTo>
                    <a:pt x="1109" y="711"/>
                  </a:lnTo>
                  <a:lnTo>
                    <a:pt x="1133" y="697"/>
                  </a:lnTo>
                  <a:lnTo>
                    <a:pt x="1158" y="682"/>
                  </a:lnTo>
                  <a:lnTo>
                    <a:pt x="1182" y="667"/>
                  </a:lnTo>
                  <a:lnTo>
                    <a:pt x="1208" y="652"/>
                  </a:lnTo>
                  <a:lnTo>
                    <a:pt x="1233" y="637"/>
                  </a:lnTo>
                  <a:lnTo>
                    <a:pt x="1258" y="623"/>
                  </a:lnTo>
                  <a:lnTo>
                    <a:pt x="1283" y="608"/>
                  </a:lnTo>
                  <a:lnTo>
                    <a:pt x="1308" y="593"/>
                  </a:lnTo>
                  <a:lnTo>
                    <a:pt x="1333" y="579"/>
                  </a:lnTo>
                  <a:lnTo>
                    <a:pt x="1358" y="564"/>
                  </a:lnTo>
                  <a:lnTo>
                    <a:pt x="1384" y="550"/>
                  </a:lnTo>
                  <a:lnTo>
                    <a:pt x="1408" y="537"/>
                  </a:lnTo>
                  <a:lnTo>
                    <a:pt x="1434" y="523"/>
                  </a:lnTo>
                  <a:lnTo>
                    <a:pt x="1460" y="509"/>
                  </a:lnTo>
                  <a:lnTo>
                    <a:pt x="1484" y="495"/>
                  </a:lnTo>
                  <a:lnTo>
                    <a:pt x="1510" y="481"/>
                  </a:lnTo>
                  <a:lnTo>
                    <a:pt x="1535" y="467"/>
                  </a:lnTo>
                  <a:lnTo>
                    <a:pt x="1560" y="453"/>
                  </a:lnTo>
                  <a:lnTo>
                    <a:pt x="1585" y="441"/>
                  </a:lnTo>
                  <a:lnTo>
                    <a:pt x="1610" y="428"/>
                  </a:lnTo>
                  <a:lnTo>
                    <a:pt x="1636" y="414"/>
                  </a:lnTo>
                  <a:lnTo>
                    <a:pt x="1660" y="401"/>
                  </a:lnTo>
                  <a:lnTo>
                    <a:pt x="1686" y="388"/>
                  </a:lnTo>
                  <a:lnTo>
                    <a:pt x="1710" y="376"/>
                  </a:lnTo>
                  <a:lnTo>
                    <a:pt x="1735" y="364"/>
                  </a:lnTo>
                  <a:lnTo>
                    <a:pt x="1760" y="351"/>
                  </a:lnTo>
                  <a:lnTo>
                    <a:pt x="1785" y="339"/>
                  </a:lnTo>
                  <a:lnTo>
                    <a:pt x="1809" y="326"/>
                  </a:lnTo>
                  <a:lnTo>
                    <a:pt x="1833" y="315"/>
                  </a:lnTo>
                  <a:lnTo>
                    <a:pt x="1857" y="303"/>
                  </a:lnTo>
                  <a:lnTo>
                    <a:pt x="1882" y="292"/>
                  </a:lnTo>
                  <a:lnTo>
                    <a:pt x="1905" y="281"/>
                  </a:lnTo>
                  <a:lnTo>
                    <a:pt x="1930" y="270"/>
                  </a:lnTo>
                  <a:lnTo>
                    <a:pt x="1953" y="258"/>
                  </a:lnTo>
                  <a:lnTo>
                    <a:pt x="1977" y="248"/>
                  </a:lnTo>
                  <a:lnTo>
                    <a:pt x="2000" y="237"/>
                  </a:lnTo>
                  <a:lnTo>
                    <a:pt x="2024" y="227"/>
                  </a:lnTo>
                  <a:lnTo>
                    <a:pt x="2046" y="217"/>
                  </a:lnTo>
                  <a:lnTo>
                    <a:pt x="2070" y="207"/>
                  </a:lnTo>
                  <a:lnTo>
                    <a:pt x="2092" y="196"/>
                  </a:lnTo>
                  <a:lnTo>
                    <a:pt x="2114" y="188"/>
                  </a:lnTo>
                  <a:lnTo>
                    <a:pt x="2137" y="178"/>
                  </a:lnTo>
                  <a:lnTo>
                    <a:pt x="2159" y="169"/>
                  </a:lnTo>
                  <a:lnTo>
                    <a:pt x="2180" y="160"/>
                  </a:lnTo>
                  <a:lnTo>
                    <a:pt x="2203" y="152"/>
                  </a:lnTo>
                  <a:lnTo>
                    <a:pt x="2224" y="143"/>
                  </a:lnTo>
                  <a:lnTo>
                    <a:pt x="2244" y="134"/>
                  </a:lnTo>
                  <a:lnTo>
                    <a:pt x="2266" y="126"/>
                  </a:lnTo>
                  <a:lnTo>
                    <a:pt x="2286" y="118"/>
                  </a:lnTo>
                  <a:lnTo>
                    <a:pt x="2307" y="111"/>
                  </a:lnTo>
                  <a:lnTo>
                    <a:pt x="2327" y="104"/>
                  </a:lnTo>
                  <a:lnTo>
                    <a:pt x="2347" y="96"/>
                  </a:lnTo>
                  <a:lnTo>
                    <a:pt x="2366" y="90"/>
                  </a:lnTo>
                  <a:lnTo>
                    <a:pt x="2386" y="83"/>
                  </a:lnTo>
                  <a:lnTo>
                    <a:pt x="2404" y="77"/>
                  </a:lnTo>
                  <a:lnTo>
                    <a:pt x="2424" y="71"/>
                  </a:lnTo>
                  <a:lnTo>
                    <a:pt x="2442" y="64"/>
                  </a:lnTo>
                  <a:lnTo>
                    <a:pt x="2460" y="59"/>
                  </a:lnTo>
                  <a:lnTo>
                    <a:pt x="2478" y="53"/>
                  </a:lnTo>
                  <a:lnTo>
                    <a:pt x="2495" y="48"/>
                  </a:lnTo>
                  <a:lnTo>
                    <a:pt x="2512" y="44"/>
                  </a:lnTo>
                  <a:lnTo>
                    <a:pt x="2529" y="39"/>
                  </a:lnTo>
                  <a:lnTo>
                    <a:pt x="2546" y="34"/>
                  </a:lnTo>
                  <a:lnTo>
                    <a:pt x="2562" y="30"/>
                  </a:lnTo>
                  <a:lnTo>
                    <a:pt x="2578" y="27"/>
                  </a:lnTo>
                  <a:lnTo>
                    <a:pt x="2593" y="23"/>
                  </a:lnTo>
                  <a:lnTo>
                    <a:pt x="2608" y="19"/>
                  </a:lnTo>
                  <a:lnTo>
                    <a:pt x="2623" y="16"/>
                  </a:lnTo>
                  <a:lnTo>
                    <a:pt x="2638" y="14"/>
                  </a:lnTo>
                  <a:lnTo>
                    <a:pt x="2652" y="11"/>
                  </a:lnTo>
                  <a:lnTo>
                    <a:pt x="2666" y="9"/>
                  </a:lnTo>
                  <a:lnTo>
                    <a:pt x="2678" y="7"/>
                  </a:lnTo>
                  <a:lnTo>
                    <a:pt x="2691" y="4"/>
                  </a:lnTo>
                  <a:lnTo>
                    <a:pt x="2704" y="3"/>
                  </a:lnTo>
                  <a:lnTo>
                    <a:pt x="2716" y="2"/>
                  </a:lnTo>
                  <a:lnTo>
                    <a:pt x="2727" y="1"/>
                  </a:lnTo>
                  <a:lnTo>
                    <a:pt x="2739" y="0"/>
                  </a:lnTo>
                  <a:lnTo>
                    <a:pt x="2750" y="0"/>
                  </a:lnTo>
                  <a:lnTo>
                    <a:pt x="2761" y="0"/>
                  </a:lnTo>
                  <a:lnTo>
                    <a:pt x="2771" y="0"/>
                  </a:lnTo>
                  <a:lnTo>
                    <a:pt x="2781" y="0"/>
                  </a:lnTo>
                  <a:lnTo>
                    <a:pt x="2790" y="1"/>
                  </a:lnTo>
                  <a:lnTo>
                    <a:pt x="2799" y="2"/>
                  </a:lnTo>
                  <a:lnTo>
                    <a:pt x="2807" y="3"/>
                  </a:lnTo>
                  <a:lnTo>
                    <a:pt x="2815" y="4"/>
                  </a:lnTo>
                  <a:lnTo>
                    <a:pt x="2823" y="7"/>
                  </a:lnTo>
                  <a:lnTo>
                    <a:pt x="2830" y="8"/>
                  </a:lnTo>
                  <a:lnTo>
                    <a:pt x="2837" y="10"/>
                  </a:lnTo>
                  <a:lnTo>
                    <a:pt x="2844" y="13"/>
                  </a:lnTo>
                  <a:lnTo>
                    <a:pt x="2849" y="15"/>
                  </a:lnTo>
                  <a:lnTo>
                    <a:pt x="2855" y="18"/>
                  </a:lnTo>
                  <a:lnTo>
                    <a:pt x="2860" y="21"/>
                  </a:lnTo>
                  <a:lnTo>
                    <a:pt x="2865" y="26"/>
                  </a:lnTo>
                  <a:lnTo>
                    <a:pt x="2869" y="29"/>
                  </a:lnTo>
                  <a:lnTo>
                    <a:pt x="2873" y="33"/>
                  </a:lnTo>
                  <a:lnTo>
                    <a:pt x="2877" y="37"/>
                  </a:lnTo>
                  <a:lnTo>
                    <a:pt x="2879" y="42"/>
                  </a:lnTo>
                  <a:close/>
                </a:path>
              </a:pathLst>
            </a:custGeom>
            <a:solidFill>
              <a:srgbClr val="b2b2b2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473600">
              <a:off x="2745720" y="2005560"/>
              <a:ext cx="876240" cy="163440"/>
            </a:xfrm>
            <a:custGeom>
              <a:avLst/>
              <a:gdLst/>
              <a:ahLst/>
              <a:rect l="l" t="t" r="r" b="b"/>
              <a:pathLst>
                <a:path w="3315" h="622">
                  <a:moveTo>
                    <a:pt x="3315" y="312"/>
                  </a:moveTo>
                  <a:lnTo>
                    <a:pt x="3315" y="317"/>
                  </a:lnTo>
                  <a:lnTo>
                    <a:pt x="3314" y="322"/>
                  </a:lnTo>
                  <a:lnTo>
                    <a:pt x="3313" y="328"/>
                  </a:lnTo>
                  <a:lnTo>
                    <a:pt x="3311" y="333"/>
                  </a:lnTo>
                  <a:lnTo>
                    <a:pt x="3309" y="338"/>
                  </a:lnTo>
                  <a:lnTo>
                    <a:pt x="3307" y="344"/>
                  </a:lnTo>
                  <a:lnTo>
                    <a:pt x="3303" y="349"/>
                  </a:lnTo>
                  <a:lnTo>
                    <a:pt x="3299" y="354"/>
                  </a:lnTo>
                  <a:lnTo>
                    <a:pt x="3295" y="360"/>
                  </a:lnTo>
                  <a:lnTo>
                    <a:pt x="3290" y="365"/>
                  </a:lnTo>
                  <a:lnTo>
                    <a:pt x="3284" y="370"/>
                  </a:lnTo>
                  <a:lnTo>
                    <a:pt x="3279" y="376"/>
                  </a:lnTo>
                  <a:lnTo>
                    <a:pt x="3273" y="381"/>
                  </a:lnTo>
                  <a:lnTo>
                    <a:pt x="3266" y="386"/>
                  </a:lnTo>
                  <a:lnTo>
                    <a:pt x="3259" y="392"/>
                  </a:lnTo>
                  <a:lnTo>
                    <a:pt x="3251" y="397"/>
                  </a:lnTo>
                  <a:lnTo>
                    <a:pt x="3243" y="402"/>
                  </a:lnTo>
                  <a:lnTo>
                    <a:pt x="3234" y="408"/>
                  </a:lnTo>
                  <a:lnTo>
                    <a:pt x="3225" y="413"/>
                  </a:lnTo>
                  <a:lnTo>
                    <a:pt x="3215" y="418"/>
                  </a:lnTo>
                  <a:lnTo>
                    <a:pt x="3204" y="423"/>
                  </a:lnTo>
                  <a:lnTo>
                    <a:pt x="3194" y="428"/>
                  </a:lnTo>
                  <a:lnTo>
                    <a:pt x="3183" y="433"/>
                  </a:lnTo>
                  <a:lnTo>
                    <a:pt x="3171" y="439"/>
                  </a:lnTo>
                  <a:lnTo>
                    <a:pt x="3159" y="443"/>
                  </a:lnTo>
                  <a:lnTo>
                    <a:pt x="3147" y="448"/>
                  </a:lnTo>
                  <a:lnTo>
                    <a:pt x="3134" y="452"/>
                  </a:lnTo>
                  <a:lnTo>
                    <a:pt x="3120" y="458"/>
                  </a:lnTo>
                  <a:lnTo>
                    <a:pt x="3106" y="462"/>
                  </a:lnTo>
                  <a:lnTo>
                    <a:pt x="3092" y="467"/>
                  </a:lnTo>
                  <a:lnTo>
                    <a:pt x="3077" y="472"/>
                  </a:lnTo>
                  <a:lnTo>
                    <a:pt x="3062" y="477"/>
                  </a:lnTo>
                  <a:lnTo>
                    <a:pt x="3046" y="481"/>
                  </a:lnTo>
                  <a:lnTo>
                    <a:pt x="3030" y="486"/>
                  </a:lnTo>
                  <a:lnTo>
                    <a:pt x="3013" y="490"/>
                  </a:lnTo>
                  <a:lnTo>
                    <a:pt x="2997" y="494"/>
                  </a:lnTo>
                  <a:lnTo>
                    <a:pt x="2979" y="499"/>
                  </a:lnTo>
                  <a:lnTo>
                    <a:pt x="2962" y="504"/>
                  </a:lnTo>
                  <a:lnTo>
                    <a:pt x="2944" y="508"/>
                  </a:lnTo>
                  <a:lnTo>
                    <a:pt x="2925" y="512"/>
                  </a:lnTo>
                  <a:lnTo>
                    <a:pt x="2907" y="515"/>
                  </a:lnTo>
                  <a:lnTo>
                    <a:pt x="2888" y="520"/>
                  </a:lnTo>
                  <a:lnTo>
                    <a:pt x="2867" y="524"/>
                  </a:lnTo>
                  <a:lnTo>
                    <a:pt x="2847" y="528"/>
                  </a:lnTo>
                  <a:lnTo>
                    <a:pt x="2827" y="531"/>
                  </a:lnTo>
                  <a:lnTo>
                    <a:pt x="2807" y="536"/>
                  </a:lnTo>
                  <a:lnTo>
                    <a:pt x="2785" y="539"/>
                  </a:lnTo>
                  <a:lnTo>
                    <a:pt x="2764" y="543"/>
                  </a:lnTo>
                  <a:lnTo>
                    <a:pt x="2743" y="546"/>
                  </a:lnTo>
                  <a:lnTo>
                    <a:pt x="2720" y="550"/>
                  </a:lnTo>
                  <a:lnTo>
                    <a:pt x="2698" y="554"/>
                  </a:lnTo>
                  <a:lnTo>
                    <a:pt x="2674" y="557"/>
                  </a:lnTo>
                  <a:lnTo>
                    <a:pt x="2652" y="560"/>
                  </a:lnTo>
                  <a:lnTo>
                    <a:pt x="2628" y="563"/>
                  </a:lnTo>
                  <a:lnTo>
                    <a:pt x="2605" y="567"/>
                  </a:lnTo>
                  <a:lnTo>
                    <a:pt x="2580" y="570"/>
                  </a:lnTo>
                  <a:lnTo>
                    <a:pt x="2557" y="573"/>
                  </a:lnTo>
                  <a:lnTo>
                    <a:pt x="2532" y="575"/>
                  </a:lnTo>
                  <a:lnTo>
                    <a:pt x="2507" y="578"/>
                  </a:lnTo>
                  <a:lnTo>
                    <a:pt x="2482" y="582"/>
                  </a:lnTo>
                  <a:lnTo>
                    <a:pt x="2457" y="584"/>
                  </a:lnTo>
                  <a:lnTo>
                    <a:pt x="2431" y="586"/>
                  </a:lnTo>
                  <a:lnTo>
                    <a:pt x="2406" y="589"/>
                  </a:lnTo>
                  <a:lnTo>
                    <a:pt x="2380" y="591"/>
                  </a:lnTo>
                  <a:lnTo>
                    <a:pt x="2353" y="593"/>
                  </a:lnTo>
                  <a:lnTo>
                    <a:pt x="2327" y="595"/>
                  </a:lnTo>
                  <a:lnTo>
                    <a:pt x="2300" y="598"/>
                  </a:lnTo>
                  <a:lnTo>
                    <a:pt x="2273" y="600"/>
                  </a:lnTo>
                  <a:lnTo>
                    <a:pt x="2247" y="602"/>
                  </a:lnTo>
                  <a:lnTo>
                    <a:pt x="2219" y="604"/>
                  </a:lnTo>
                  <a:lnTo>
                    <a:pt x="2191" y="606"/>
                  </a:lnTo>
                  <a:lnTo>
                    <a:pt x="2165" y="607"/>
                  </a:lnTo>
                  <a:lnTo>
                    <a:pt x="2137" y="609"/>
                  </a:lnTo>
                  <a:lnTo>
                    <a:pt x="2109" y="610"/>
                  </a:lnTo>
                  <a:lnTo>
                    <a:pt x="2080" y="612"/>
                  </a:lnTo>
                  <a:lnTo>
                    <a:pt x="2053" y="614"/>
                  </a:lnTo>
                  <a:lnTo>
                    <a:pt x="2024" y="615"/>
                  </a:lnTo>
                  <a:lnTo>
                    <a:pt x="1996" y="616"/>
                  </a:lnTo>
                  <a:lnTo>
                    <a:pt x="1967" y="617"/>
                  </a:lnTo>
                  <a:lnTo>
                    <a:pt x="1939" y="618"/>
                  </a:lnTo>
                  <a:lnTo>
                    <a:pt x="1911" y="619"/>
                  </a:lnTo>
                  <a:lnTo>
                    <a:pt x="1882" y="620"/>
                  </a:lnTo>
                  <a:lnTo>
                    <a:pt x="1853" y="620"/>
                  </a:lnTo>
                  <a:lnTo>
                    <a:pt x="1824" y="621"/>
                  </a:lnTo>
                  <a:lnTo>
                    <a:pt x="1795" y="621"/>
                  </a:lnTo>
                  <a:lnTo>
                    <a:pt x="1766" y="622"/>
                  </a:lnTo>
                  <a:lnTo>
                    <a:pt x="1737" y="622"/>
                  </a:lnTo>
                  <a:lnTo>
                    <a:pt x="1708" y="622"/>
                  </a:lnTo>
                  <a:lnTo>
                    <a:pt x="1679" y="622"/>
                  </a:lnTo>
                  <a:lnTo>
                    <a:pt x="1651" y="622"/>
                  </a:lnTo>
                  <a:lnTo>
                    <a:pt x="1621" y="622"/>
                  </a:lnTo>
                  <a:lnTo>
                    <a:pt x="1592" y="622"/>
                  </a:lnTo>
                  <a:lnTo>
                    <a:pt x="1563" y="622"/>
                  </a:lnTo>
                  <a:lnTo>
                    <a:pt x="1534" y="621"/>
                  </a:lnTo>
                  <a:lnTo>
                    <a:pt x="1506" y="621"/>
                  </a:lnTo>
                  <a:lnTo>
                    <a:pt x="1477" y="620"/>
                  </a:lnTo>
                  <a:lnTo>
                    <a:pt x="1448" y="620"/>
                  </a:lnTo>
                  <a:lnTo>
                    <a:pt x="1419" y="619"/>
                  </a:lnTo>
                  <a:lnTo>
                    <a:pt x="1390" y="618"/>
                  </a:lnTo>
                  <a:lnTo>
                    <a:pt x="1362" y="618"/>
                  </a:lnTo>
                  <a:lnTo>
                    <a:pt x="1333" y="617"/>
                  </a:lnTo>
                  <a:lnTo>
                    <a:pt x="1305" y="616"/>
                  </a:lnTo>
                  <a:lnTo>
                    <a:pt x="1276" y="614"/>
                  </a:lnTo>
                  <a:lnTo>
                    <a:pt x="1249" y="612"/>
                  </a:lnTo>
                  <a:lnTo>
                    <a:pt x="1220" y="611"/>
                  </a:lnTo>
                  <a:lnTo>
                    <a:pt x="1192" y="609"/>
                  </a:lnTo>
                  <a:lnTo>
                    <a:pt x="1164" y="608"/>
                  </a:lnTo>
                  <a:lnTo>
                    <a:pt x="1137" y="606"/>
                  </a:lnTo>
                  <a:lnTo>
                    <a:pt x="1109" y="605"/>
                  </a:lnTo>
                  <a:lnTo>
                    <a:pt x="1082" y="603"/>
                  </a:lnTo>
                  <a:lnTo>
                    <a:pt x="1055" y="601"/>
                  </a:lnTo>
                  <a:lnTo>
                    <a:pt x="1028" y="599"/>
                  </a:lnTo>
                  <a:lnTo>
                    <a:pt x="1001" y="596"/>
                  </a:lnTo>
                  <a:lnTo>
                    <a:pt x="975" y="594"/>
                  </a:lnTo>
                  <a:lnTo>
                    <a:pt x="948" y="592"/>
                  </a:lnTo>
                  <a:lnTo>
                    <a:pt x="922" y="590"/>
                  </a:lnTo>
                  <a:lnTo>
                    <a:pt x="897" y="588"/>
                  </a:lnTo>
                  <a:lnTo>
                    <a:pt x="871" y="585"/>
                  </a:lnTo>
                  <a:lnTo>
                    <a:pt x="846" y="583"/>
                  </a:lnTo>
                  <a:lnTo>
                    <a:pt x="820" y="579"/>
                  </a:lnTo>
                  <a:lnTo>
                    <a:pt x="796" y="577"/>
                  </a:lnTo>
                  <a:lnTo>
                    <a:pt x="771" y="574"/>
                  </a:lnTo>
                  <a:lnTo>
                    <a:pt x="746" y="571"/>
                  </a:lnTo>
                  <a:lnTo>
                    <a:pt x="722" y="568"/>
                  </a:lnTo>
                  <a:lnTo>
                    <a:pt x="698" y="564"/>
                  </a:lnTo>
                  <a:lnTo>
                    <a:pt x="675" y="561"/>
                  </a:lnTo>
                  <a:lnTo>
                    <a:pt x="652" y="558"/>
                  </a:lnTo>
                  <a:lnTo>
                    <a:pt x="628" y="555"/>
                  </a:lnTo>
                  <a:lnTo>
                    <a:pt x="606" y="552"/>
                  </a:lnTo>
                  <a:lnTo>
                    <a:pt x="583" y="548"/>
                  </a:lnTo>
                  <a:lnTo>
                    <a:pt x="562" y="544"/>
                  </a:lnTo>
                  <a:lnTo>
                    <a:pt x="541" y="541"/>
                  </a:lnTo>
                  <a:lnTo>
                    <a:pt x="519" y="538"/>
                  </a:lnTo>
                  <a:lnTo>
                    <a:pt x="498" y="534"/>
                  </a:lnTo>
                  <a:lnTo>
                    <a:pt x="478" y="529"/>
                  </a:lnTo>
                  <a:lnTo>
                    <a:pt x="457" y="526"/>
                  </a:lnTo>
                  <a:lnTo>
                    <a:pt x="437" y="522"/>
                  </a:lnTo>
                  <a:lnTo>
                    <a:pt x="418" y="518"/>
                  </a:lnTo>
                  <a:lnTo>
                    <a:pt x="399" y="513"/>
                  </a:lnTo>
                  <a:lnTo>
                    <a:pt x="380" y="510"/>
                  </a:lnTo>
                  <a:lnTo>
                    <a:pt x="362" y="506"/>
                  </a:lnTo>
                  <a:lnTo>
                    <a:pt x="344" y="502"/>
                  </a:lnTo>
                  <a:lnTo>
                    <a:pt x="326" y="497"/>
                  </a:lnTo>
                  <a:lnTo>
                    <a:pt x="309" y="492"/>
                  </a:lnTo>
                  <a:lnTo>
                    <a:pt x="292" y="488"/>
                  </a:lnTo>
                  <a:lnTo>
                    <a:pt x="276" y="483"/>
                  </a:lnTo>
                  <a:lnTo>
                    <a:pt x="260" y="479"/>
                  </a:lnTo>
                  <a:lnTo>
                    <a:pt x="245" y="474"/>
                  </a:lnTo>
                  <a:lnTo>
                    <a:pt x="230" y="470"/>
                  </a:lnTo>
                  <a:lnTo>
                    <a:pt x="215" y="465"/>
                  </a:lnTo>
                  <a:lnTo>
                    <a:pt x="202" y="460"/>
                  </a:lnTo>
                  <a:lnTo>
                    <a:pt x="188" y="456"/>
                  </a:lnTo>
                  <a:lnTo>
                    <a:pt x="175" y="450"/>
                  </a:lnTo>
                  <a:lnTo>
                    <a:pt x="162" y="446"/>
                  </a:lnTo>
                  <a:lnTo>
                    <a:pt x="149" y="441"/>
                  </a:lnTo>
                  <a:lnTo>
                    <a:pt x="138" y="435"/>
                  </a:lnTo>
                  <a:lnTo>
                    <a:pt x="126" y="431"/>
                  </a:lnTo>
                  <a:lnTo>
                    <a:pt x="115" y="426"/>
                  </a:lnTo>
                  <a:lnTo>
                    <a:pt x="105" y="420"/>
                  </a:lnTo>
                  <a:lnTo>
                    <a:pt x="95" y="415"/>
                  </a:lnTo>
                  <a:lnTo>
                    <a:pt x="85" y="410"/>
                  </a:lnTo>
                  <a:lnTo>
                    <a:pt x="77" y="406"/>
                  </a:lnTo>
                  <a:lnTo>
                    <a:pt x="68" y="400"/>
                  </a:lnTo>
                  <a:lnTo>
                    <a:pt x="60" y="395"/>
                  </a:lnTo>
                  <a:lnTo>
                    <a:pt x="52" y="390"/>
                  </a:lnTo>
                  <a:lnTo>
                    <a:pt x="46" y="384"/>
                  </a:lnTo>
                  <a:lnTo>
                    <a:pt x="39" y="379"/>
                  </a:lnTo>
                  <a:lnTo>
                    <a:pt x="33" y="374"/>
                  </a:lnTo>
                  <a:lnTo>
                    <a:pt x="28" y="368"/>
                  </a:lnTo>
                  <a:lnTo>
                    <a:pt x="22" y="363"/>
                  </a:lnTo>
                  <a:lnTo>
                    <a:pt x="18" y="358"/>
                  </a:lnTo>
                  <a:lnTo>
                    <a:pt x="14" y="352"/>
                  </a:lnTo>
                  <a:lnTo>
                    <a:pt x="11" y="347"/>
                  </a:lnTo>
                  <a:lnTo>
                    <a:pt x="8" y="342"/>
                  </a:lnTo>
                  <a:lnTo>
                    <a:pt x="4" y="336"/>
                  </a:lnTo>
                  <a:lnTo>
                    <a:pt x="2" y="331"/>
                  </a:lnTo>
                  <a:lnTo>
                    <a:pt x="1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1" y="298"/>
                  </a:lnTo>
                  <a:lnTo>
                    <a:pt x="2" y="293"/>
                  </a:lnTo>
                  <a:lnTo>
                    <a:pt x="4" y="287"/>
                  </a:lnTo>
                  <a:lnTo>
                    <a:pt x="8" y="282"/>
                  </a:lnTo>
                  <a:lnTo>
                    <a:pt x="11" y="277"/>
                  </a:lnTo>
                  <a:lnTo>
                    <a:pt x="14" y="271"/>
                  </a:lnTo>
                  <a:lnTo>
                    <a:pt x="18" y="265"/>
                  </a:lnTo>
                  <a:lnTo>
                    <a:pt x="22" y="259"/>
                  </a:lnTo>
                  <a:lnTo>
                    <a:pt x="28" y="254"/>
                  </a:lnTo>
                  <a:lnTo>
                    <a:pt x="33" y="249"/>
                  </a:lnTo>
                  <a:lnTo>
                    <a:pt x="39" y="243"/>
                  </a:lnTo>
                  <a:lnTo>
                    <a:pt x="46" y="238"/>
                  </a:lnTo>
                  <a:lnTo>
                    <a:pt x="52" y="233"/>
                  </a:lnTo>
                  <a:lnTo>
                    <a:pt x="60" y="229"/>
                  </a:lnTo>
                  <a:lnTo>
                    <a:pt x="68" y="223"/>
                  </a:lnTo>
                  <a:lnTo>
                    <a:pt x="77" y="218"/>
                  </a:lnTo>
                  <a:lnTo>
                    <a:pt x="85" y="213"/>
                  </a:lnTo>
                  <a:lnTo>
                    <a:pt x="95" y="207"/>
                  </a:lnTo>
                  <a:lnTo>
                    <a:pt x="105" y="202"/>
                  </a:lnTo>
                  <a:lnTo>
                    <a:pt x="115" y="198"/>
                  </a:lnTo>
                  <a:lnTo>
                    <a:pt x="126" y="192"/>
                  </a:lnTo>
                  <a:lnTo>
                    <a:pt x="138" y="187"/>
                  </a:lnTo>
                  <a:lnTo>
                    <a:pt x="149" y="182"/>
                  </a:lnTo>
                  <a:lnTo>
                    <a:pt x="162" y="177"/>
                  </a:lnTo>
                  <a:lnTo>
                    <a:pt x="175" y="172"/>
                  </a:lnTo>
                  <a:lnTo>
                    <a:pt x="188" y="168"/>
                  </a:lnTo>
                  <a:lnTo>
                    <a:pt x="202" y="162"/>
                  </a:lnTo>
                  <a:lnTo>
                    <a:pt x="215" y="158"/>
                  </a:lnTo>
                  <a:lnTo>
                    <a:pt x="230" y="153"/>
                  </a:lnTo>
                  <a:lnTo>
                    <a:pt x="245" y="149"/>
                  </a:lnTo>
                  <a:lnTo>
                    <a:pt x="260" y="144"/>
                  </a:lnTo>
                  <a:lnTo>
                    <a:pt x="276" y="139"/>
                  </a:lnTo>
                  <a:lnTo>
                    <a:pt x="292" y="135"/>
                  </a:lnTo>
                  <a:lnTo>
                    <a:pt x="309" y="130"/>
                  </a:lnTo>
                  <a:lnTo>
                    <a:pt x="326" y="126"/>
                  </a:lnTo>
                  <a:lnTo>
                    <a:pt x="343" y="122"/>
                  </a:lnTo>
                  <a:lnTo>
                    <a:pt x="362" y="118"/>
                  </a:lnTo>
                  <a:lnTo>
                    <a:pt x="380" y="113"/>
                  </a:lnTo>
                  <a:lnTo>
                    <a:pt x="399" y="109"/>
                  </a:lnTo>
                  <a:lnTo>
                    <a:pt x="418" y="105"/>
                  </a:lnTo>
                  <a:lnTo>
                    <a:pt x="437" y="101"/>
                  </a:lnTo>
                  <a:lnTo>
                    <a:pt x="457" y="97"/>
                  </a:lnTo>
                  <a:lnTo>
                    <a:pt x="478" y="93"/>
                  </a:lnTo>
                  <a:lnTo>
                    <a:pt x="498" y="89"/>
                  </a:lnTo>
                  <a:lnTo>
                    <a:pt x="519" y="86"/>
                  </a:lnTo>
                  <a:lnTo>
                    <a:pt x="541" y="81"/>
                  </a:lnTo>
                  <a:lnTo>
                    <a:pt x="562" y="78"/>
                  </a:lnTo>
                  <a:lnTo>
                    <a:pt x="583" y="75"/>
                  </a:lnTo>
                  <a:lnTo>
                    <a:pt x="606" y="71"/>
                  </a:lnTo>
                  <a:lnTo>
                    <a:pt x="628" y="67"/>
                  </a:lnTo>
                  <a:lnTo>
                    <a:pt x="652" y="64"/>
                  </a:lnTo>
                  <a:lnTo>
                    <a:pt x="675" y="61"/>
                  </a:lnTo>
                  <a:lnTo>
                    <a:pt x="698" y="58"/>
                  </a:lnTo>
                  <a:lnTo>
                    <a:pt x="722" y="55"/>
                  </a:lnTo>
                  <a:lnTo>
                    <a:pt x="746" y="51"/>
                  </a:lnTo>
                  <a:lnTo>
                    <a:pt x="771" y="48"/>
                  </a:lnTo>
                  <a:lnTo>
                    <a:pt x="796" y="46"/>
                  </a:lnTo>
                  <a:lnTo>
                    <a:pt x="820" y="43"/>
                  </a:lnTo>
                  <a:lnTo>
                    <a:pt x="846" y="41"/>
                  </a:lnTo>
                  <a:lnTo>
                    <a:pt x="870" y="38"/>
                  </a:lnTo>
                  <a:lnTo>
                    <a:pt x="897" y="36"/>
                  </a:lnTo>
                  <a:lnTo>
                    <a:pt x="922" y="32"/>
                  </a:lnTo>
                  <a:lnTo>
                    <a:pt x="948" y="30"/>
                  </a:lnTo>
                  <a:lnTo>
                    <a:pt x="975" y="28"/>
                  </a:lnTo>
                  <a:lnTo>
                    <a:pt x="1001" y="26"/>
                  </a:lnTo>
                  <a:lnTo>
                    <a:pt x="1028" y="24"/>
                  </a:lnTo>
                  <a:lnTo>
                    <a:pt x="1055" y="22"/>
                  </a:lnTo>
                  <a:lnTo>
                    <a:pt x="1082" y="20"/>
                  </a:lnTo>
                  <a:lnTo>
                    <a:pt x="1109" y="18"/>
                  </a:lnTo>
                  <a:lnTo>
                    <a:pt x="1137" y="16"/>
                  </a:lnTo>
                  <a:lnTo>
                    <a:pt x="1164" y="14"/>
                  </a:lnTo>
                  <a:lnTo>
                    <a:pt x="1192" y="13"/>
                  </a:lnTo>
                  <a:lnTo>
                    <a:pt x="1220" y="11"/>
                  </a:lnTo>
                  <a:lnTo>
                    <a:pt x="1249" y="10"/>
                  </a:lnTo>
                  <a:lnTo>
                    <a:pt x="1276" y="9"/>
                  </a:lnTo>
                  <a:lnTo>
                    <a:pt x="1304" y="8"/>
                  </a:lnTo>
                  <a:lnTo>
                    <a:pt x="1333" y="7"/>
                  </a:lnTo>
                  <a:lnTo>
                    <a:pt x="1362" y="6"/>
                  </a:lnTo>
                  <a:lnTo>
                    <a:pt x="1390" y="5"/>
                  </a:lnTo>
                  <a:lnTo>
                    <a:pt x="1419" y="4"/>
                  </a:lnTo>
                  <a:lnTo>
                    <a:pt x="1448" y="2"/>
                  </a:lnTo>
                  <a:lnTo>
                    <a:pt x="1477" y="2"/>
                  </a:lnTo>
                  <a:lnTo>
                    <a:pt x="1506" y="1"/>
                  </a:lnTo>
                  <a:lnTo>
                    <a:pt x="1534" y="1"/>
                  </a:lnTo>
                  <a:lnTo>
                    <a:pt x="1563" y="1"/>
                  </a:lnTo>
                  <a:lnTo>
                    <a:pt x="1592" y="0"/>
                  </a:lnTo>
                  <a:lnTo>
                    <a:pt x="1621" y="0"/>
                  </a:lnTo>
                  <a:lnTo>
                    <a:pt x="1650" y="0"/>
                  </a:lnTo>
                  <a:lnTo>
                    <a:pt x="1679" y="0"/>
                  </a:lnTo>
                  <a:lnTo>
                    <a:pt x="1708" y="0"/>
                  </a:lnTo>
                  <a:lnTo>
                    <a:pt x="1737" y="0"/>
                  </a:lnTo>
                  <a:lnTo>
                    <a:pt x="1766" y="1"/>
                  </a:lnTo>
                  <a:lnTo>
                    <a:pt x="1795" y="1"/>
                  </a:lnTo>
                  <a:lnTo>
                    <a:pt x="1823" y="2"/>
                  </a:lnTo>
                  <a:lnTo>
                    <a:pt x="1853" y="2"/>
                  </a:lnTo>
                  <a:lnTo>
                    <a:pt x="1882" y="4"/>
                  </a:lnTo>
                  <a:lnTo>
                    <a:pt x="1910" y="5"/>
                  </a:lnTo>
                  <a:lnTo>
                    <a:pt x="1939" y="5"/>
                  </a:lnTo>
                  <a:lnTo>
                    <a:pt x="1967" y="6"/>
                  </a:lnTo>
                  <a:lnTo>
                    <a:pt x="1996" y="7"/>
                  </a:lnTo>
                  <a:lnTo>
                    <a:pt x="2024" y="8"/>
                  </a:lnTo>
                  <a:lnTo>
                    <a:pt x="2053" y="10"/>
                  </a:lnTo>
                  <a:lnTo>
                    <a:pt x="2080" y="11"/>
                  </a:lnTo>
                  <a:lnTo>
                    <a:pt x="2108" y="12"/>
                  </a:lnTo>
                  <a:lnTo>
                    <a:pt x="2137" y="14"/>
                  </a:lnTo>
                  <a:lnTo>
                    <a:pt x="2165" y="15"/>
                  </a:lnTo>
                  <a:lnTo>
                    <a:pt x="2191" y="17"/>
                  </a:lnTo>
                  <a:lnTo>
                    <a:pt x="2219" y="18"/>
                  </a:lnTo>
                  <a:lnTo>
                    <a:pt x="2247" y="21"/>
                  </a:lnTo>
                  <a:lnTo>
                    <a:pt x="2273" y="23"/>
                  </a:lnTo>
                  <a:lnTo>
                    <a:pt x="2300" y="25"/>
                  </a:lnTo>
                  <a:lnTo>
                    <a:pt x="2327" y="27"/>
                  </a:lnTo>
                  <a:lnTo>
                    <a:pt x="2353" y="29"/>
                  </a:lnTo>
                  <a:lnTo>
                    <a:pt x="2380" y="31"/>
                  </a:lnTo>
                  <a:lnTo>
                    <a:pt x="2406" y="34"/>
                  </a:lnTo>
                  <a:lnTo>
                    <a:pt x="2431" y="37"/>
                  </a:lnTo>
                  <a:lnTo>
                    <a:pt x="2457" y="39"/>
                  </a:lnTo>
                  <a:lnTo>
                    <a:pt x="2482" y="42"/>
                  </a:lnTo>
                  <a:lnTo>
                    <a:pt x="2507" y="44"/>
                  </a:lnTo>
                  <a:lnTo>
                    <a:pt x="2532" y="47"/>
                  </a:lnTo>
                  <a:lnTo>
                    <a:pt x="2557" y="50"/>
                  </a:lnTo>
                  <a:lnTo>
                    <a:pt x="2580" y="54"/>
                  </a:lnTo>
                  <a:lnTo>
                    <a:pt x="2605" y="56"/>
                  </a:lnTo>
                  <a:lnTo>
                    <a:pt x="2628" y="59"/>
                  </a:lnTo>
                  <a:lnTo>
                    <a:pt x="2652" y="62"/>
                  </a:lnTo>
                  <a:lnTo>
                    <a:pt x="2674" y="65"/>
                  </a:lnTo>
                  <a:lnTo>
                    <a:pt x="2698" y="70"/>
                  </a:lnTo>
                  <a:lnTo>
                    <a:pt x="2720" y="73"/>
                  </a:lnTo>
                  <a:lnTo>
                    <a:pt x="2743" y="76"/>
                  </a:lnTo>
                  <a:lnTo>
                    <a:pt x="2764" y="80"/>
                  </a:lnTo>
                  <a:lnTo>
                    <a:pt x="2785" y="83"/>
                  </a:lnTo>
                  <a:lnTo>
                    <a:pt x="2807" y="88"/>
                  </a:lnTo>
                  <a:lnTo>
                    <a:pt x="2827" y="91"/>
                  </a:lnTo>
                  <a:lnTo>
                    <a:pt x="2847" y="95"/>
                  </a:lnTo>
                  <a:lnTo>
                    <a:pt x="2867" y="98"/>
                  </a:lnTo>
                  <a:lnTo>
                    <a:pt x="2888" y="103"/>
                  </a:lnTo>
                  <a:lnTo>
                    <a:pt x="2907" y="107"/>
                  </a:lnTo>
                  <a:lnTo>
                    <a:pt x="2925" y="111"/>
                  </a:lnTo>
                  <a:lnTo>
                    <a:pt x="2944" y="115"/>
                  </a:lnTo>
                  <a:lnTo>
                    <a:pt x="2962" y="120"/>
                  </a:lnTo>
                  <a:lnTo>
                    <a:pt x="2979" y="124"/>
                  </a:lnTo>
                  <a:lnTo>
                    <a:pt x="2997" y="128"/>
                  </a:lnTo>
                  <a:lnTo>
                    <a:pt x="3013" y="133"/>
                  </a:lnTo>
                  <a:lnTo>
                    <a:pt x="3030" y="137"/>
                  </a:lnTo>
                  <a:lnTo>
                    <a:pt x="3046" y="141"/>
                  </a:lnTo>
                  <a:lnTo>
                    <a:pt x="3062" y="146"/>
                  </a:lnTo>
                  <a:lnTo>
                    <a:pt x="3077" y="151"/>
                  </a:lnTo>
                  <a:lnTo>
                    <a:pt x="3092" y="156"/>
                  </a:lnTo>
                  <a:lnTo>
                    <a:pt x="3106" y="160"/>
                  </a:lnTo>
                  <a:lnTo>
                    <a:pt x="3120" y="165"/>
                  </a:lnTo>
                  <a:lnTo>
                    <a:pt x="3134" y="170"/>
                  </a:lnTo>
                  <a:lnTo>
                    <a:pt x="3147" y="175"/>
                  </a:lnTo>
                  <a:lnTo>
                    <a:pt x="3159" y="179"/>
                  </a:lnTo>
                  <a:lnTo>
                    <a:pt x="3171" y="185"/>
                  </a:lnTo>
                  <a:lnTo>
                    <a:pt x="3183" y="189"/>
                  </a:lnTo>
                  <a:lnTo>
                    <a:pt x="3194" y="194"/>
                  </a:lnTo>
                  <a:lnTo>
                    <a:pt x="3204" y="200"/>
                  </a:lnTo>
                  <a:lnTo>
                    <a:pt x="3215" y="205"/>
                  </a:lnTo>
                  <a:lnTo>
                    <a:pt x="3225" y="209"/>
                  </a:lnTo>
                  <a:lnTo>
                    <a:pt x="3234" y="215"/>
                  </a:lnTo>
                  <a:lnTo>
                    <a:pt x="3243" y="220"/>
                  </a:lnTo>
                  <a:lnTo>
                    <a:pt x="3251" y="225"/>
                  </a:lnTo>
                  <a:lnTo>
                    <a:pt x="3259" y="231"/>
                  </a:lnTo>
                  <a:lnTo>
                    <a:pt x="3266" y="236"/>
                  </a:lnTo>
                  <a:lnTo>
                    <a:pt x="3273" y="241"/>
                  </a:lnTo>
                  <a:lnTo>
                    <a:pt x="3279" y="247"/>
                  </a:lnTo>
                  <a:lnTo>
                    <a:pt x="3284" y="252"/>
                  </a:lnTo>
                  <a:lnTo>
                    <a:pt x="3290" y="257"/>
                  </a:lnTo>
                  <a:lnTo>
                    <a:pt x="3295" y="263"/>
                  </a:lnTo>
                  <a:lnTo>
                    <a:pt x="3299" y="268"/>
                  </a:lnTo>
                  <a:lnTo>
                    <a:pt x="3303" y="273"/>
                  </a:lnTo>
                  <a:lnTo>
                    <a:pt x="3307" y="279"/>
                  </a:lnTo>
                  <a:lnTo>
                    <a:pt x="3309" y="284"/>
                  </a:lnTo>
                  <a:lnTo>
                    <a:pt x="3311" y="289"/>
                  </a:lnTo>
                  <a:lnTo>
                    <a:pt x="3313" y="295"/>
                  </a:lnTo>
                  <a:lnTo>
                    <a:pt x="3314" y="300"/>
                  </a:lnTo>
                  <a:lnTo>
                    <a:pt x="3315" y="306"/>
                  </a:lnTo>
                  <a:lnTo>
                    <a:pt x="3315" y="312"/>
                  </a:lnTo>
                  <a:close/>
                </a:path>
              </a:pathLst>
            </a:custGeom>
            <a:solidFill>
              <a:srgbClr val="b2b2b2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43080" y="1257480"/>
            <a:ext cx="3848040" cy="4000320"/>
            <a:chOff x="343080" y="1257480"/>
            <a:chExt cx="3848040" cy="4000320"/>
          </a:xfrm>
        </p:grpSpPr>
        <p:sp>
          <p:nvSpPr>
            <p:cNvPr id="99" name=""/>
            <p:cNvSpPr/>
            <p:nvPr/>
          </p:nvSpPr>
          <p:spPr>
            <a:xfrm>
              <a:off x="343080" y="1434960"/>
              <a:ext cx="3848040" cy="3568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74360" y="1257480"/>
              <a:ext cx="2717640" cy="4000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77560" y="1380600"/>
            <a:ext cx="3399480" cy="3633120"/>
            <a:chOff x="4777560" y="1380600"/>
            <a:chExt cx="3399480" cy="3633120"/>
          </a:xfrm>
        </p:grpSpPr>
        <p:grpSp>
          <p:nvGrpSpPr>
            <p:cNvPr id="102" name=""/>
            <p:cNvGrpSpPr/>
            <p:nvPr/>
          </p:nvGrpSpPr>
          <p:grpSpPr>
            <a:xfrm>
              <a:off x="4989960" y="1380600"/>
              <a:ext cx="3187080" cy="3633120"/>
              <a:chOff x="4989960" y="1380600"/>
              <a:chExt cx="3187080" cy="363312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5400720" y="1633680"/>
                <a:ext cx="2776320" cy="3380040"/>
                <a:chOff x="5400720" y="1633680"/>
                <a:chExt cx="2776320" cy="33800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400720" y="1633680"/>
                  <a:ext cx="2509920" cy="3208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19319400">
                  <a:off x="7343280" y="4597920"/>
                  <a:ext cx="876240" cy="163080"/>
                </a:xfrm>
                <a:custGeom>
                  <a:avLst/>
                  <a:gdLst/>
                  <a:ahLst/>
                  <a:rect l="l" t="t" r="r" b="b"/>
                  <a:pathLst>
                    <a:path w="3315" h="622">
                      <a:moveTo>
                        <a:pt x="3315" y="312"/>
                      </a:moveTo>
                      <a:lnTo>
                        <a:pt x="3315" y="317"/>
                      </a:lnTo>
                      <a:lnTo>
                        <a:pt x="3314" y="322"/>
                      </a:lnTo>
                      <a:lnTo>
                        <a:pt x="3313" y="328"/>
                      </a:lnTo>
                      <a:lnTo>
                        <a:pt x="3311" y="333"/>
                      </a:lnTo>
                      <a:lnTo>
                        <a:pt x="3309" y="338"/>
                      </a:lnTo>
                      <a:lnTo>
                        <a:pt x="3307" y="344"/>
                      </a:lnTo>
                      <a:lnTo>
                        <a:pt x="3303" y="349"/>
                      </a:lnTo>
                      <a:lnTo>
                        <a:pt x="3299" y="354"/>
                      </a:lnTo>
                      <a:lnTo>
                        <a:pt x="3295" y="360"/>
                      </a:lnTo>
                      <a:lnTo>
                        <a:pt x="3290" y="365"/>
                      </a:lnTo>
                      <a:lnTo>
                        <a:pt x="3284" y="370"/>
                      </a:lnTo>
                      <a:lnTo>
                        <a:pt x="3279" y="376"/>
                      </a:lnTo>
                      <a:lnTo>
                        <a:pt x="3273" y="381"/>
                      </a:lnTo>
                      <a:lnTo>
                        <a:pt x="3266" y="386"/>
                      </a:lnTo>
                      <a:lnTo>
                        <a:pt x="3259" y="392"/>
                      </a:lnTo>
                      <a:lnTo>
                        <a:pt x="3251" y="397"/>
                      </a:lnTo>
                      <a:lnTo>
                        <a:pt x="3243" y="402"/>
                      </a:lnTo>
                      <a:lnTo>
                        <a:pt x="3234" y="408"/>
                      </a:lnTo>
                      <a:lnTo>
                        <a:pt x="3225" y="413"/>
                      </a:lnTo>
                      <a:lnTo>
                        <a:pt x="3215" y="418"/>
                      </a:lnTo>
                      <a:lnTo>
                        <a:pt x="3204" y="423"/>
                      </a:lnTo>
                      <a:lnTo>
                        <a:pt x="3194" y="428"/>
                      </a:lnTo>
                      <a:lnTo>
                        <a:pt x="3183" y="433"/>
                      </a:lnTo>
                      <a:lnTo>
                        <a:pt x="3171" y="439"/>
                      </a:lnTo>
                      <a:lnTo>
                        <a:pt x="3159" y="443"/>
                      </a:lnTo>
                      <a:lnTo>
                        <a:pt x="3147" y="448"/>
                      </a:lnTo>
                      <a:lnTo>
                        <a:pt x="3134" y="452"/>
                      </a:lnTo>
                      <a:lnTo>
                        <a:pt x="3120" y="458"/>
                      </a:lnTo>
                      <a:lnTo>
                        <a:pt x="3106" y="462"/>
                      </a:lnTo>
                      <a:lnTo>
                        <a:pt x="3092" y="467"/>
                      </a:lnTo>
                      <a:lnTo>
                        <a:pt x="3077" y="472"/>
                      </a:lnTo>
                      <a:lnTo>
                        <a:pt x="3062" y="477"/>
                      </a:lnTo>
                      <a:lnTo>
                        <a:pt x="3046" y="481"/>
                      </a:lnTo>
                      <a:lnTo>
                        <a:pt x="3030" y="486"/>
                      </a:lnTo>
                      <a:lnTo>
                        <a:pt x="3013" y="490"/>
                      </a:lnTo>
                      <a:lnTo>
                        <a:pt x="2997" y="494"/>
                      </a:lnTo>
                      <a:lnTo>
                        <a:pt x="2979" y="499"/>
                      </a:lnTo>
                      <a:lnTo>
                        <a:pt x="2962" y="504"/>
                      </a:lnTo>
                      <a:lnTo>
                        <a:pt x="2944" y="508"/>
                      </a:lnTo>
                      <a:lnTo>
                        <a:pt x="2925" y="512"/>
                      </a:lnTo>
                      <a:lnTo>
                        <a:pt x="2907" y="515"/>
                      </a:lnTo>
                      <a:lnTo>
                        <a:pt x="2888" y="520"/>
                      </a:lnTo>
                      <a:lnTo>
                        <a:pt x="2867" y="524"/>
                      </a:lnTo>
                      <a:lnTo>
                        <a:pt x="2847" y="528"/>
                      </a:lnTo>
                      <a:lnTo>
                        <a:pt x="2827" y="531"/>
                      </a:lnTo>
                      <a:lnTo>
                        <a:pt x="2807" y="536"/>
                      </a:lnTo>
                      <a:lnTo>
                        <a:pt x="2785" y="539"/>
                      </a:lnTo>
                      <a:lnTo>
                        <a:pt x="2764" y="543"/>
                      </a:lnTo>
                      <a:lnTo>
                        <a:pt x="2743" y="546"/>
                      </a:lnTo>
                      <a:lnTo>
                        <a:pt x="2720" y="550"/>
                      </a:lnTo>
                      <a:lnTo>
                        <a:pt x="2698" y="554"/>
                      </a:lnTo>
                      <a:lnTo>
                        <a:pt x="2674" y="557"/>
                      </a:lnTo>
                      <a:lnTo>
                        <a:pt x="2652" y="560"/>
                      </a:lnTo>
                      <a:lnTo>
                        <a:pt x="2628" y="563"/>
                      </a:lnTo>
                      <a:lnTo>
                        <a:pt x="2605" y="567"/>
                      </a:lnTo>
                      <a:lnTo>
                        <a:pt x="2580" y="570"/>
                      </a:lnTo>
                      <a:lnTo>
                        <a:pt x="2557" y="573"/>
                      </a:lnTo>
                      <a:lnTo>
                        <a:pt x="2532" y="575"/>
                      </a:lnTo>
                      <a:lnTo>
                        <a:pt x="2507" y="578"/>
                      </a:lnTo>
                      <a:lnTo>
                        <a:pt x="2482" y="582"/>
                      </a:lnTo>
                      <a:lnTo>
                        <a:pt x="2457" y="584"/>
                      </a:lnTo>
                      <a:lnTo>
                        <a:pt x="2431" y="586"/>
                      </a:lnTo>
                      <a:lnTo>
                        <a:pt x="2406" y="589"/>
                      </a:lnTo>
                      <a:lnTo>
                        <a:pt x="2380" y="591"/>
                      </a:lnTo>
                      <a:lnTo>
                        <a:pt x="2353" y="593"/>
                      </a:lnTo>
                      <a:lnTo>
                        <a:pt x="2327" y="595"/>
                      </a:lnTo>
                      <a:lnTo>
                        <a:pt x="2300" y="598"/>
                      </a:lnTo>
                      <a:lnTo>
                        <a:pt x="2273" y="600"/>
                      </a:lnTo>
                      <a:lnTo>
                        <a:pt x="2247" y="602"/>
                      </a:lnTo>
                      <a:lnTo>
                        <a:pt x="2219" y="604"/>
                      </a:lnTo>
                      <a:lnTo>
                        <a:pt x="2191" y="606"/>
                      </a:lnTo>
                      <a:lnTo>
                        <a:pt x="2165" y="607"/>
                      </a:lnTo>
                      <a:lnTo>
                        <a:pt x="2137" y="609"/>
                      </a:lnTo>
                      <a:lnTo>
                        <a:pt x="2109" y="610"/>
                      </a:lnTo>
                      <a:lnTo>
                        <a:pt x="2080" y="612"/>
                      </a:lnTo>
                      <a:lnTo>
                        <a:pt x="2053" y="614"/>
                      </a:lnTo>
                      <a:lnTo>
                        <a:pt x="2024" y="615"/>
                      </a:lnTo>
                      <a:lnTo>
                        <a:pt x="1996" y="616"/>
                      </a:lnTo>
                      <a:lnTo>
                        <a:pt x="1967" y="617"/>
                      </a:lnTo>
                      <a:lnTo>
                        <a:pt x="1939" y="618"/>
                      </a:lnTo>
                      <a:lnTo>
                        <a:pt x="1911" y="619"/>
                      </a:lnTo>
                      <a:lnTo>
                        <a:pt x="1882" y="620"/>
                      </a:lnTo>
                      <a:lnTo>
                        <a:pt x="1853" y="620"/>
                      </a:lnTo>
                      <a:lnTo>
                        <a:pt x="1824" y="621"/>
                      </a:lnTo>
                      <a:lnTo>
                        <a:pt x="1795" y="621"/>
                      </a:lnTo>
                      <a:lnTo>
                        <a:pt x="1766" y="622"/>
                      </a:lnTo>
                      <a:lnTo>
                        <a:pt x="1737" y="622"/>
                      </a:lnTo>
                      <a:lnTo>
                        <a:pt x="1708" y="622"/>
                      </a:lnTo>
                      <a:lnTo>
                        <a:pt x="1679" y="622"/>
                      </a:lnTo>
                      <a:lnTo>
                        <a:pt x="1651" y="622"/>
                      </a:lnTo>
                      <a:lnTo>
                        <a:pt x="1621" y="622"/>
                      </a:lnTo>
                      <a:lnTo>
                        <a:pt x="1592" y="622"/>
                      </a:lnTo>
                      <a:lnTo>
                        <a:pt x="1563" y="622"/>
                      </a:lnTo>
                      <a:lnTo>
                        <a:pt x="1534" y="621"/>
                      </a:lnTo>
                      <a:lnTo>
                        <a:pt x="1506" y="621"/>
                      </a:lnTo>
                      <a:lnTo>
                        <a:pt x="1477" y="620"/>
                      </a:lnTo>
                      <a:lnTo>
                        <a:pt x="1448" y="620"/>
                      </a:lnTo>
                      <a:lnTo>
                        <a:pt x="1419" y="619"/>
                      </a:lnTo>
                      <a:lnTo>
                        <a:pt x="1390" y="618"/>
                      </a:lnTo>
                      <a:lnTo>
                        <a:pt x="1362" y="618"/>
                      </a:lnTo>
                      <a:lnTo>
                        <a:pt x="1333" y="617"/>
                      </a:lnTo>
                      <a:lnTo>
                        <a:pt x="1305" y="616"/>
                      </a:lnTo>
                      <a:lnTo>
                        <a:pt x="1276" y="614"/>
                      </a:lnTo>
                      <a:lnTo>
                        <a:pt x="1249" y="612"/>
                      </a:lnTo>
                      <a:lnTo>
                        <a:pt x="1220" y="611"/>
                      </a:lnTo>
                      <a:lnTo>
                        <a:pt x="1192" y="609"/>
                      </a:lnTo>
                      <a:lnTo>
                        <a:pt x="1164" y="608"/>
                      </a:lnTo>
                      <a:lnTo>
                        <a:pt x="1137" y="606"/>
                      </a:lnTo>
                      <a:lnTo>
                        <a:pt x="1109" y="605"/>
                      </a:lnTo>
                      <a:lnTo>
                        <a:pt x="1082" y="603"/>
                      </a:lnTo>
                      <a:lnTo>
                        <a:pt x="1055" y="601"/>
                      </a:lnTo>
                      <a:lnTo>
                        <a:pt x="1028" y="599"/>
                      </a:lnTo>
                      <a:lnTo>
                        <a:pt x="1001" y="596"/>
                      </a:lnTo>
                      <a:lnTo>
                        <a:pt x="975" y="594"/>
                      </a:lnTo>
                      <a:lnTo>
                        <a:pt x="948" y="592"/>
                      </a:lnTo>
                      <a:lnTo>
                        <a:pt x="922" y="590"/>
                      </a:lnTo>
                      <a:lnTo>
                        <a:pt x="897" y="588"/>
                      </a:lnTo>
                      <a:lnTo>
                        <a:pt x="871" y="585"/>
                      </a:lnTo>
                      <a:lnTo>
                        <a:pt x="846" y="583"/>
                      </a:lnTo>
                      <a:lnTo>
                        <a:pt x="820" y="579"/>
                      </a:lnTo>
                      <a:lnTo>
                        <a:pt x="796" y="577"/>
                      </a:lnTo>
                      <a:lnTo>
                        <a:pt x="771" y="574"/>
                      </a:lnTo>
                      <a:lnTo>
                        <a:pt x="746" y="571"/>
                      </a:lnTo>
                      <a:lnTo>
                        <a:pt x="722" y="568"/>
                      </a:lnTo>
                      <a:lnTo>
                        <a:pt x="698" y="564"/>
                      </a:lnTo>
                      <a:lnTo>
                        <a:pt x="675" y="561"/>
                      </a:lnTo>
                      <a:lnTo>
                        <a:pt x="652" y="558"/>
                      </a:lnTo>
                      <a:lnTo>
                        <a:pt x="628" y="555"/>
                      </a:lnTo>
                      <a:lnTo>
                        <a:pt x="606" y="552"/>
                      </a:lnTo>
                      <a:lnTo>
                        <a:pt x="583" y="548"/>
                      </a:lnTo>
                      <a:lnTo>
                        <a:pt x="562" y="544"/>
                      </a:lnTo>
                      <a:lnTo>
                        <a:pt x="541" y="541"/>
                      </a:lnTo>
                      <a:lnTo>
                        <a:pt x="519" y="538"/>
                      </a:lnTo>
                      <a:lnTo>
                        <a:pt x="498" y="534"/>
                      </a:lnTo>
                      <a:lnTo>
                        <a:pt x="478" y="529"/>
                      </a:lnTo>
                      <a:lnTo>
                        <a:pt x="457" y="526"/>
                      </a:lnTo>
                      <a:lnTo>
                        <a:pt x="437" y="522"/>
                      </a:lnTo>
                      <a:lnTo>
                        <a:pt x="418" y="518"/>
                      </a:lnTo>
                      <a:lnTo>
                        <a:pt x="399" y="513"/>
                      </a:lnTo>
                      <a:lnTo>
                        <a:pt x="380" y="510"/>
                      </a:lnTo>
                      <a:lnTo>
                        <a:pt x="362" y="506"/>
                      </a:lnTo>
                      <a:lnTo>
                        <a:pt x="344" y="502"/>
                      </a:lnTo>
                      <a:lnTo>
                        <a:pt x="326" y="497"/>
                      </a:lnTo>
                      <a:lnTo>
                        <a:pt x="309" y="492"/>
                      </a:lnTo>
                      <a:lnTo>
                        <a:pt x="292" y="488"/>
                      </a:lnTo>
                      <a:lnTo>
                        <a:pt x="276" y="483"/>
                      </a:lnTo>
                      <a:lnTo>
                        <a:pt x="260" y="479"/>
                      </a:lnTo>
                      <a:lnTo>
                        <a:pt x="245" y="474"/>
                      </a:lnTo>
                      <a:lnTo>
                        <a:pt x="230" y="470"/>
                      </a:lnTo>
                      <a:lnTo>
                        <a:pt x="215" y="465"/>
                      </a:lnTo>
                      <a:lnTo>
                        <a:pt x="202" y="460"/>
                      </a:lnTo>
                      <a:lnTo>
                        <a:pt x="188" y="456"/>
                      </a:lnTo>
                      <a:lnTo>
                        <a:pt x="175" y="450"/>
                      </a:lnTo>
                      <a:lnTo>
                        <a:pt x="162" y="446"/>
                      </a:lnTo>
                      <a:lnTo>
                        <a:pt x="149" y="441"/>
                      </a:lnTo>
                      <a:lnTo>
                        <a:pt x="138" y="435"/>
                      </a:lnTo>
                      <a:lnTo>
                        <a:pt x="126" y="431"/>
                      </a:lnTo>
                      <a:lnTo>
                        <a:pt x="115" y="426"/>
                      </a:lnTo>
                      <a:lnTo>
                        <a:pt x="105" y="420"/>
                      </a:lnTo>
                      <a:lnTo>
                        <a:pt x="95" y="415"/>
                      </a:lnTo>
                      <a:lnTo>
                        <a:pt x="85" y="410"/>
                      </a:lnTo>
                      <a:lnTo>
                        <a:pt x="77" y="406"/>
                      </a:lnTo>
                      <a:lnTo>
                        <a:pt x="68" y="400"/>
                      </a:lnTo>
                      <a:lnTo>
                        <a:pt x="60" y="395"/>
                      </a:lnTo>
                      <a:lnTo>
                        <a:pt x="52" y="390"/>
                      </a:lnTo>
                      <a:lnTo>
                        <a:pt x="46" y="384"/>
                      </a:lnTo>
                      <a:lnTo>
                        <a:pt x="39" y="379"/>
                      </a:lnTo>
                      <a:lnTo>
                        <a:pt x="33" y="374"/>
                      </a:lnTo>
                      <a:lnTo>
                        <a:pt x="28" y="368"/>
                      </a:lnTo>
                      <a:lnTo>
                        <a:pt x="22" y="363"/>
                      </a:lnTo>
                      <a:lnTo>
                        <a:pt x="18" y="358"/>
                      </a:lnTo>
                      <a:lnTo>
                        <a:pt x="14" y="352"/>
                      </a:lnTo>
                      <a:lnTo>
                        <a:pt x="11" y="347"/>
                      </a:lnTo>
                      <a:lnTo>
                        <a:pt x="8" y="342"/>
                      </a:lnTo>
                      <a:lnTo>
                        <a:pt x="4" y="336"/>
                      </a:lnTo>
                      <a:lnTo>
                        <a:pt x="2" y="331"/>
                      </a:lnTo>
                      <a:lnTo>
                        <a:pt x="1" y="325"/>
                      </a:lnTo>
                      <a:lnTo>
                        <a:pt x="0" y="319"/>
                      </a:lnTo>
                      <a:lnTo>
                        <a:pt x="0" y="314"/>
                      </a:lnTo>
                      <a:lnTo>
                        <a:pt x="0" y="309"/>
                      </a:lnTo>
                      <a:lnTo>
                        <a:pt x="0" y="303"/>
                      </a:lnTo>
                      <a:lnTo>
                        <a:pt x="1" y="298"/>
                      </a:lnTo>
                      <a:lnTo>
                        <a:pt x="2" y="293"/>
                      </a:lnTo>
                      <a:lnTo>
                        <a:pt x="4" y="287"/>
                      </a:lnTo>
                      <a:lnTo>
                        <a:pt x="8" y="282"/>
                      </a:lnTo>
                      <a:lnTo>
                        <a:pt x="11" y="277"/>
                      </a:lnTo>
                      <a:lnTo>
                        <a:pt x="14" y="271"/>
                      </a:lnTo>
                      <a:lnTo>
                        <a:pt x="18" y="265"/>
                      </a:lnTo>
                      <a:lnTo>
                        <a:pt x="22" y="259"/>
                      </a:lnTo>
                      <a:lnTo>
                        <a:pt x="28" y="254"/>
                      </a:lnTo>
                      <a:lnTo>
                        <a:pt x="33" y="249"/>
                      </a:lnTo>
                      <a:lnTo>
                        <a:pt x="39" y="243"/>
                      </a:lnTo>
                      <a:lnTo>
                        <a:pt x="46" y="238"/>
                      </a:lnTo>
                      <a:lnTo>
                        <a:pt x="52" y="233"/>
                      </a:lnTo>
                      <a:lnTo>
                        <a:pt x="60" y="229"/>
                      </a:lnTo>
                      <a:lnTo>
                        <a:pt x="68" y="223"/>
                      </a:lnTo>
                      <a:lnTo>
                        <a:pt x="77" y="218"/>
                      </a:lnTo>
                      <a:lnTo>
                        <a:pt x="85" y="213"/>
                      </a:lnTo>
                      <a:lnTo>
                        <a:pt x="95" y="207"/>
                      </a:lnTo>
                      <a:lnTo>
                        <a:pt x="105" y="202"/>
                      </a:lnTo>
                      <a:lnTo>
                        <a:pt x="115" y="198"/>
                      </a:lnTo>
                      <a:lnTo>
                        <a:pt x="126" y="192"/>
                      </a:lnTo>
                      <a:lnTo>
                        <a:pt x="138" y="187"/>
                      </a:lnTo>
                      <a:lnTo>
                        <a:pt x="149" y="182"/>
                      </a:lnTo>
                      <a:lnTo>
                        <a:pt x="162" y="177"/>
                      </a:lnTo>
                      <a:lnTo>
                        <a:pt x="175" y="172"/>
                      </a:lnTo>
                      <a:lnTo>
                        <a:pt x="188" y="168"/>
                      </a:lnTo>
                      <a:lnTo>
                        <a:pt x="202" y="162"/>
                      </a:lnTo>
                      <a:lnTo>
                        <a:pt x="215" y="158"/>
                      </a:lnTo>
                      <a:lnTo>
                        <a:pt x="230" y="153"/>
                      </a:lnTo>
                      <a:lnTo>
                        <a:pt x="245" y="149"/>
                      </a:lnTo>
                      <a:lnTo>
                        <a:pt x="260" y="144"/>
                      </a:lnTo>
                      <a:lnTo>
                        <a:pt x="276" y="139"/>
                      </a:lnTo>
                      <a:lnTo>
                        <a:pt x="292" y="135"/>
                      </a:lnTo>
                      <a:lnTo>
                        <a:pt x="309" y="130"/>
                      </a:lnTo>
                      <a:lnTo>
                        <a:pt x="326" y="126"/>
                      </a:lnTo>
                      <a:lnTo>
                        <a:pt x="343" y="122"/>
                      </a:lnTo>
                      <a:lnTo>
                        <a:pt x="362" y="118"/>
                      </a:lnTo>
                      <a:lnTo>
                        <a:pt x="380" y="113"/>
                      </a:lnTo>
                      <a:lnTo>
                        <a:pt x="399" y="109"/>
                      </a:lnTo>
                      <a:lnTo>
                        <a:pt x="418" y="105"/>
                      </a:lnTo>
                      <a:lnTo>
                        <a:pt x="437" y="101"/>
                      </a:lnTo>
                      <a:lnTo>
                        <a:pt x="457" y="97"/>
                      </a:lnTo>
                      <a:lnTo>
                        <a:pt x="478" y="93"/>
                      </a:lnTo>
                      <a:lnTo>
                        <a:pt x="498" y="89"/>
                      </a:lnTo>
                      <a:lnTo>
                        <a:pt x="519" y="86"/>
                      </a:lnTo>
                      <a:lnTo>
                        <a:pt x="541" y="81"/>
                      </a:lnTo>
                      <a:lnTo>
                        <a:pt x="562" y="78"/>
                      </a:lnTo>
                      <a:lnTo>
                        <a:pt x="583" y="75"/>
                      </a:lnTo>
                      <a:lnTo>
                        <a:pt x="606" y="71"/>
                      </a:lnTo>
                      <a:lnTo>
                        <a:pt x="628" y="67"/>
                      </a:lnTo>
                      <a:lnTo>
                        <a:pt x="652" y="64"/>
                      </a:lnTo>
                      <a:lnTo>
                        <a:pt x="675" y="61"/>
                      </a:lnTo>
                      <a:lnTo>
                        <a:pt x="698" y="58"/>
                      </a:lnTo>
                      <a:lnTo>
                        <a:pt x="722" y="55"/>
                      </a:lnTo>
                      <a:lnTo>
                        <a:pt x="746" y="51"/>
                      </a:lnTo>
                      <a:lnTo>
                        <a:pt x="771" y="48"/>
                      </a:lnTo>
                      <a:lnTo>
                        <a:pt x="796" y="46"/>
                      </a:lnTo>
                      <a:lnTo>
                        <a:pt x="820" y="43"/>
                      </a:lnTo>
                      <a:lnTo>
                        <a:pt x="846" y="41"/>
                      </a:lnTo>
                      <a:lnTo>
                        <a:pt x="870" y="38"/>
                      </a:lnTo>
                      <a:lnTo>
                        <a:pt x="897" y="36"/>
                      </a:lnTo>
                      <a:lnTo>
                        <a:pt x="922" y="32"/>
                      </a:lnTo>
                      <a:lnTo>
                        <a:pt x="948" y="30"/>
                      </a:lnTo>
                      <a:lnTo>
                        <a:pt x="975" y="28"/>
                      </a:lnTo>
                      <a:lnTo>
                        <a:pt x="1001" y="26"/>
                      </a:lnTo>
                      <a:lnTo>
                        <a:pt x="1028" y="24"/>
                      </a:lnTo>
                      <a:lnTo>
                        <a:pt x="1055" y="22"/>
                      </a:lnTo>
                      <a:lnTo>
                        <a:pt x="1082" y="20"/>
                      </a:lnTo>
                      <a:lnTo>
                        <a:pt x="1109" y="18"/>
                      </a:lnTo>
                      <a:lnTo>
                        <a:pt x="1137" y="16"/>
                      </a:lnTo>
                      <a:lnTo>
                        <a:pt x="1164" y="14"/>
                      </a:lnTo>
                      <a:lnTo>
                        <a:pt x="1192" y="13"/>
                      </a:lnTo>
                      <a:lnTo>
                        <a:pt x="1220" y="11"/>
                      </a:lnTo>
                      <a:lnTo>
                        <a:pt x="1249" y="10"/>
                      </a:lnTo>
                      <a:lnTo>
                        <a:pt x="1276" y="9"/>
                      </a:lnTo>
                      <a:lnTo>
                        <a:pt x="1304" y="8"/>
                      </a:lnTo>
                      <a:lnTo>
                        <a:pt x="1333" y="7"/>
                      </a:lnTo>
                      <a:lnTo>
                        <a:pt x="1362" y="6"/>
                      </a:lnTo>
                      <a:lnTo>
                        <a:pt x="1390" y="5"/>
                      </a:lnTo>
                      <a:lnTo>
                        <a:pt x="1419" y="4"/>
                      </a:lnTo>
                      <a:lnTo>
                        <a:pt x="1448" y="2"/>
                      </a:lnTo>
                      <a:lnTo>
                        <a:pt x="1477" y="2"/>
                      </a:lnTo>
                      <a:lnTo>
                        <a:pt x="1506" y="1"/>
                      </a:lnTo>
                      <a:lnTo>
                        <a:pt x="1534" y="1"/>
                      </a:lnTo>
                      <a:lnTo>
                        <a:pt x="1563" y="1"/>
                      </a:lnTo>
                      <a:lnTo>
                        <a:pt x="1592" y="0"/>
                      </a:lnTo>
                      <a:lnTo>
                        <a:pt x="1621" y="0"/>
                      </a:lnTo>
                      <a:lnTo>
                        <a:pt x="1650" y="0"/>
                      </a:lnTo>
                      <a:lnTo>
                        <a:pt x="1679" y="0"/>
                      </a:lnTo>
                      <a:lnTo>
                        <a:pt x="1708" y="0"/>
                      </a:lnTo>
                      <a:lnTo>
                        <a:pt x="1737" y="0"/>
                      </a:lnTo>
                      <a:lnTo>
                        <a:pt x="1766" y="1"/>
                      </a:lnTo>
                      <a:lnTo>
                        <a:pt x="1795" y="1"/>
                      </a:lnTo>
                      <a:lnTo>
                        <a:pt x="1823" y="2"/>
                      </a:lnTo>
                      <a:lnTo>
                        <a:pt x="1853" y="2"/>
                      </a:lnTo>
                      <a:lnTo>
                        <a:pt x="1882" y="4"/>
                      </a:lnTo>
                      <a:lnTo>
                        <a:pt x="1910" y="5"/>
                      </a:lnTo>
                      <a:lnTo>
                        <a:pt x="1939" y="5"/>
                      </a:lnTo>
                      <a:lnTo>
                        <a:pt x="1967" y="6"/>
                      </a:lnTo>
                      <a:lnTo>
                        <a:pt x="1996" y="7"/>
                      </a:lnTo>
                      <a:lnTo>
                        <a:pt x="2024" y="8"/>
                      </a:lnTo>
                      <a:lnTo>
                        <a:pt x="2053" y="10"/>
                      </a:lnTo>
                      <a:lnTo>
                        <a:pt x="2080" y="11"/>
                      </a:lnTo>
                      <a:lnTo>
                        <a:pt x="2108" y="12"/>
                      </a:lnTo>
                      <a:lnTo>
                        <a:pt x="2137" y="14"/>
                      </a:lnTo>
                      <a:lnTo>
                        <a:pt x="2165" y="15"/>
                      </a:lnTo>
                      <a:lnTo>
                        <a:pt x="2191" y="17"/>
                      </a:lnTo>
                      <a:lnTo>
                        <a:pt x="2219" y="18"/>
                      </a:lnTo>
                      <a:lnTo>
                        <a:pt x="2247" y="21"/>
                      </a:lnTo>
                      <a:lnTo>
                        <a:pt x="2273" y="23"/>
                      </a:lnTo>
                      <a:lnTo>
                        <a:pt x="2300" y="25"/>
                      </a:lnTo>
                      <a:lnTo>
                        <a:pt x="2327" y="27"/>
                      </a:lnTo>
                      <a:lnTo>
                        <a:pt x="2353" y="29"/>
                      </a:lnTo>
                      <a:lnTo>
                        <a:pt x="2380" y="31"/>
                      </a:lnTo>
                      <a:lnTo>
                        <a:pt x="2406" y="34"/>
                      </a:lnTo>
                      <a:lnTo>
                        <a:pt x="2431" y="37"/>
                      </a:lnTo>
                      <a:lnTo>
                        <a:pt x="2457" y="39"/>
                      </a:lnTo>
                      <a:lnTo>
                        <a:pt x="2482" y="42"/>
                      </a:lnTo>
                      <a:lnTo>
                        <a:pt x="2507" y="44"/>
                      </a:lnTo>
                      <a:lnTo>
                        <a:pt x="2532" y="47"/>
                      </a:lnTo>
                      <a:lnTo>
                        <a:pt x="2557" y="50"/>
                      </a:lnTo>
                      <a:lnTo>
                        <a:pt x="2580" y="54"/>
                      </a:lnTo>
                      <a:lnTo>
                        <a:pt x="2605" y="56"/>
                      </a:lnTo>
                      <a:lnTo>
                        <a:pt x="2628" y="59"/>
                      </a:lnTo>
                      <a:lnTo>
                        <a:pt x="2652" y="62"/>
                      </a:lnTo>
                      <a:lnTo>
                        <a:pt x="2674" y="65"/>
                      </a:lnTo>
                      <a:lnTo>
                        <a:pt x="2698" y="70"/>
                      </a:lnTo>
                      <a:lnTo>
                        <a:pt x="2720" y="73"/>
                      </a:lnTo>
                      <a:lnTo>
                        <a:pt x="2743" y="76"/>
                      </a:lnTo>
                      <a:lnTo>
                        <a:pt x="2764" y="80"/>
                      </a:lnTo>
                      <a:lnTo>
                        <a:pt x="2785" y="83"/>
                      </a:lnTo>
                      <a:lnTo>
                        <a:pt x="2807" y="88"/>
                      </a:lnTo>
                      <a:lnTo>
                        <a:pt x="2827" y="91"/>
                      </a:lnTo>
                      <a:lnTo>
                        <a:pt x="2847" y="95"/>
                      </a:lnTo>
                      <a:lnTo>
                        <a:pt x="2867" y="98"/>
                      </a:lnTo>
                      <a:lnTo>
                        <a:pt x="2888" y="103"/>
                      </a:lnTo>
                      <a:lnTo>
                        <a:pt x="2907" y="107"/>
                      </a:lnTo>
                      <a:lnTo>
                        <a:pt x="2925" y="111"/>
                      </a:lnTo>
                      <a:lnTo>
                        <a:pt x="2944" y="115"/>
                      </a:lnTo>
                      <a:lnTo>
                        <a:pt x="2962" y="120"/>
                      </a:lnTo>
                      <a:lnTo>
                        <a:pt x="2979" y="124"/>
                      </a:lnTo>
                      <a:lnTo>
                        <a:pt x="2997" y="128"/>
                      </a:lnTo>
                      <a:lnTo>
                        <a:pt x="3013" y="133"/>
                      </a:lnTo>
                      <a:lnTo>
                        <a:pt x="3030" y="137"/>
                      </a:lnTo>
                      <a:lnTo>
                        <a:pt x="3046" y="141"/>
                      </a:lnTo>
                      <a:lnTo>
                        <a:pt x="3062" y="146"/>
                      </a:lnTo>
                      <a:lnTo>
                        <a:pt x="3077" y="151"/>
                      </a:lnTo>
                      <a:lnTo>
                        <a:pt x="3092" y="156"/>
                      </a:lnTo>
                      <a:lnTo>
                        <a:pt x="3106" y="160"/>
                      </a:lnTo>
                      <a:lnTo>
                        <a:pt x="3120" y="165"/>
                      </a:lnTo>
                      <a:lnTo>
                        <a:pt x="3134" y="170"/>
                      </a:lnTo>
                      <a:lnTo>
                        <a:pt x="3147" y="175"/>
                      </a:lnTo>
                      <a:lnTo>
                        <a:pt x="3159" y="179"/>
                      </a:lnTo>
                      <a:lnTo>
                        <a:pt x="3171" y="185"/>
                      </a:lnTo>
                      <a:lnTo>
                        <a:pt x="3183" y="189"/>
                      </a:lnTo>
                      <a:lnTo>
                        <a:pt x="3194" y="194"/>
                      </a:lnTo>
                      <a:lnTo>
                        <a:pt x="3204" y="200"/>
                      </a:lnTo>
                      <a:lnTo>
                        <a:pt x="3215" y="205"/>
                      </a:lnTo>
                      <a:lnTo>
                        <a:pt x="3225" y="209"/>
                      </a:lnTo>
                      <a:lnTo>
                        <a:pt x="3234" y="215"/>
                      </a:lnTo>
                      <a:lnTo>
                        <a:pt x="3243" y="220"/>
                      </a:lnTo>
                      <a:lnTo>
                        <a:pt x="3251" y="225"/>
                      </a:lnTo>
                      <a:lnTo>
                        <a:pt x="3259" y="231"/>
                      </a:lnTo>
                      <a:lnTo>
                        <a:pt x="3266" y="236"/>
                      </a:lnTo>
                      <a:lnTo>
                        <a:pt x="3273" y="241"/>
                      </a:lnTo>
                      <a:lnTo>
                        <a:pt x="3279" y="247"/>
                      </a:lnTo>
                      <a:lnTo>
                        <a:pt x="3284" y="252"/>
                      </a:lnTo>
                      <a:lnTo>
                        <a:pt x="3290" y="257"/>
                      </a:lnTo>
                      <a:lnTo>
                        <a:pt x="3295" y="263"/>
                      </a:lnTo>
                      <a:lnTo>
                        <a:pt x="3299" y="268"/>
                      </a:lnTo>
                      <a:lnTo>
                        <a:pt x="3303" y="273"/>
                      </a:lnTo>
                      <a:lnTo>
                        <a:pt x="3307" y="279"/>
                      </a:lnTo>
                      <a:lnTo>
                        <a:pt x="3309" y="284"/>
                      </a:lnTo>
                      <a:lnTo>
                        <a:pt x="3311" y="289"/>
                      </a:lnTo>
                      <a:lnTo>
                        <a:pt x="3313" y="295"/>
                      </a:lnTo>
                      <a:lnTo>
                        <a:pt x="3314" y="300"/>
                      </a:lnTo>
                      <a:lnTo>
                        <a:pt x="3315" y="306"/>
                      </a:lnTo>
                      <a:lnTo>
                        <a:pt x="3315" y="31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5103000" y="1380600"/>
                <a:ext cx="893520" cy="3373560"/>
                <a:chOff x="5103000" y="1380600"/>
                <a:chExt cx="893520" cy="3373560"/>
              </a:xfrm>
            </p:grpSpPr>
            <p:sp>
              <p:nvSpPr>
                <p:cNvPr id="107" name=""/>
                <p:cNvSpPr/>
                <p:nvPr/>
              </p:nvSpPr>
              <p:spPr>
                <a:xfrm flipH="1">
                  <a:off x="5534640" y="1380600"/>
                  <a:ext cx="82080" cy="32608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868400">
                  <a:off x="5167080" y="4127760"/>
                  <a:ext cx="765000" cy="461880"/>
                </a:xfrm>
                <a:custGeom>
                  <a:avLst/>
                  <a:gdLst/>
                  <a:ahLst/>
                  <a:rect l="l" t="t" r="r" b="b"/>
                  <a:pathLst>
                    <a:path w="2887" h="1745">
                      <a:moveTo>
                        <a:pt x="2879" y="42"/>
                      </a:moveTo>
                      <a:lnTo>
                        <a:pt x="2882" y="47"/>
                      </a:lnTo>
                      <a:lnTo>
                        <a:pt x="2884" y="52"/>
                      </a:lnTo>
                      <a:lnTo>
                        <a:pt x="2885" y="58"/>
                      </a:lnTo>
                      <a:lnTo>
                        <a:pt x="2886" y="63"/>
                      </a:lnTo>
                      <a:lnTo>
                        <a:pt x="2887" y="68"/>
                      </a:lnTo>
                      <a:lnTo>
                        <a:pt x="2887" y="75"/>
                      </a:lnTo>
                      <a:lnTo>
                        <a:pt x="2887" y="81"/>
                      </a:lnTo>
                      <a:lnTo>
                        <a:pt x="2886" y="88"/>
                      </a:lnTo>
                      <a:lnTo>
                        <a:pt x="2885" y="94"/>
                      </a:lnTo>
                      <a:lnTo>
                        <a:pt x="2884" y="101"/>
                      </a:lnTo>
                      <a:lnTo>
                        <a:pt x="2882" y="109"/>
                      </a:lnTo>
                      <a:lnTo>
                        <a:pt x="2880" y="116"/>
                      </a:lnTo>
                      <a:lnTo>
                        <a:pt x="2877" y="124"/>
                      </a:lnTo>
                      <a:lnTo>
                        <a:pt x="2874" y="131"/>
                      </a:lnTo>
                      <a:lnTo>
                        <a:pt x="2870" y="140"/>
                      </a:lnTo>
                      <a:lnTo>
                        <a:pt x="2866" y="148"/>
                      </a:lnTo>
                      <a:lnTo>
                        <a:pt x="2862" y="157"/>
                      </a:lnTo>
                      <a:lnTo>
                        <a:pt x="2857" y="165"/>
                      </a:lnTo>
                      <a:lnTo>
                        <a:pt x="2851" y="175"/>
                      </a:lnTo>
                      <a:lnTo>
                        <a:pt x="2845" y="185"/>
                      </a:lnTo>
                      <a:lnTo>
                        <a:pt x="2839" y="194"/>
                      </a:lnTo>
                      <a:lnTo>
                        <a:pt x="2832" y="204"/>
                      </a:lnTo>
                      <a:lnTo>
                        <a:pt x="2826" y="213"/>
                      </a:lnTo>
                      <a:lnTo>
                        <a:pt x="2817" y="223"/>
                      </a:lnTo>
                      <a:lnTo>
                        <a:pt x="2810" y="234"/>
                      </a:lnTo>
                      <a:lnTo>
                        <a:pt x="2801" y="244"/>
                      </a:lnTo>
                      <a:lnTo>
                        <a:pt x="2793" y="255"/>
                      </a:lnTo>
                      <a:lnTo>
                        <a:pt x="2783" y="266"/>
                      </a:lnTo>
                      <a:lnTo>
                        <a:pt x="2773" y="277"/>
                      </a:lnTo>
                      <a:lnTo>
                        <a:pt x="2764" y="288"/>
                      </a:lnTo>
                      <a:lnTo>
                        <a:pt x="2753" y="300"/>
                      </a:lnTo>
                      <a:lnTo>
                        <a:pt x="2742" y="312"/>
                      </a:lnTo>
                      <a:lnTo>
                        <a:pt x="2731" y="323"/>
                      </a:lnTo>
                      <a:lnTo>
                        <a:pt x="2719" y="335"/>
                      </a:lnTo>
                      <a:lnTo>
                        <a:pt x="2707" y="347"/>
                      </a:lnTo>
                      <a:lnTo>
                        <a:pt x="2694" y="360"/>
                      </a:lnTo>
                      <a:lnTo>
                        <a:pt x="2682" y="372"/>
                      </a:lnTo>
                      <a:lnTo>
                        <a:pt x="2669" y="384"/>
                      </a:lnTo>
                      <a:lnTo>
                        <a:pt x="2655" y="397"/>
                      </a:lnTo>
                      <a:lnTo>
                        <a:pt x="2641" y="410"/>
                      </a:lnTo>
                      <a:lnTo>
                        <a:pt x="2627" y="424"/>
                      </a:lnTo>
                      <a:lnTo>
                        <a:pt x="2612" y="436"/>
                      </a:lnTo>
                      <a:lnTo>
                        <a:pt x="2597" y="449"/>
                      </a:lnTo>
                      <a:lnTo>
                        <a:pt x="2582" y="463"/>
                      </a:lnTo>
                      <a:lnTo>
                        <a:pt x="2566" y="477"/>
                      </a:lnTo>
                      <a:lnTo>
                        <a:pt x="2550" y="490"/>
                      </a:lnTo>
                      <a:lnTo>
                        <a:pt x="2533" y="503"/>
                      </a:lnTo>
                      <a:lnTo>
                        <a:pt x="2517" y="517"/>
                      </a:lnTo>
                      <a:lnTo>
                        <a:pt x="2500" y="532"/>
                      </a:lnTo>
                      <a:lnTo>
                        <a:pt x="2482" y="546"/>
                      </a:lnTo>
                      <a:lnTo>
                        <a:pt x="2465" y="560"/>
                      </a:lnTo>
                      <a:lnTo>
                        <a:pt x="2447" y="575"/>
                      </a:lnTo>
                      <a:lnTo>
                        <a:pt x="2429" y="589"/>
                      </a:lnTo>
                      <a:lnTo>
                        <a:pt x="2410" y="604"/>
                      </a:lnTo>
                      <a:lnTo>
                        <a:pt x="2391" y="618"/>
                      </a:lnTo>
                      <a:lnTo>
                        <a:pt x="2371" y="633"/>
                      </a:lnTo>
                      <a:lnTo>
                        <a:pt x="2352" y="647"/>
                      </a:lnTo>
                      <a:lnTo>
                        <a:pt x="2333" y="662"/>
                      </a:lnTo>
                      <a:lnTo>
                        <a:pt x="2313" y="677"/>
                      </a:lnTo>
                      <a:lnTo>
                        <a:pt x="2292" y="692"/>
                      </a:lnTo>
                      <a:lnTo>
                        <a:pt x="2271" y="707"/>
                      </a:lnTo>
                      <a:lnTo>
                        <a:pt x="2251" y="722"/>
                      </a:lnTo>
                      <a:lnTo>
                        <a:pt x="2230" y="737"/>
                      </a:lnTo>
                      <a:lnTo>
                        <a:pt x="2208" y="752"/>
                      </a:lnTo>
                      <a:lnTo>
                        <a:pt x="2187" y="767"/>
                      </a:lnTo>
                      <a:lnTo>
                        <a:pt x="2164" y="782"/>
                      </a:lnTo>
                      <a:lnTo>
                        <a:pt x="2143" y="798"/>
                      </a:lnTo>
                      <a:lnTo>
                        <a:pt x="2121" y="813"/>
                      </a:lnTo>
                      <a:lnTo>
                        <a:pt x="2098" y="828"/>
                      </a:lnTo>
                      <a:lnTo>
                        <a:pt x="2076" y="844"/>
                      </a:lnTo>
                      <a:lnTo>
                        <a:pt x="2053" y="859"/>
                      </a:lnTo>
                      <a:lnTo>
                        <a:pt x="2030" y="874"/>
                      </a:lnTo>
                      <a:lnTo>
                        <a:pt x="2007" y="890"/>
                      </a:lnTo>
                      <a:lnTo>
                        <a:pt x="1983" y="904"/>
                      </a:lnTo>
                      <a:lnTo>
                        <a:pt x="1960" y="919"/>
                      </a:lnTo>
                      <a:lnTo>
                        <a:pt x="1936" y="934"/>
                      </a:lnTo>
                      <a:lnTo>
                        <a:pt x="1913" y="950"/>
                      </a:lnTo>
                      <a:lnTo>
                        <a:pt x="1888" y="965"/>
                      </a:lnTo>
                      <a:lnTo>
                        <a:pt x="1864" y="980"/>
                      </a:lnTo>
                      <a:lnTo>
                        <a:pt x="1840" y="995"/>
                      </a:lnTo>
                      <a:lnTo>
                        <a:pt x="1816" y="1011"/>
                      </a:lnTo>
                      <a:lnTo>
                        <a:pt x="1791" y="1026"/>
                      </a:lnTo>
                      <a:lnTo>
                        <a:pt x="1767" y="1041"/>
                      </a:lnTo>
                      <a:lnTo>
                        <a:pt x="1742" y="1056"/>
                      </a:lnTo>
                      <a:lnTo>
                        <a:pt x="1717" y="1071"/>
                      </a:lnTo>
                      <a:lnTo>
                        <a:pt x="1692" y="1086"/>
                      </a:lnTo>
                      <a:lnTo>
                        <a:pt x="1668" y="1101"/>
                      </a:lnTo>
                      <a:lnTo>
                        <a:pt x="1642" y="1115"/>
                      </a:lnTo>
                      <a:lnTo>
                        <a:pt x="1617" y="1130"/>
                      </a:lnTo>
                      <a:lnTo>
                        <a:pt x="1592" y="1144"/>
                      </a:lnTo>
                      <a:lnTo>
                        <a:pt x="1567" y="1158"/>
                      </a:lnTo>
                      <a:lnTo>
                        <a:pt x="1542" y="1173"/>
                      </a:lnTo>
                      <a:lnTo>
                        <a:pt x="1516" y="1187"/>
                      </a:lnTo>
                      <a:lnTo>
                        <a:pt x="1492" y="1202"/>
                      </a:lnTo>
                      <a:lnTo>
                        <a:pt x="1466" y="1216"/>
                      </a:lnTo>
                      <a:lnTo>
                        <a:pt x="1440" y="1230"/>
                      </a:lnTo>
                      <a:lnTo>
                        <a:pt x="1416" y="1244"/>
                      </a:lnTo>
                      <a:lnTo>
                        <a:pt x="1390" y="1257"/>
                      </a:lnTo>
                      <a:lnTo>
                        <a:pt x="1365" y="1271"/>
                      </a:lnTo>
                      <a:lnTo>
                        <a:pt x="1340" y="1284"/>
                      </a:lnTo>
                      <a:lnTo>
                        <a:pt x="1315" y="1298"/>
                      </a:lnTo>
                      <a:lnTo>
                        <a:pt x="1289" y="1311"/>
                      </a:lnTo>
                      <a:lnTo>
                        <a:pt x="1265" y="1325"/>
                      </a:lnTo>
                      <a:lnTo>
                        <a:pt x="1239" y="1337"/>
                      </a:lnTo>
                      <a:lnTo>
                        <a:pt x="1214" y="1350"/>
                      </a:lnTo>
                      <a:lnTo>
                        <a:pt x="1190" y="1363"/>
                      </a:lnTo>
                      <a:lnTo>
                        <a:pt x="1164" y="1376"/>
                      </a:lnTo>
                      <a:lnTo>
                        <a:pt x="1140" y="1388"/>
                      </a:lnTo>
                      <a:lnTo>
                        <a:pt x="1115" y="1400"/>
                      </a:lnTo>
                      <a:lnTo>
                        <a:pt x="1091" y="1412"/>
                      </a:lnTo>
                      <a:lnTo>
                        <a:pt x="1066" y="1424"/>
                      </a:lnTo>
                      <a:lnTo>
                        <a:pt x="1042" y="1436"/>
                      </a:lnTo>
                      <a:lnTo>
                        <a:pt x="1018" y="1447"/>
                      </a:lnTo>
                      <a:lnTo>
                        <a:pt x="994" y="1459"/>
                      </a:lnTo>
                      <a:lnTo>
                        <a:pt x="969" y="1470"/>
                      </a:lnTo>
                      <a:lnTo>
                        <a:pt x="946" y="1481"/>
                      </a:lnTo>
                      <a:lnTo>
                        <a:pt x="922" y="1492"/>
                      </a:lnTo>
                      <a:lnTo>
                        <a:pt x="899" y="1503"/>
                      </a:lnTo>
                      <a:lnTo>
                        <a:pt x="875" y="1513"/>
                      </a:lnTo>
                      <a:lnTo>
                        <a:pt x="852" y="1523"/>
                      </a:lnTo>
                      <a:lnTo>
                        <a:pt x="829" y="1534"/>
                      </a:lnTo>
                      <a:lnTo>
                        <a:pt x="807" y="1543"/>
                      </a:lnTo>
                      <a:lnTo>
                        <a:pt x="784" y="1553"/>
                      </a:lnTo>
                      <a:lnTo>
                        <a:pt x="761" y="1562"/>
                      </a:lnTo>
                      <a:lnTo>
                        <a:pt x="740" y="1572"/>
                      </a:lnTo>
                      <a:lnTo>
                        <a:pt x="718" y="1581"/>
                      </a:lnTo>
                      <a:lnTo>
                        <a:pt x="696" y="1589"/>
                      </a:lnTo>
                      <a:lnTo>
                        <a:pt x="674" y="1598"/>
                      </a:lnTo>
                      <a:lnTo>
                        <a:pt x="654" y="1606"/>
                      </a:lnTo>
                      <a:lnTo>
                        <a:pt x="632" y="1615"/>
                      </a:lnTo>
                      <a:lnTo>
                        <a:pt x="611" y="1622"/>
                      </a:lnTo>
                      <a:lnTo>
                        <a:pt x="591" y="1630"/>
                      </a:lnTo>
                      <a:lnTo>
                        <a:pt x="570" y="1637"/>
                      </a:lnTo>
                      <a:lnTo>
                        <a:pt x="550" y="1645"/>
                      </a:lnTo>
                      <a:lnTo>
                        <a:pt x="531" y="1652"/>
                      </a:lnTo>
                      <a:lnTo>
                        <a:pt x="512" y="1658"/>
                      </a:lnTo>
                      <a:lnTo>
                        <a:pt x="493" y="1665"/>
                      </a:lnTo>
                      <a:lnTo>
                        <a:pt x="473" y="1671"/>
                      </a:lnTo>
                      <a:lnTo>
                        <a:pt x="455" y="1678"/>
                      </a:lnTo>
                      <a:lnTo>
                        <a:pt x="436" y="1683"/>
                      </a:lnTo>
                      <a:lnTo>
                        <a:pt x="419" y="1688"/>
                      </a:lnTo>
                      <a:lnTo>
                        <a:pt x="401" y="1694"/>
                      </a:lnTo>
                      <a:lnTo>
                        <a:pt x="384" y="1699"/>
                      </a:lnTo>
                      <a:lnTo>
                        <a:pt x="367" y="1703"/>
                      </a:lnTo>
                      <a:lnTo>
                        <a:pt x="350" y="1709"/>
                      </a:lnTo>
                      <a:lnTo>
                        <a:pt x="334" y="1713"/>
                      </a:lnTo>
                      <a:lnTo>
                        <a:pt x="318" y="1716"/>
                      </a:lnTo>
                      <a:lnTo>
                        <a:pt x="302" y="1720"/>
                      </a:lnTo>
                      <a:lnTo>
                        <a:pt x="287" y="1724"/>
                      </a:lnTo>
                      <a:lnTo>
                        <a:pt x="272" y="1727"/>
                      </a:lnTo>
                      <a:lnTo>
                        <a:pt x="257" y="1730"/>
                      </a:lnTo>
                      <a:lnTo>
                        <a:pt x="243" y="1733"/>
                      </a:lnTo>
                      <a:lnTo>
                        <a:pt x="229" y="1735"/>
                      </a:lnTo>
                      <a:lnTo>
                        <a:pt x="215" y="1737"/>
                      </a:lnTo>
                      <a:lnTo>
                        <a:pt x="203" y="1740"/>
                      </a:lnTo>
                      <a:lnTo>
                        <a:pt x="190" y="1741"/>
                      </a:lnTo>
                      <a:lnTo>
                        <a:pt x="178" y="1743"/>
                      </a:lnTo>
                      <a:lnTo>
                        <a:pt x="165" y="1744"/>
                      </a:lnTo>
                      <a:lnTo>
                        <a:pt x="155" y="1744"/>
                      </a:lnTo>
                      <a:lnTo>
                        <a:pt x="143" y="1745"/>
                      </a:lnTo>
                      <a:lnTo>
                        <a:pt x="132" y="1745"/>
                      </a:lnTo>
                      <a:lnTo>
                        <a:pt x="121" y="1745"/>
                      </a:lnTo>
                      <a:lnTo>
                        <a:pt x="112" y="1745"/>
                      </a:lnTo>
                      <a:lnTo>
                        <a:pt x="102" y="1745"/>
                      </a:lnTo>
                      <a:lnTo>
                        <a:pt x="93" y="1744"/>
                      </a:lnTo>
                      <a:lnTo>
                        <a:pt x="84" y="1743"/>
                      </a:lnTo>
                      <a:lnTo>
                        <a:pt x="76" y="1742"/>
                      </a:lnTo>
                      <a:lnTo>
                        <a:pt x="68" y="1740"/>
                      </a:lnTo>
                      <a:lnTo>
                        <a:pt x="61" y="1738"/>
                      </a:lnTo>
                      <a:lnTo>
                        <a:pt x="53" y="1736"/>
                      </a:lnTo>
                      <a:lnTo>
                        <a:pt x="47" y="1733"/>
                      </a:lnTo>
                      <a:lnTo>
                        <a:pt x="40" y="1731"/>
                      </a:lnTo>
                      <a:lnTo>
                        <a:pt x="35" y="1728"/>
                      </a:lnTo>
                      <a:lnTo>
                        <a:pt x="30" y="1725"/>
                      </a:lnTo>
                      <a:lnTo>
                        <a:pt x="24" y="1721"/>
                      </a:lnTo>
                      <a:lnTo>
                        <a:pt x="20" y="1718"/>
                      </a:lnTo>
                      <a:lnTo>
                        <a:pt x="16" y="1714"/>
                      </a:lnTo>
                      <a:lnTo>
                        <a:pt x="13" y="1710"/>
                      </a:lnTo>
                      <a:lnTo>
                        <a:pt x="10" y="1705"/>
                      </a:lnTo>
                      <a:lnTo>
                        <a:pt x="7" y="1700"/>
                      </a:lnTo>
                      <a:lnTo>
                        <a:pt x="4" y="1696"/>
                      </a:lnTo>
                      <a:lnTo>
                        <a:pt x="3" y="1690"/>
                      </a:lnTo>
                      <a:lnTo>
                        <a:pt x="1" y="1685"/>
                      </a:lnTo>
                      <a:lnTo>
                        <a:pt x="1" y="1680"/>
                      </a:lnTo>
                      <a:lnTo>
                        <a:pt x="0" y="1673"/>
                      </a:lnTo>
                      <a:lnTo>
                        <a:pt x="0" y="1667"/>
                      </a:lnTo>
                      <a:lnTo>
                        <a:pt x="0" y="1661"/>
                      </a:lnTo>
                      <a:lnTo>
                        <a:pt x="1" y="1654"/>
                      </a:lnTo>
                      <a:lnTo>
                        <a:pt x="2" y="1647"/>
                      </a:lnTo>
                      <a:lnTo>
                        <a:pt x="4" y="1640"/>
                      </a:lnTo>
                      <a:lnTo>
                        <a:pt x="6" y="1633"/>
                      </a:lnTo>
                      <a:lnTo>
                        <a:pt x="8" y="1625"/>
                      </a:lnTo>
                      <a:lnTo>
                        <a:pt x="12" y="1617"/>
                      </a:lnTo>
                      <a:lnTo>
                        <a:pt x="16" y="1609"/>
                      </a:lnTo>
                      <a:lnTo>
                        <a:pt x="19" y="1601"/>
                      </a:lnTo>
                      <a:lnTo>
                        <a:pt x="23" y="1592"/>
                      </a:lnTo>
                      <a:lnTo>
                        <a:pt x="29" y="1584"/>
                      </a:lnTo>
                      <a:lnTo>
                        <a:pt x="34" y="1574"/>
                      </a:lnTo>
                      <a:lnTo>
                        <a:pt x="39" y="1566"/>
                      </a:lnTo>
                      <a:lnTo>
                        <a:pt x="46" y="1556"/>
                      </a:lnTo>
                      <a:lnTo>
                        <a:pt x="52" y="1547"/>
                      </a:lnTo>
                      <a:lnTo>
                        <a:pt x="59" y="1537"/>
                      </a:lnTo>
                      <a:lnTo>
                        <a:pt x="66" y="1526"/>
                      </a:lnTo>
                      <a:lnTo>
                        <a:pt x="73" y="1517"/>
                      </a:lnTo>
                      <a:lnTo>
                        <a:pt x="82" y="1506"/>
                      </a:lnTo>
                      <a:lnTo>
                        <a:pt x="91" y="1495"/>
                      </a:lnTo>
                      <a:lnTo>
                        <a:pt x="100" y="1485"/>
                      </a:lnTo>
                      <a:lnTo>
                        <a:pt x="109" y="1474"/>
                      </a:lnTo>
                      <a:lnTo>
                        <a:pt x="119" y="1462"/>
                      </a:lnTo>
                      <a:lnTo>
                        <a:pt x="129" y="1451"/>
                      </a:lnTo>
                      <a:lnTo>
                        <a:pt x="140" y="1440"/>
                      </a:lnTo>
                      <a:lnTo>
                        <a:pt x="151" y="1428"/>
                      </a:lnTo>
                      <a:lnTo>
                        <a:pt x="162" y="1416"/>
                      </a:lnTo>
                      <a:lnTo>
                        <a:pt x="174" y="1404"/>
                      </a:lnTo>
                      <a:lnTo>
                        <a:pt x="187" y="1392"/>
                      </a:lnTo>
                      <a:lnTo>
                        <a:pt x="199" y="1379"/>
                      </a:lnTo>
                      <a:lnTo>
                        <a:pt x="212" y="1367"/>
                      </a:lnTo>
                      <a:lnTo>
                        <a:pt x="225" y="1355"/>
                      </a:lnTo>
                      <a:lnTo>
                        <a:pt x="239" y="1342"/>
                      </a:lnTo>
                      <a:lnTo>
                        <a:pt x="254" y="1329"/>
                      </a:lnTo>
                      <a:lnTo>
                        <a:pt x="268" y="1315"/>
                      </a:lnTo>
                      <a:lnTo>
                        <a:pt x="282" y="1302"/>
                      </a:lnTo>
                      <a:lnTo>
                        <a:pt x="297" y="1288"/>
                      </a:lnTo>
                      <a:lnTo>
                        <a:pt x="313" y="1276"/>
                      </a:lnTo>
                      <a:lnTo>
                        <a:pt x="329" y="1262"/>
                      </a:lnTo>
                      <a:lnTo>
                        <a:pt x="345" y="1248"/>
                      </a:lnTo>
                      <a:lnTo>
                        <a:pt x="362" y="1234"/>
                      </a:lnTo>
                      <a:lnTo>
                        <a:pt x="378" y="1220"/>
                      </a:lnTo>
                      <a:lnTo>
                        <a:pt x="397" y="1206"/>
                      </a:lnTo>
                      <a:lnTo>
                        <a:pt x="414" y="1191"/>
                      </a:lnTo>
                      <a:lnTo>
                        <a:pt x="432" y="1178"/>
                      </a:lnTo>
                      <a:lnTo>
                        <a:pt x="450" y="1164"/>
                      </a:lnTo>
                      <a:lnTo>
                        <a:pt x="468" y="1149"/>
                      </a:lnTo>
                      <a:lnTo>
                        <a:pt x="487" y="1134"/>
                      </a:lnTo>
                      <a:lnTo>
                        <a:pt x="506" y="1120"/>
                      </a:lnTo>
                      <a:lnTo>
                        <a:pt x="526" y="1105"/>
                      </a:lnTo>
                      <a:lnTo>
                        <a:pt x="545" y="1090"/>
                      </a:lnTo>
                      <a:lnTo>
                        <a:pt x="565" y="1075"/>
                      </a:lnTo>
                      <a:lnTo>
                        <a:pt x="585" y="1060"/>
                      </a:lnTo>
                      <a:lnTo>
                        <a:pt x="606" y="1045"/>
                      </a:lnTo>
                      <a:lnTo>
                        <a:pt x="626" y="1030"/>
                      </a:lnTo>
                      <a:lnTo>
                        <a:pt x="647" y="1015"/>
                      </a:lnTo>
                      <a:lnTo>
                        <a:pt x="668" y="1000"/>
                      </a:lnTo>
                      <a:lnTo>
                        <a:pt x="690" y="986"/>
                      </a:lnTo>
                      <a:lnTo>
                        <a:pt x="711" y="971"/>
                      </a:lnTo>
                      <a:lnTo>
                        <a:pt x="734" y="955"/>
                      </a:lnTo>
                      <a:lnTo>
                        <a:pt x="756" y="940"/>
                      </a:lnTo>
                      <a:lnTo>
                        <a:pt x="778" y="925"/>
                      </a:lnTo>
                      <a:lnTo>
                        <a:pt x="801" y="909"/>
                      </a:lnTo>
                      <a:lnTo>
                        <a:pt x="823" y="894"/>
                      </a:lnTo>
                      <a:lnTo>
                        <a:pt x="847" y="879"/>
                      </a:lnTo>
                      <a:lnTo>
                        <a:pt x="869" y="864"/>
                      </a:lnTo>
                      <a:lnTo>
                        <a:pt x="892" y="848"/>
                      </a:lnTo>
                      <a:lnTo>
                        <a:pt x="916" y="833"/>
                      </a:lnTo>
                      <a:lnTo>
                        <a:pt x="939" y="818"/>
                      </a:lnTo>
                      <a:lnTo>
                        <a:pt x="963" y="802"/>
                      </a:lnTo>
                      <a:lnTo>
                        <a:pt x="987" y="787"/>
                      </a:lnTo>
                      <a:lnTo>
                        <a:pt x="1011" y="772"/>
                      </a:lnTo>
                      <a:lnTo>
                        <a:pt x="1035" y="757"/>
                      </a:lnTo>
                      <a:lnTo>
                        <a:pt x="1060" y="741"/>
                      </a:lnTo>
                      <a:lnTo>
                        <a:pt x="1084" y="726"/>
                      </a:lnTo>
                      <a:lnTo>
                        <a:pt x="1109" y="711"/>
                      </a:lnTo>
                      <a:lnTo>
                        <a:pt x="1133" y="697"/>
                      </a:lnTo>
                      <a:lnTo>
                        <a:pt x="1158" y="682"/>
                      </a:lnTo>
                      <a:lnTo>
                        <a:pt x="1182" y="667"/>
                      </a:lnTo>
                      <a:lnTo>
                        <a:pt x="1208" y="652"/>
                      </a:lnTo>
                      <a:lnTo>
                        <a:pt x="1233" y="637"/>
                      </a:lnTo>
                      <a:lnTo>
                        <a:pt x="1258" y="623"/>
                      </a:lnTo>
                      <a:lnTo>
                        <a:pt x="1283" y="608"/>
                      </a:lnTo>
                      <a:lnTo>
                        <a:pt x="1308" y="593"/>
                      </a:lnTo>
                      <a:lnTo>
                        <a:pt x="1333" y="579"/>
                      </a:lnTo>
                      <a:lnTo>
                        <a:pt x="1358" y="564"/>
                      </a:lnTo>
                      <a:lnTo>
                        <a:pt x="1384" y="550"/>
                      </a:lnTo>
                      <a:lnTo>
                        <a:pt x="1408" y="537"/>
                      </a:lnTo>
                      <a:lnTo>
                        <a:pt x="1434" y="523"/>
                      </a:lnTo>
                      <a:lnTo>
                        <a:pt x="1460" y="509"/>
                      </a:lnTo>
                      <a:lnTo>
                        <a:pt x="1484" y="495"/>
                      </a:lnTo>
                      <a:lnTo>
                        <a:pt x="1510" y="481"/>
                      </a:lnTo>
                      <a:lnTo>
                        <a:pt x="1535" y="467"/>
                      </a:lnTo>
                      <a:lnTo>
                        <a:pt x="1560" y="453"/>
                      </a:lnTo>
                      <a:lnTo>
                        <a:pt x="1585" y="441"/>
                      </a:lnTo>
                      <a:lnTo>
                        <a:pt x="1610" y="428"/>
                      </a:lnTo>
                      <a:lnTo>
                        <a:pt x="1636" y="414"/>
                      </a:lnTo>
                      <a:lnTo>
                        <a:pt x="1660" y="401"/>
                      </a:lnTo>
                      <a:lnTo>
                        <a:pt x="1686" y="388"/>
                      </a:lnTo>
                      <a:lnTo>
                        <a:pt x="1710" y="376"/>
                      </a:lnTo>
                      <a:lnTo>
                        <a:pt x="1735" y="364"/>
                      </a:lnTo>
                      <a:lnTo>
                        <a:pt x="1760" y="351"/>
                      </a:lnTo>
                      <a:lnTo>
                        <a:pt x="1785" y="339"/>
                      </a:lnTo>
                      <a:lnTo>
                        <a:pt x="1809" y="326"/>
                      </a:lnTo>
                      <a:lnTo>
                        <a:pt x="1833" y="315"/>
                      </a:lnTo>
                      <a:lnTo>
                        <a:pt x="1857" y="303"/>
                      </a:lnTo>
                      <a:lnTo>
                        <a:pt x="1882" y="292"/>
                      </a:lnTo>
                      <a:lnTo>
                        <a:pt x="1905" y="281"/>
                      </a:lnTo>
                      <a:lnTo>
                        <a:pt x="1930" y="270"/>
                      </a:lnTo>
                      <a:lnTo>
                        <a:pt x="1953" y="258"/>
                      </a:lnTo>
                      <a:lnTo>
                        <a:pt x="1977" y="248"/>
                      </a:lnTo>
                      <a:lnTo>
                        <a:pt x="2000" y="237"/>
                      </a:lnTo>
                      <a:lnTo>
                        <a:pt x="2024" y="227"/>
                      </a:lnTo>
                      <a:lnTo>
                        <a:pt x="2046" y="217"/>
                      </a:lnTo>
                      <a:lnTo>
                        <a:pt x="2070" y="207"/>
                      </a:lnTo>
                      <a:lnTo>
                        <a:pt x="2092" y="196"/>
                      </a:lnTo>
                      <a:lnTo>
                        <a:pt x="2114" y="188"/>
                      </a:lnTo>
                      <a:lnTo>
                        <a:pt x="2137" y="178"/>
                      </a:lnTo>
                      <a:lnTo>
                        <a:pt x="2159" y="169"/>
                      </a:lnTo>
                      <a:lnTo>
                        <a:pt x="2180" y="160"/>
                      </a:lnTo>
                      <a:lnTo>
                        <a:pt x="2203" y="152"/>
                      </a:lnTo>
                      <a:lnTo>
                        <a:pt x="2224" y="143"/>
                      </a:lnTo>
                      <a:lnTo>
                        <a:pt x="2244" y="134"/>
                      </a:lnTo>
                      <a:lnTo>
                        <a:pt x="2266" y="126"/>
                      </a:lnTo>
                      <a:lnTo>
                        <a:pt x="2286" y="118"/>
                      </a:lnTo>
                      <a:lnTo>
                        <a:pt x="2307" y="111"/>
                      </a:lnTo>
                      <a:lnTo>
                        <a:pt x="2327" y="104"/>
                      </a:lnTo>
                      <a:lnTo>
                        <a:pt x="2347" y="96"/>
                      </a:lnTo>
                      <a:lnTo>
                        <a:pt x="2366" y="90"/>
                      </a:lnTo>
                      <a:lnTo>
                        <a:pt x="2386" y="83"/>
                      </a:lnTo>
                      <a:lnTo>
                        <a:pt x="2404" y="77"/>
                      </a:lnTo>
                      <a:lnTo>
                        <a:pt x="2424" y="71"/>
                      </a:lnTo>
                      <a:lnTo>
                        <a:pt x="2442" y="64"/>
                      </a:lnTo>
                      <a:lnTo>
                        <a:pt x="2460" y="59"/>
                      </a:lnTo>
                      <a:lnTo>
                        <a:pt x="2478" y="53"/>
                      </a:lnTo>
                      <a:lnTo>
                        <a:pt x="2495" y="48"/>
                      </a:lnTo>
                      <a:lnTo>
                        <a:pt x="2512" y="44"/>
                      </a:lnTo>
                      <a:lnTo>
                        <a:pt x="2529" y="39"/>
                      </a:lnTo>
                      <a:lnTo>
                        <a:pt x="2546" y="34"/>
                      </a:lnTo>
                      <a:lnTo>
                        <a:pt x="2562" y="30"/>
                      </a:lnTo>
                      <a:lnTo>
                        <a:pt x="2578" y="27"/>
                      </a:lnTo>
                      <a:lnTo>
                        <a:pt x="2593" y="23"/>
                      </a:lnTo>
                      <a:lnTo>
                        <a:pt x="2608" y="19"/>
                      </a:lnTo>
                      <a:lnTo>
                        <a:pt x="2623" y="16"/>
                      </a:lnTo>
                      <a:lnTo>
                        <a:pt x="2638" y="14"/>
                      </a:lnTo>
                      <a:lnTo>
                        <a:pt x="2652" y="11"/>
                      </a:lnTo>
                      <a:lnTo>
                        <a:pt x="2666" y="9"/>
                      </a:lnTo>
                      <a:lnTo>
                        <a:pt x="2678" y="7"/>
                      </a:lnTo>
                      <a:lnTo>
                        <a:pt x="2691" y="4"/>
                      </a:lnTo>
                      <a:lnTo>
                        <a:pt x="2704" y="3"/>
                      </a:lnTo>
                      <a:lnTo>
                        <a:pt x="2716" y="2"/>
                      </a:lnTo>
                      <a:lnTo>
                        <a:pt x="2727" y="1"/>
                      </a:lnTo>
                      <a:lnTo>
                        <a:pt x="2739" y="0"/>
                      </a:lnTo>
                      <a:lnTo>
                        <a:pt x="2750" y="0"/>
                      </a:lnTo>
                      <a:lnTo>
                        <a:pt x="2761" y="0"/>
                      </a:lnTo>
                      <a:lnTo>
                        <a:pt x="2771" y="0"/>
                      </a:lnTo>
                      <a:lnTo>
                        <a:pt x="2781" y="0"/>
                      </a:lnTo>
                      <a:lnTo>
                        <a:pt x="2790" y="1"/>
                      </a:lnTo>
                      <a:lnTo>
                        <a:pt x="2799" y="2"/>
                      </a:lnTo>
                      <a:lnTo>
                        <a:pt x="2807" y="3"/>
                      </a:lnTo>
                      <a:lnTo>
                        <a:pt x="2815" y="4"/>
                      </a:lnTo>
                      <a:lnTo>
                        <a:pt x="2823" y="7"/>
                      </a:lnTo>
                      <a:lnTo>
                        <a:pt x="2830" y="8"/>
                      </a:lnTo>
                      <a:lnTo>
                        <a:pt x="2837" y="10"/>
                      </a:lnTo>
                      <a:lnTo>
                        <a:pt x="2844" y="13"/>
                      </a:lnTo>
                      <a:lnTo>
                        <a:pt x="2849" y="15"/>
                      </a:lnTo>
                      <a:lnTo>
                        <a:pt x="2855" y="18"/>
                      </a:lnTo>
                      <a:lnTo>
                        <a:pt x="2860" y="21"/>
                      </a:lnTo>
                      <a:lnTo>
                        <a:pt x="2865" y="26"/>
                      </a:lnTo>
                      <a:lnTo>
                        <a:pt x="2869" y="29"/>
                      </a:lnTo>
                      <a:lnTo>
                        <a:pt x="2873" y="33"/>
                      </a:lnTo>
                      <a:lnTo>
                        <a:pt x="2877" y="37"/>
                      </a:lnTo>
                      <a:lnTo>
                        <a:pt x="2879" y="4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989960" y="1607760"/>
                <a:ext cx="2795400" cy="886320"/>
                <a:chOff x="4989960" y="1607760"/>
                <a:chExt cx="2795400" cy="8863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989960" y="1856880"/>
                  <a:ext cx="2795400" cy="208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16473600">
                  <a:off x="7140600" y="1968840"/>
                  <a:ext cx="876240" cy="163440"/>
                </a:xfrm>
                <a:custGeom>
                  <a:avLst/>
                  <a:gdLst/>
                  <a:ahLst/>
                  <a:rect l="l" t="t" r="r" b="b"/>
                  <a:pathLst>
                    <a:path w="3315" h="622">
                      <a:moveTo>
                        <a:pt x="3315" y="312"/>
                      </a:moveTo>
                      <a:lnTo>
                        <a:pt x="3315" y="317"/>
                      </a:lnTo>
                      <a:lnTo>
                        <a:pt x="3314" y="322"/>
                      </a:lnTo>
                      <a:lnTo>
                        <a:pt x="3313" y="328"/>
                      </a:lnTo>
                      <a:lnTo>
                        <a:pt x="3311" y="333"/>
                      </a:lnTo>
                      <a:lnTo>
                        <a:pt x="3309" y="338"/>
                      </a:lnTo>
                      <a:lnTo>
                        <a:pt x="3307" y="344"/>
                      </a:lnTo>
                      <a:lnTo>
                        <a:pt x="3303" y="349"/>
                      </a:lnTo>
                      <a:lnTo>
                        <a:pt x="3299" y="354"/>
                      </a:lnTo>
                      <a:lnTo>
                        <a:pt x="3295" y="360"/>
                      </a:lnTo>
                      <a:lnTo>
                        <a:pt x="3290" y="365"/>
                      </a:lnTo>
                      <a:lnTo>
                        <a:pt x="3284" y="370"/>
                      </a:lnTo>
                      <a:lnTo>
                        <a:pt x="3279" y="376"/>
                      </a:lnTo>
                      <a:lnTo>
                        <a:pt x="3273" y="381"/>
                      </a:lnTo>
                      <a:lnTo>
                        <a:pt x="3266" y="386"/>
                      </a:lnTo>
                      <a:lnTo>
                        <a:pt x="3259" y="392"/>
                      </a:lnTo>
                      <a:lnTo>
                        <a:pt x="3251" y="397"/>
                      </a:lnTo>
                      <a:lnTo>
                        <a:pt x="3243" y="402"/>
                      </a:lnTo>
                      <a:lnTo>
                        <a:pt x="3234" y="408"/>
                      </a:lnTo>
                      <a:lnTo>
                        <a:pt x="3225" y="413"/>
                      </a:lnTo>
                      <a:lnTo>
                        <a:pt x="3215" y="418"/>
                      </a:lnTo>
                      <a:lnTo>
                        <a:pt x="3204" y="423"/>
                      </a:lnTo>
                      <a:lnTo>
                        <a:pt x="3194" y="428"/>
                      </a:lnTo>
                      <a:lnTo>
                        <a:pt x="3183" y="433"/>
                      </a:lnTo>
                      <a:lnTo>
                        <a:pt x="3171" y="439"/>
                      </a:lnTo>
                      <a:lnTo>
                        <a:pt x="3159" y="443"/>
                      </a:lnTo>
                      <a:lnTo>
                        <a:pt x="3147" y="448"/>
                      </a:lnTo>
                      <a:lnTo>
                        <a:pt x="3134" y="452"/>
                      </a:lnTo>
                      <a:lnTo>
                        <a:pt x="3120" y="458"/>
                      </a:lnTo>
                      <a:lnTo>
                        <a:pt x="3106" y="462"/>
                      </a:lnTo>
                      <a:lnTo>
                        <a:pt x="3092" y="467"/>
                      </a:lnTo>
                      <a:lnTo>
                        <a:pt x="3077" y="472"/>
                      </a:lnTo>
                      <a:lnTo>
                        <a:pt x="3062" y="477"/>
                      </a:lnTo>
                      <a:lnTo>
                        <a:pt x="3046" y="481"/>
                      </a:lnTo>
                      <a:lnTo>
                        <a:pt x="3030" y="486"/>
                      </a:lnTo>
                      <a:lnTo>
                        <a:pt x="3013" y="490"/>
                      </a:lnTo>
                      <a:lnTo>
                        <a:pt x="2997" y="494"/>
                      </a:lnTo>
                      <a:lnTo>
                        <a:pt x="2979" y="499"/>
                      </a:lnTo>
                      <a:lnTo>
                        <a:pt x="2962" y="504"/>
                      </a:lnTo>
                      <a:lnTo>
                        <a:pt x="2944" y="508"/>
                      </a:lnTo>
                      <a:lnTo>
                        <a:pt x="2925" y="512"/>
                      </a:lnTo>
                      <a:lnTo>
                        <a:pt x="2907" y="515"/>
                      </a:lnTo>
                      <a:lnTo>
                        <a:pt x="2888" y="520"/>
                      </a:lnTo>
                      <a:lnTo>
                        <a:pt x="2867" y="524"/>
                      </a:lnTo>
                      <a:lnTo>
                        <a:pt x="2847" y="528"/>
                      </a:lnTo>
                      <a:lnTo>
                        <a:pt x="2827" y="531"/>
                      </a:lnTo>
                      <a:lnTo>
                        <a:pt x="2807" y="536"/>
                      </a:lnTo>
                      <a:lnTo>
                        <a:pt x="2785" y="539"/>
                      </a:lnTo>
                      <a:lnTo>
                        <a:pt x="2764" y="543"/>
                      </a:lnTo>
                      <a:lnTo>
                        <a:pt x="2743" y="546"/>
                      </a:lnTo>
                      <a:lnTo>
                        <a:pt x="2720" y="550"/>
                      </a:lnTo>
                      <a:lnTo>
                        <a:pt x="2698" y="554"/>
                      </a:lnTo>
                      <a:lnTo>
                        <a:pt x="2674" y="557"/>
                      </a:lnTo>
                      <a:lnTo>
                        <a:pt x="2652" y="560"/>
                      </a:lnTo>
                      <a:lnTo>
                        <a:pt x="2628" y="563"/>
                      </a:lnTo>
                      <a:lnTo>
                        <a:pt x="2605" y="567"/>
                      </a:lnTo>
                      <a:lnTo>
                        <a:pt x="2580" y="570"/>
                      </a:lnTo>
                      <a:lnTo>
                        <a:pt x="2557" y="573"/>
                      </a:lnTo>
                      <a:lnTo>
                        <a:pt x="2532" y="575"/>
                      </a:lnTo>
                      <a:lnTo>
                        <a:pt x="2507" y="578"/>
                      </a:lnTo>
                      <a:lnTo>
                        <a:pt x="2482" y="582"/>
                      </a:lnTo>
                      <a:lnTo>
                        <a:pt x="2457" y="584"/>
                      </a:lnTo>
                      <a:lnTo>
                        <a:pt x="2431" y="586"/>
                      </a:lnTo>
                      <a:lnTo>
                        <a:pt x="2406" y="589"/>
                      </a:lnTo>
                      <a:lnTo>
                        <a:pt x="2380" y="591"/>
                      </a:lnTo>
                      <a:lnTo>
                        <a:pt x="2353" y="593"/>
                      </a:lnTo>
                      <a:lnTo>
                        <a:pt x="2327" y="595"/>
                      </a:lnTo>
                      <a:lnTo>
                        <a:pt x="2300" y="598"/>
                      </a:lnTo>
                      <a:lnTo>
                        <a:pt x="2273" y="600"/>
                      </a:lnTo>
                      <a:lnTo>
                        <a:pt x="2247" y="602"/>
                      </a:lnTo>
                      <a:lnTo>
                        <a:pt x="2219" y="604"/>
                      </a:lnTo>
                      <a:lnTo>
                        <a:pt x="2191" y="606"/>
                      </a:lnTo>
                      <a:lnTo>
                        <a:pt x="2165" y="607"/>
                      </a:lnTo>
                      <a:lnTo>
                        <a:pt x="2137" y="609"/>
                      </a:lnTo>
                      <a:lnTo>
                        <a:pt x="2109" y="610"/>
                      </a:lnTo>
                      <a:lnTo>
                        <a:pt x="2080" y="612"/>
                      </a:lnTo>
                      <a:lnTo>
                        <a:pt x="2053" y="614"/>
                      </a:lnTo>
                      <a:lnTo>
                        <a:pt x="2024" y="615"/>
                      </a:lnTo>
                      <a:lnTo>
                        <a:pt x="1996" y="616"/>
                      </a:lnTo>
                      <a:lnTo>
                        <a:pt x="1967" y="617"/>
                      </a:lnTo>
                      <a:lnTo>
                        <a:pt x="1939" y="618"/>
                      </a:lnTo>
                      <a:lnTo>
                        <a:pt x="1911" y="619"/>
                      </a:lnTo>
                      <a:lnTo>
                        <a:pt x="1882" y="620"/>
                      </a:lnTo>
                      <a:lnTo>
                        <a:pt x="1853" y="620"/>
                      </a:lnTo>
                      <a:lnTo>
                        <a:pt x="1824" y="621"/>
                      </a:lnTo>
                      <a:lnTo>
                        <a:pt x="1795" y="621"/>
                      </a:lnTo>
                      <a:lnTo>
                        <a:pt x="1766" y="622"/>
                      </a:lnTo>
                      <a:lnTo>
                        <a:pt x="1737" y="622"/>
                      </a:lnTo>
                      <a:lnTo>
                        <a:pt x="1708" y="622"/>
                      </a:lnTo>
                      <a:lnTo>
                        <a:pt x="1679" y="622"/>
                      </a:lnTo>
                      <a:lnTo>
                        <a:pt x="1651" y="622"/>
                      </a:lnTo>
                      <a:lnTo>
                        <a:pt x="1621" y="622"/>
                      </a:lnTo>
                      <a:lnTo>
                        <a:pt x="1592" y="622"/>
                      </a:lnTo>
                      <a:lnTo>
                        <a:pt x="1563" y="622"/>
                      </a:lnTo>
                      <a:lnTo>
                        <a:pt x="1534" y="621"/>
                      </a:lnTo>
                      <a:lnTo>
                        <a:pt x="1506" y="621"/>
                      </a:lnTo>
                      <a:lnTo>
                        <a:pt x="1477" y="620"/>
                      </a:lnTo>
                      <a:lnTo>
                        <a:pt x="1448" y="620"/>
                      </a:lnTo>
                      <a:lnTo>
                        <a:pt x="1419" y="619"/>
                      </a:lnTo>
                      <a:lnTo>
                        <a:pt x="1390" y="618"/>
                      </a:lnTo>
                      <a:lnTo>
                        <a:pt x="1362" y="618"/>
                      </a:lnTo>
                      <a:lnTo>
                        <a:pt x="1333" y="617"/>
                      </a:lnTo>
                      <a:lnTo>
                        <a:pt x="1305" y="616"/>
                      </a:lnTo>
                      <a:lnTo>
                        <a:pt x="1276" y="614"/>
                      </a:lnTo>
                      <a:lnTo>
                        <a:pt x="1249" y="612"/>
                      </a:lnTo>
                      <a:lnTo>
                        <a:pt x="1220" y="611"/>
                      </a:lnTo>
                      <a:lnTo>
                        <a:pt x="1192" y="609"/>
                      </a:lnTo>
                      <a:lnTo>
                        <a:pt x="1164" y="608"/>
                      </a:lnTo>
                      <a:lnTo>
                        <a:pt x="1137" y="606"/>
                      </a:lnTo>
                      <a:lnTo>
                        <a:pt x="1109" y="605"/>
                      </a:lnTo>
                      <a:lnTo>
                        <a:pt x="1082" y="603"/>
                      </a:lnTo>
                      <a:lnTo>
                        <a:pt x="1055" y="601"/>
                      </a:lnTo>
                      <a:lnTo>
                        <a:pt x="1028" y="599"/>
                      </a:lnTo>
                      <a:lnTo>
                        <a:pt x="1001" y="596"/>
                      </a:lnTo>
                      <a:lnTo>
                        <a:pt x="975" y="594"/>
                      </a:lnTo>
                      <a:lnTo>
                        <a:pt x="948" y="592"/>
                      </a:lnTo>
                      <a:lnTo>
                        <a:pt x="922" y="590"/>
                      </a:lnTo>
                      <a:lnTo>
                        <a:pt x="897" y="588"/>
                      </a:lnTo>
                      <a:lnTo>
                        <a:pt x="871" y="585"/>
                      </a:lnTo>
                      <a:lnTo>
                        <a:pt x="846" y="583"/>
                      </a:lnTo>
                      <a:lnTo>
                        <a:pt x="820" y="579"/>
                      </a:lnTo>
                      <a:lnTo>
                        <a:pt x="796" y="577"/>
                      </a:lnTo>
                      <a:lnTo>
                        <a:pt x="771" y="574"/>
                      </a:lnTo>
                      <a:lnTo>
                        <a:pt x="746" y="571"/>
                      </a:lnTo>
                      <a:lnTo>
                        <a:pt x="722" y="568"/>
                      </a:lnTo>
                      <a:lnTo>
                        <a:pt x="698" y="564"/>
                      </a:lnTo>
                      <a:lnTo>
                        <a:pt x="675" y="561"/>
                      </a:lnTo>
                      <a:lnTo>
                        <a:pt x="652" y="558"/>
                      </a:lnTo>
                      <a:lnTo>
                        <a:pt x="628" y="555"/>
                      </a:lnTo>
                      <a:lnTo>
                        <a:pt x="606" y="552"/>
                      </a:lnTo>
                      <a:lnTo>
                        <a:pt x="583" y="548"/>
                      </a:lnTo>
                      <a:lnTo>
                        <a:pt x="562" y="544"/>
                      </a:lnTo>
                      <a:lnTo>
                        <a:pt x="541" y="541"/>
                      </a:lnTo>
                      <a:lnTo>
                        <a:pt x="519" y="538"/>
                      </a:lnTo>
                      <a:lnTo>
                        <a:pt x="498" y="534"/>
                      </a:lnTo>
                      <a:lnTo>
                        <a:pt x="478" y="529"/>
                      </a:lnTo>
                      <a:lnTo>
                        <a:pt x="457" y="526"/>
                      </a:lnTo>
                      <a:lnTo>
                        <a:pt x="437" y="522"/>
                      </a:lnTo>
                      <a:lnTo>
                        <a:pt x="418" y="518"/>
                      </a:lnTo>
                      <a:lnTo>
                        <a:pt x="399" y="513"/>
                      </a:lnTo>
                      <a:lnTo>
                        <a:pt x="380" y="510"/>
                      </a:lnTo>
                      <a:lnTo>
                        <a:pt x="362" y="506"/>
                      </a:lnTo>
                      <a:lnTo>
                        <a:pt x="344" y="502"/>
                      </a:lnTo>
                      <a:lnTo>
                        <a:pt x="326" y="497"/>
                      </a:lnTo>
                      <a:lnTo>
                        <a:pt x="309" y="492"/>
                      </a:lnTo>
                      <a:lnTo>
                        <a:pt x="292" y="488"/>
                      </a:lnTo>
                      <a:lnTo>
                        <a:pt x="276" y="483"/>
                      </a:lnTo>
                      <a:lnTo>
                        <a:pt x="260" y="479"/>
                      </a:lnTo>
                      <a:lnTo>
                        <a:pt x="245" y="474"/>
                      </a:lnTo>
                      <a:lnTo>
                        <a:pt x="230" y="470"/>
                      </a:lnTo>
                      <a:lnTo>
                        <a:pt x="215" y="465"/>
                      </a:lnTo>
                      <a:lnTo>
                        <a:pt x="202" y="460"/>
                      </a:lnTo>
                      <a:lnTo>
                        <a:pt x="188" y="456"/>
                      </a:lnTo>
                      <a:lnTo>
                        <a:pt x="175" y="450"/>
                      </a:lnTo>
                      <a:lnTo>
                        <a:pt x="162" y="446"/>
                      </a:lnTo>
                      <a:lnTo>
                        <a:pt x="149" y="441"/>
                      </a:lnTo>
                      <a:lnTo>
                        <a:pt x="138" y="435"/>
                      </a:lnTo>
                      <a:lnTo>
                        <a:pt x="126" y="431"/>
                      </a:lnTo>
                      <a:lnTo>
                        <a:pt x="115" y="426"/>
                      </a:lnTo>
                      <a:lnTo>
                        <a:pt x="105" y="420"/>
                      </a:lnTo>
                      <a:lnTo>
                        <a:pt x="95" y="415"/>
                      </a:lnTo>
                      <a:lnTo>
                        <a:pt x="85" y="410"/>
                      </a:lnTo>
                      <a:lnTo>
                        <a:pt x="77" y="406"/>
                      </a:lnTo>
                      <a:lnTo>
                        <a:pt x="68" y="400"/>
                      </a:lnTo>
                      <a:lnTo>
                        <a:pt x="60" y="395"/>
                      </a:lnTo>
                      <a:lnTo>
                        <a:pt x="52" y="390"/>
                      </a:lnTo>
                      <a:lnTo>
                        <a:pt x="46" y="384"/>
                      </a:lnTo>
                      <a:lnTo>
                        <a:pt x="39" y="379"/>
                      </a:lnTo>
                      <a:lnTo>
                        <a:pt x="33" y="374"/>
                      </a:lnTo>
                      <a:lnTo>
                        <a:pt x="28" y="368"/>
                      </a:lnTo>
                      <a:lnTo>
                        <a:pt x="22" y="363"/>
                      </a:lnTo>
                      <a:lnTo>
                        <a:pt x="18" y="358"/>
                      </a:lnTo>
                      <a:lnTo>
                        <a:pt x="14" y="352"/>
                      </a:lnTo>
                      <a:lnTo>
                        <a:pt x="11" y="347"/>
                      </a:lnTo>
                      <a:lnTo>
                        <a:pt x="8" y="342"/>
                      </a:lnTo>
                      <a:lnTo>
                        <a:pt x="4" y="336"/>
                      </a:lnTo>
                      <a:lnTo>
                        <a:pt x="2" y="331"/>
                      </a:lnTo>
                      <a:lnTo>
                        <a:pt x="1" y="325"/>
                      </a:lnTo>
                      <a:lnTo>
                        <a:pt x="0" y="319"/>
                      </a:lnTo>
                      <a:lnTo>
                        <a:pt x="0" y="314"/>
                      </a:lnTo>
                      <a:lnTo>
                        <a:pt x="0" y="309"/>
                      </a:lnTo>
                      <a:lnTo>
                        <a:pt x="0" y="303"/>
                      </a:lnTo>
                      <a:lnTo>
                        <a:pt x="1" y="298"/>
                      </a:lnTo>
                      <a:lnTo>
                        <a:pt x="2" y="293"/>
                      </a:lnTo>
                      <a:lnTo>
                        <a:pt x="4" y="287"/>
                      </a:lnTo>
                      <a:lnTo>
                        <a:pt x="8" y="282"/>
                      </a:lnTo>
                      <a:lnTo>
                        <a:pt x="11" y="277"/>
                      </a:lnTo>
                      <a:lnTo>
                        <a:pt x="14" y="271"/>
                      </a:lnTo>
                      <a:lnTo>
                        <a:pt x="18" y="265"/>
                      </a:lnTo>
                      <a:lnTo>
                        <a:pt x="22" y="259"/>
                      </a:lnTo>
                      <a:lnTo>
                        <a:pt x="28" y="254"/>
                      </a:lnTo>
                      <a:lnTo>
                        <a:pt x="33" y="249"/>
                      </a:lnTo>
                      <a:lnTo>
                        <a:pt x="39" y="243"/>
                      </a:lnTo>
                      <a:lnTo>
                        <a:pt x="46" y="238"/>
                      </a:lnTo>
                      <a:lnTo>
                        <a:pt x="52" y="233"/>
                      </a:lnTo>
                      <a:lnTo>
                        <a:pt x="60" y="229"/>
                      </a:lnTo>
                      <a:lnTo>
                        <a:pt x="68" y="223"/>
                      </a:lnTo>
                      <a:lnTo>
                        <a:pt x="77" y="218"/>
                      </a:lnTo>
                      <a:lnTo>
                        <a:pt x="85" y="213"/>
                      </a:lnTo>
                      <a:lnTo>
                        <a:pt x="95" y="207"/>
                      </a:lnTo>
                      <a:lnTo>
                        <a:pt x="105" y="202"/>
                      </a:lnTo>
                      <a:lnTo>
                        <a:pt x="115" y="198"/>
                      </a:lnTo>
                      <a:lnTo>
                        <a:pt x="126" y="192"/>
                      </a:lnTo>
                      <a:lnTo>
                        <a:pt x="138" y="187"/>
                      </a:lnTo>
                      <a:lnTo>
                        <a:pt x="149" y="182"/>
                      </a:lnTo>
                      <a:lnTo>
                        <a:pt x="162" y="177"/>
                      </a:lnTo>
                      <a:lnTo>
                        <a:pt x="175" y="172"/>
                      </a:lnTo>
                      <a:lnTo>
                        <a:pt x="188" y="168"/>
                      </a:lnTo>
                      <a:lnTo>
                        <a:pt x="202" y="162"/>
                      </a:lnTo>
                      <a:lnTo>
                        <a:pt x="215" y="158"/>
                      </a:lnTo>
                      <a:lnTo>
                        <a:pt x="230" y="153"/>
                      </a:lnTo>
                      <a:lnTo>
                        <a:pt x="245" y="149"/>
                      </a:lnTo>
                      <a:lnTo>
                        <a:pt x="260" y="144"/>
                      </a:lnTo>
                      <a:lnTo>
                        <a:pt x="276" y="139"/>
                      </a:lnTo>
                      <a:lnTo>
                        <a:pt x="292" y="135"/>
                      </a:lnTo>
                      <a:lnTo>
                        <a:pt x="309" y="130"/>
                      </a:lnTo>
                      <a:lnTo>
                        <a:pt x="326" y="126"/>
                      </a:lnTo>
                      <a:lnTo>
                        <a:pt x="343" y="122"/>
                      </a:lnTo>
                      <a:lnTo>
                        <a:pt x="362" y="118"/>
                      </a:lnTo>
                      <a:lnTo>
                        <a:pt x="380" y="113"/>
                      </a:lnTo>
                      <a:lnTo>
                        <a:pt x="399" y="109"/>
                      </a:lnTo>
                      <a:lnTo>
                        <a:pt x="418" y="105"/>
                      </a:lnTo>
                      <a:lnTo>
                        <a:pt x="437" y="101"/>
                      </a:lnTo>
                      <a:lnTo>
                        <a:pt x="457" y="97"/>
                      </a:lnTo>
                      <a:lnTo>
                        <a:pt x="478" y="93"/>
                      </a:lnTo>
                      <a:lnTo>
                        <a:pt x="498" y="89"/>
                      </a:lnTo>
                      <a:lnTo>
                        <a:pt x="519" y="86"/>
                      </a:lnTo>
                      <a:lnTo>
                        <a:pt x="541" y="81"/>
                      </a:lnTo>
                      <a:lnTo>
                        <a:pt x="562" y="78"/>
                      </a:lnTo>
                      <a:lnTo>
                        <a:pt x="583" y="75"/>
                      </a:lnTo>
                      <a:lnTo>
                        <a:pt x="606" y="71"/>
                      </a:lnTo>
                      <a:lnTo>
                        <a:pt x="628" y="67"/>
                      </a:lnTo>
                      <a:lnTo>
                        <a:pt x="652" y="64"/>
                      </a:lnTo>
                      <a:lnTo>
                        <a:pt x="675" y="61"/>
                      </a:lnTo>
                      <a:lnTo>
                        <a:pt x="698" y="58"/>
                      </a:lnTo>
                      <a:lnTo>
                        <a:pt x="722" y="55"/>
                      </a:lnTo>
                      <a:lnTo>
                        <a:pt x="746" y="51"/>
                      </a:lnTo>
                      <a:lnTo>
                        <a:pt x="771" y="48"/>
                      </a:lnTo>
                      <a:lnTo>
                        <a:pt x="796" y="46"/>
                      </a:lnTo>
                      <a:lnTo>
                        <a:pt x="820" y="43"/>
                      </a:lnTo>
                      <a:lnTo>
                        <a:pt x="846" y="41"/>
                      </a:lnTo>
                      <a:lnTo>
                        <a:pt x="870" y="38"/>
                      </a:lnTo>
                      <a:lnTo>
                        <a:pt x="897" y="36"/>
                      </a:lnTo>
                      <a:lnTo>
                        <a:pt x="922" y="32"/>
                      </a:lnTo>
                      <a:lnTo>
                        <a:pt x="948" y="30"/>
                      </a:lnTo>
                      <a:lnTo>
                        <a:pt x="975" y="28"/>
                      </a:lnTo>
                      <a:lnTo>
                        <a:pt x="1001" y="26"/>
                      </a:lnTo>
                      <a:lnTo>
                        <a:pt x="1028" y="24"/>
                      </a:lnTo>
                      <a:lnTo>
                        <a:pt x="1055" y="22"/>
                      </a:lnTo>
                      <a:lnTo>
                        <a:pt x="1082" y="20"/>
                      </a:lnTo>
                      <a:lnTo>
                        <a:pt x="1109" y="18"/>
                      </a:lnTo>
                      <a:lnTo>
                        <a:pt x="1137" y="16"/>
                      </a:lnTo>
                      <a:lnTo>
                        <a:pt x="1164" y="14"/>
                      </a:lnTo>
                      <a:lnTo>
                        <a:pt x="1192" y="13"/>
                      </a:lnTo>
                      <a:lnTo>
                        <a:pt x="1220" y="11"/>
                      </a:lnTo>
                      <a:lnTo>
                        <a:pt x="1249" y="10"/>
                      </a:lnTo>
                      <a:lnTo>
                        <a:pt x="1276" y="9"/>
                      </a:lnTo>
                      <a:lnTo>
                        <a:pt x="1304" y="8"/>
                      </a:lnTo>
                      <a:lnTo>
                        <a:pt x="1333" y="7"/>
                      </a:lnTo>
                      <a:lnTo>
                        <a:pt x="1362" y="6"/>
                      </a:lnTo>
                      <a:lnTo>
                        <a:pt x="1390" y="5"/>
                      </a:lnTo>
                      <a:lnTo>
                        <a:pt x="1419" y="4"/>
                      </a:lnTo>
                      <a:lnTo>
                        <a:pt x="1448" y="2"/>
                      </a:lnTo>
                      <a:lnTo>
                        <a:pt x="1477" y="2"/>
                      </a:lnTo>
                      <a:lnTo>
                        <a:pt x="1506" y="1"/>
                      </a:lnTo>
                      <a:lnTo>
                        <a:pt x="1534" y="1"/>
                      </a:lnTo>
                      <a:lnTo>
                        <a:pt x="1563" y="1"/>
                      </a:lnTo>
                      <a:lnTo>
                        <a:pt x="1592" y="0"/>
                      </a:lnTo>
                      <a:lnTo>
                        <a:pt x="1621" y="0"/>
                      </a:lnTo>
                      <a:lnTo>
                        <a:pt x="1650" y="0"/>
                      </a:lnTo>
                      <a:lnTo>
                        <a:pt x="1679" y="0"/>
                      </a:lnTo>
                      <a:lnTo>
                        <a:pt x="1708" y="0"/>
                      </a:lnTo>
                      <a:lnTo>
                        <a:pt x="1737" y="0"/>
                      </a:lnTo>
                      <a:lnTo>
                        <a:pt x="1766" y="1"/>
                      </a:lnTo>
                      <a:lnTo>
                        <a:pt x="1795" y="1"/>
                      </a:lnTo>
                      <a:lnTo>
                        <a:pt x="1823" y="2"/>
                      </a:lnTo>
                      <a:lnTo>
                        <a:pt x="1853" y="2"/>
                      </a:lnTo>
                      <a:lnTo>
                        <a:pt x="1882" y="4"/>
                      </a:lnTo>
                      <a:lnTo>
                        <a:pt x="1910" y="5"/>
                      </a:lnTo>
                      <a:lnTo>
                        <a:pt x="1939" y="5"/>
                      </a:lnTo>
                      <a:lnTo>
                        <a:pt x="1967" y="6"/>
                      </a:lnTo>
                      <a:lnTo>
                        <a:pt x="1996" y="7"/>
                      </a:lnTo>
                      <a:lnTo>
                        <a:pt x="2024" y="8"/>
                      </a:lnTo>
                      <a:lnTo>
                        <a:pt x="2053" y="10"/>
                      </a:lnTo>
                      <a:lnTo>
                        <a:pt x="2080" y="11"/>
                      </a:lnTo>
                      <a:lnTo>
                        <a:pt x="2108" y="12"/>
                      </a:lnTo>
                      <a:lnTo>
                        <a:pt x="2137" y="14"/>
                      </a:lnTo>
                      <a:lnTo>
                        <a:pt x="2165" y="15"/>
                      </a:lnTo>
                      <a:lnTo>
                        <a:pt x="2191" y="17"/>
                      </a:lnTo>
                      <a:lnTo>
                        <a:pt x="2219" y="18"/>
                      </a:lnTo>
                      <a:lnTo>
                        <a:pt x="2247" y="21"/>
                      </a:lnTo>
                      <a:lnTo>
                        <a:pt x="2273" y="23"/>
                      </a:lnTo>
                      <a:lnTo>
                        <a:pt x="2300" y="25"/>
                      </a:lnTo>
                      <a:lnTo>
                        <a:pt x="2327" y="27"/>
                      </a:lnTo>
                      <a:lnTo>
                        <a:pt x="2353" y="29"/>
                      </a:lnTo>
                      <a:lnTo>
                        <a:pt x="2380" y="31"/>
                      </a:lnTo>
                      <a:lnTo>
                        <a:pt x="2406" y="34"/>
                      </a:lnTo>
                      <a:lnTo>
                        <a:pt x="2431" y="37"/>
                      </a:lnTo>
                      <a:lnTo>
                        <a:pt x="2457" y="39"/>
                      </a:lnTo>
                      <a:lnTo>
                        <a:pt x="2482" y="42"/>
                      </a:lnTo>
                      <a:lnTo>
                        <a:pt x="2507" y="44"/>
                      </a:lnTo>
                      <a:lnTo>
                        <a:pt x="2532" y="47"/>
                      </a:lnTo>
                      <a:lnTo>
                        <a:pt x="2557" y="50"/>
                      </a:lnTo>
                      <a:lnTo>
                        <a:pt x="2580" y="54"/>
                      </a:lnTo>
                      <a:lnTo>
                        <a:pt x="2605" y="56"/>
                      </a:lnTo>
                      <a:lnTo>
                        <a:pt x="2628" y="59"/>
                      </a:lnTo>
                      <a:lnTo>
                        <a:pt x="2652" y="62"/>
                      </a:lnTo>
                      <a:lnTo>
                        <a:pt x="2674" y="65"/>
                      </a:lnTo>
                      <a:lnTo>
                        <a:pt x="2698" y="70"/>
                      </a:lnTo>
                      <a:lnTo>
                        <a:pt x="2720" y="73"/>
                      </a:lnTo>
                      <a:lnTo>
                        <a:pt x="2743" y="76"/>
                      </a:lnTo>
                      <a:lnTo>
                        <a:pt x="2764" y="80"/>
                      </a:lnTo>
                      <a:lnTo>
                        <a:pt x="2785" y="83"/>
                      </a:lnTo>
                      <a:lnTo>
                        <a:pt x="2807" y="88"/>
                      </a:lnTo>
                      <a:lnTo>
                        <a:pt x="2827" y="91"/>
                      </a:lnTo>
                      <a:lnTo>
                        <a:pt x="2847" y="95"/>
                      </a:lnTo>
                      <a:lnTo>
                        <a:pt x="2867" y="98"/>
                      </a:lnTo>
                      <a:lnTo>
                        <a:pt x="2888" y="103"/>
                      </a:lnTo>
                      <a:lnTo>
                        <a:pt x="2907" y="107"/>
                      </a:lnTo>
                      <a:lnTo>
                        <a:pt x="2925" y="111"/>
                      </a:lnTo>
                      <a:lnTo>
                        <a:pt x="2944" y="115"/>
                      </a:lnTo>
                      <a:lnTo>
                        <a:pt x="2962" y="120"/>
                      </a:lnTo>
                      <a:lnTo>
                        <a:pt x="2979" y="124"/>
                      </a:lnTo>
                      <a:lnTo>
                        <a:pt x="2997" y="128"/>
                      </a:lnTo>
                      <a:lnTo>
                        <a:pt x="3013" y="133"/>
                      </a:lnTo>
                      <a:lnTo>
                        <a:pt x="3030" y="137"/>
                      </a:lnTo>
                      <a:lnTo>
                        <a:pt x="3046" y="141"/>
                      </a:lnTo>
                      <a:lnTo>
                        <a:pt x="3062" y="146"/>
                      </a:lnTo>
                      <a:lnTo>
                        <a:pt x="3077" y="151"/>
                      </a:lnTo>
                      <a:lnTo>
                        <a:pt x="3092" y="156"/>
                      </a:lnTo>
                      <a:lnTo>
                        <a:pt x="3106" y="160"/>
                      </a:lnTo>
                      <a:lnTo>
                        <a:pt x="3120" y="165"/>
                      </a:lnTo>
                      <a:lnTo>
                        <a:pt x="3134" y="170"/>
                      </a:lnTo>
                      <a:lnTo>
                        <a:pt x="3147" y="175"/>
                      </a:lnTo>
                      <a:lnTo>
                        <a:pt x="3159" y="179"/>
                      </a:lnTo>
                      <a:lnTo>
                        <a:pt x="3171" y="185"/>
                      </a:lnTo>
                      <a:lnTo>
                        <a:pt x="3183" y="189"/>
                      </a:lnTo>
                      <a:lnTo>
                        <a:pt x="3194" y="194"/>
                      </a:lnTo>
                      <a:lnTo>
                        <a:pt x="3204" y="200"/>
                      </a:lnTo>
                      <a:lnTo>
                        <a:pt x="3215" y="205"/>
                      </a:lnTo>
                      <a:lnTo>
                        <a:pt x="3225" y="209"/>
                      </a:lnTo>
                      <a:lnTo>
                        <a:pt x="3234" y="215"/>
                      </a:lnTo>
                      <a:lnTo>
                        <a:pt x="3243" y="220"/>
                      </a:lnTo>
                      <a:lnTo>
                        <a:pt x="3251" y="225"/>
                      </a:lnTo>
                      <a:lnTo>
                        <a:pt x="3259" y="231"/>
                      </a:lnTo>
                      <a:lnTo>
                        <a:pt x="3266" y="236"/>
                      </a:lnTo>
                      <a:lnTo>
                        <a:pt x="3273" y="241"/>
                      </a:lnTo>
                      <a:lnTo>
                        <a:pt x="3279" y="247"/>
                      </a:lnTo>
                      <a:lnTo>
                        <a:pt x="3284" y="252"/>
                      </a:lnTo>
                      <a:lnTo>
                        <a:pt x="3290" y="257"/>
                      </a:lnTo>
                      <a:lnTo>
                        <a:pt x="3295" y="263"/>
                      </a:lnTo>
                      <a:lnTo>
                        <a:pt x="3299" y="268"/>
                      </a:lnTo>
                      <a:lnTo>
                        <a:pt x="3303" y="273"/>
                      </a:lnTo>
                      <a:lnTo>
                        <a:pt x="3307" y="279"/>
                      </a:lnTo>
                      <a:lnTo>
                        <a:pt x="3309" y="284"/>
                      </a:lnTo>
                      <a:lnTo>
                        <a:pt x="3311" y="289"/>
                      </a:lnTo>
                      <a:lnTo>
                        <a:pt x="3313" y="295"/>
                      </a:lnTo>
                      <a:lnTo>
                        <a:pt x="3314" y="300"/>
                      </a:lnTo>
                      <a:lnTo>
                        <a:pt x="3315" y="306"/>
                      </a:lnTo>
                      <a:lnTo>
                        <a:pt x="3315" y="31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5524560" y="1822320"/>
              <a:ext cx="164880" cy="165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77560" y="1747800"/>
              <a:ext cx="5583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06440" y="5435640"/>
            <a:ext cx="8166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rolling motion to occur, each wheel has to move along its y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35F-B298-47A3-8313-E2262C416E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9756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Differential Drive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214280" y="1859040"/>
            <a:ext cx="3043440" cy="3620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51320" y="3479760"/>
            <a:ext cx="85680" cy="424080"/>
          </a:xfrm>
          <a:custGeom>
            <a:avLst/>
            <a:gdLst/>
            <a:ahLst/>
            <a:rect l="l" t="t" r="r" b="b"/>
            <a:pathLst>
              <a:path w="266" h="1331">
                <a:moveTo>
                  <a:pt x="260" y="1331"/>
                </a:moveTo>
                <a:lnTo>
                  <a:pt x="262" y="1285"/>
                </a:lnTo>
                <a:lnTo>
                  <a:pt x="264" y="1240"/>
                </a:lnTo>
                <a:lnTo>
                  <a:pt x="266" y="1194"/>
                </a:lnTo>
                <a:lnTo>
                  <a:pt x="266" y="1148"/>
                </a:lnTo>
                <a:lnTo>
                  <a:pt x="266" y="1102"/>
                </a:lnTo>
                <a:lnTo>
                  <a:pt x="264" y="1056"/>
                </a:lnTo>
                <a:lnTo>
                  <a:pt x="262" y="1011"/>
                </a:lnTo>
                <a:lnTo>
                  <a:pt x="259" y="965"/>
                </a:lnTo>
                <a:lnTo>
                  <a:pt x="255" y="920"/>
                </a:lnTo>
                <a:lnTo>
                  <a:pt x="251" y="874"/>
                </a:lnTo>
                <a:lnTo>
                  <a:pt x="246" y="829"/>
                </a:lnTo>
                <a:lnTo>
                  <a:pt x="240" y="784"/>
                </a:lnTo>
                <a:lnTo>
                  <a:pt x="232" y="739"/>
                </a:lnTo>
                <a:lnTo>
                  <a:pt x="225" y="694"/>
                </a:lnTo>
                <a:lnTo>
                  <a:pt x="217" y="648"/>
                </a:lnTo>
                <a:lnTo>
                  <a:pt x="207" y="604"/>
                </a:lnTo>
                <a:lnTo>
                  <a:pt x="198" y="559"/>
                </a:lnTo>
                <a:lnTo>
                  <a:pt x="187" y="515"/>
                </a:lnTo>
                <a:lnTo>
                  <a:pt x="175" y="470"/>
                </a:lnTo>
                <a:lnTo>
                  <a:pt x="163" y="427"/>
                </a:lnTo>
                <a:lnTo>
                  <a:pt x="150" y="382"/>
                </a:lnTo>
                <a:lnTo>
                  <a:pt x="137" y="339"/>
                </a:lnTo>
                <a:lnTo>
                  <a:pt x="123" y="295"/>
                </a:lnTo>
                <a:lnTo>
                  <a:pt x="107" y="253"/>
                </a:lnTo>
                <a:lnTo>
                  <a:pt x="90" y="209"/>
                </a:lnTo>
                <a:lnTo>
                  <a:pt x="74" y="167"/>
                </a:lnTo>
                <a:lnTo>
                  <a:pt x="56" y="126"/>
                </a:lnTo>
                <a:lnTo>
                  <a:pt x="39" y="83"/>
                </a:lnTo>
                <a:lnTo>
                  <a:pt x="20" y="4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2880" y="1724040"/>
            <a:ext cx="86040" cy="395280"/>
          </a:xfrm>
          <a:custGeom>
            <a:avLst/>
            <a:gdLst/>
            <a:ahLst/>
            <a:rect l="l" t="t" r="r" b="b"/>
            <a:pathLst>
              <a:path w="273" h="1244">
                <a:moveTo>
                  <a:pt x="0" y="1244"/>
                </a:moveTo>
                <a:lnTo>
                  <a:pt x="14" y="1224"/>
                </a:lnTo>
                <a:lnTo>
                  <a:pt x="28" y="1205"/>
                </a:lnTo>
                <a:lnTo>
                  <a:pt x="42" y="1185"/>
                </a:lnTo>
                <a:lnTo>
                  <a:pt x="54" y="1164"/>
                </a:lnTo>
                <a:lnTo>
                  <a:pt x="68" y="1144"/>
                </a:lnTo>
                <a:lnTo>
                  <a:pt x="80" y="1123"/>
                </a:lnTo>
                <a:lnTo>
                  <a:pt x="92" y="1102"/>
                </a:lnTo>
                <a:lnTo>
                  <a:pt x="104" y="1080"/>
                </a:lnTo>
                <a:lnTo>
                  <a:pt x="115" y="1060"/>
                </a:lnTo>
                <a:lnTo>
                  <a:pt x="127" y="1038"/>
                </a:lnTo>
                <a:lnTo>
                  <a:pt x="137" y="1016"/>
                </a:lnTo>
                <a:lnTo>
                  <a:pt x="147" y="993"/>
                </a:lnTo>
                <a:lnTo>
                  <a:pt x="157" y="972"/>
                </a:lnTo>
                <a:lnTo>
                  <a:pt x="166" y="949"/>
                </a:lnTo>
                <a:lnTo>
                  <a:pt x="175" y="927"/>
                </a:lnTo>
                <a:lnTo>
                  <a:pt x="185" y="904"/>
                </a:lnTo>
                <a:lnTo>
                  <a:pt x="193" y="882"/>
                </a:lnTo>
                <a:lnTo>
                  <a:pt x="200" y="859"/>
                </a:lnTo>
                <a:lnTo>
                  <a:pt x="207" y="836"/>
                </a:lnTo>
                <a:lnTo>
                  <a:pt x="215" y="812"/>
                </a:lnTo>
                <a:lnTo>
                  <a:pt x="222" y="789"/>
                </a:lnTo>
                <a:lnTo>
                  <a:pt x="228" y="766"/>
                </a:lnTo>
                <a:lnTo>
                  <a:pt x="234" y="742"/>
                </a:lnTo>
                <a:lnTo>
                  <a:pt x="240" y="719"/>
                </a:lnTo>
                <a:lnTo>
                  <a:pt x="245" y="695"/>
                </a:lnTo>
                <a:lnTo>
                  <a:pt x="249" y="671"/>
                </a:lnTo>
                <a:lnTo>
                  <a:pt x="253" y="648"/>
                </a:lnTo>
                <a:lnTo>
                  <a:pt x="257" y="623"/>
                </a:lnTo>
                <a:lnTo>
                  <a:pt x="260" y="599"/>
                </a:lnTo>
                <a:lnTo>
                  <a:pt x="263" y="575"/>
                </a:lnTo>
                <a:lnTo>
                  <a:pt x="266" y="551"/>
                </a:lnTo>
                <a:lnTo>
                  <a:pt x="269" y="526"/>
                </a:lnTo>
                <a:lnTo>
                  <a:pt x="271" y="503"/>
                </a:lnTo>
                <a:lnTo>
                  <a:pt x="272" y="479"/>
                </a:lnTo>
                <a:lnTo>
                  <a:pt x="273" y="454"/>
                </a:lnTo>
                <a:lnTo>
                  <a:pt x="273" y="430"/>
                </a:lnTo>
                <a:lnTo>
                  <a:pt x="273" y="405"/>
                </a:lnTo>
                <a:lnTo>
                  <a:pt x="273" y="382"/>
                </a:lnTo>
                <a:lnTo>
                  <a:pt x="272" y="358"/>
                </a:lnTo>
                <a:lnTo>
                  <a:pt x="271" y="333"/>
                </a:lnTo>
                <a:lnTo>
                  <a:pt x="270" y="309"/>
                </a:lnTo>
                <a:lnTo>
                  <a:pt x="268" y="285"/>
                </a:lnTo>
                <a:lnTo>
                  <a:pt x="264" y="260"/>
                </a:lnTo>
                <a:lnTo>
                  <a:pt x="262" y="237"/>
                </a:lnTo>
                <a:lnTo>
                  <a:pt x="258" y="213"/>
                </a:lnTo>
                <a:lnTo>
                  <a:pt x="255" y="189"/>
                </a:lnTo>
                <a:lnTo>
                  <a:pt x="251" y="165"/>
                </a:lnTo>
                <a:lnTo>
                  <a:pt x="247" y="141"/>
                </a:lnTo>
                <a:lnTo>
                  <a:pt x="242" y="118"/>
                </a:lnTo>
                <a:lnTo>
                  <a:pt x="236" y="94"/>
                </a:lnTo>
                <a:lnTo>
                  <a:pt x="230" y="70"/>
                </a:lnTo>
                <a:lnTo>
                  <a:pt x="224" y="46"/>
                </a:lnTo>
                <a:lnTo>
                  <a:pt x="218" y="23"/>
                </a:lnTo>
                <a:lnTo>
                  <a:pt x="211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92200" y="1682640"/>
            <a:ext cx="41400" cy="68400"/>
          </a:xfrm>
          <a:custGeom>
            <a:avLst/>
            <a:gdLst/>
            <a:ahLst/>
            <a:rect l="l" t="t" r="r" b="b"/>
            <a:pathLst>
              <a:path w="128" h="216">
                <a:moveTo>
                  <a:pt x="29" y="216"/>
                </a:moveTo>
                <a:lnTo>
                  <a:pt x="0" y="0"/>
                </a:lnTo>
                <a:lnTo>
                  <a:pt x="128" y="176"/>
                </a:lnTo>
                <a:lnTo>
                  <a:pt x="63" y="157"/>
                </a:lnTo>
                <a:lnTo>
                  <a:pt x="29" y="216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3240" y="1816200"/>
            <a:ext cx="84240" cy="8388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98600" y="2340000"/>
            <a:ext cx="1573200" cy="1347840"/>
          </a:xfrm>
          <a:custGeom>
            <a:avLst/>
            <a:gdLst/>
            <a:ahLst/>
            <a:rect l="l" t="t" r="r" b="b"/>
            <a:pathLst>
              <a:path w="4953" h="4243">
                <a:moveTo>
                  <a:pt x="4901" y="88"/>
                </a:moveTo>
                <a:lnTo>
                  <a:pt x="4909" y="99"/>
                </a:lnTo>
                <a:lnTo>
                  <a:pt x="4917" y="111"/>
                </a:lnTo>
                <a:lnTo>
                  <a:pt x="4924" y="123"/>
                </a:lnTo>
                <a:lnTo>
                  <a:pt x="4931" y="135"/>
                </a:lnTo>
                <a:lnTo>
                  <a:pt x="4936" y="149"/>
                </a:lnTo>
                <a:lnTo>
                  <a:pt x="4941" y="162"/>
                </a:lnTo>
                <a:lnTo>
                  <a:pt x="4944" y="177"/>
                </a:lnTo>
                <a:lnTo>
                  <a:pt x="4948" y="192"/>
                </a:lnTo>
                <a:lnTo>
                  <a:pt x="4950" y="208"/>
                </a:lnTo>
                <a:lnTo>
                  <a:pt x="4952" y="224"/>
                </a:lnTo>
                <a:lnTo>
                  <a:pt x="4953" y="241"/>
                </a:lnTo>
                <a:lnTo>
                  <a:pt x="4953" y="259"/>
                </a:lnTo>
                <a:lnTo>
                  <a:pt x="4952" y="277"/>
                </a:lnTo>
                <a:lnTo>
                  <a:pt x="4951" y="296"/>
                </a:lnTo>
                <a:lnTo>
                  <a:pt x="4949" y="314"/>
                </a:lnTo>
                <a:lnTo>
                  <a:pt x="4946" y="334"/>
                </a:lnTo>
                <a:lnTo>
                  <a:pt x="4943" y="355"/>
                </a:lnTo>
                <a:lnTo>
                  <a:pt x="4939" y="376"/>
                </a:lnTo>
                <a:lnTo>
                  <a:pt x="4934" y="396"/>
                </a:lnTo>
                <a:lnTo>
                  <a:pt x="4927" y="419"/>
                </a:lnTo>
                <a:lnTo>
                  <a:pt x="4921" y="441"/>
                </a:lnTo>
                <a:lnTo>
                  <a:pt x="4914" y="464"/>
                </a:lnTo>
                <a:lnTo>
                  <a:pt x="4906" y="487"/>
                </a:lnTo>
                <a:lnTo>
                  <a:pt x="4897" y="511"/>
                </a:lnTo>
                <a:lnTo>
                  <a:pt x="4888" y="536"/>
                </a:lnTo>
                <a:lnTo>
                  <a:pt x="4878" y="561"/>
                </a:lnTo>
                <a:lnTo>
                  <a:pt x="4866" y="586"/>
                </a:lnTo>
                <a:lnTo>
                  <a:pt x="4855" y="612"/>
                </a:lnTo>
                <a:lnTo>
                  <a:pt x="4843" y="639"/>
                </a:lnTo>
                <a:lnTo>
                  <a:pt x="4829" y="664"/>
                </a:lnTo>
                <a:lnTo>
                  <a:pt x="4815" y="692"/>
                </a:lnTo>
                <a:lnTo>
                  <a:pt x="4800" y="719"/>
                </a:lnTo>
                <a:lnTo>
                  <a:pt x="4784" y="748"/>
                </a:lnTo>
                <a:lnTo>
                  <a:pt x="4769" y="776"/>
                </a:lnTo>
                <a:lnTo>
                  <a:pt x="4752" y="805"/>
                </a:lnTo>
                <a:lnTo>
                  <a:pt x="4735" y="834"/>
                </a:lnTo>
                <a:lnTo>
                  <a:pt x="4716" y="864"/>
                </a:lnTo>
                <a:lnTo>
                  <a:pt x="4697" y="894"/>
                </a:lnTo>
                <a:lnTo>
                  <a:pt x="4678" y="925"/>
                </a:lnTo>
                <a:lnTo>
                  <a:pt x="4658" y="955"/>
                </a:lnTo>
                <a:lnTo>
                  <a:pt x="4637" y="986"/>
                </a:lnTo>
                <a:lnTo>
                  <a:pt x="4616" y="1019"/>
                </a:lnTo>
                <a:lnTo>
                  <a:pt x="4594" y="1051"/>
                </a:lnTo>
                <a:lnTo>
                  <a:pt x="4571" y="1083"/>
                </a:lnTo>
                <a:lnTo>
                  <a:pt x="4547" y="1115"/>
                </a:lnTo>
                <a:lnTo>
                  <a:pt x="4523" y="1148"/>
                </a:lnTo>
                <a:lnTo>
                  <a:pt x="4499" y="1181"/>
                </a:lnTo>
                <a:lnTo>
                  <a:pt x="4473" y="1214"/>
                </a:lnTo>
                <a:lnTo>
                  <a:pt x="4447" y="1248"/>
                </a:lnTo>
                <a:lnTo>
                  <a:pt x="4421" y="1283"/>
                </a:lnTo>
                <a:lnTo>
                  <a:pt x="4393" y="1317"/>
                </a:lnTo>
                <a:lnTo>
                  <a:pt x="4366" y="1351"/>
                </a:lnTo>
                <a:lnTo>
                  <a:pt x="4337" y="1385"/>
                </a:lnTo>
                <a:lnTo>
                  <a:pt x="4308" y="1420"/>
                </a:lnTo>
                <a:lnTo>
                  <a:pt x="4279" y="1455"/>
                </a:lnTo>
                <a:lnTo>
                  <a:pt x="4249" y="1491"/>
                </a:lnTo>
                <a:lnTo>
                  <a:pt x="4219" y="1527"/>
                </a:lnTo>
                <a:lnTo>
                  <a:pt x="4188" y="1562"/>
                </a:lnTo>
                <a:lnTo>
                  <a:pt x="4156" y="1598"/>
                </a:lnTo>
                <a:lnTo>
                  <a:pt x="4123" y="1635"/>
                </a:lnTo>
                <a:lnTo>
                  <a:pt x="4091" y="1671"/>
                </a:lnTo>
                <a:lnTo>
                  <a:pt x="4058" y="1707"/>
                </a:lnTo>
                <a:lnTo>
                  <a:pt x="4024" y="1743"/>
                </a:lnTo>
                <a:lnTo>
                  <a:pt x="3990" y="1779"/>
                </a:lnTo>
                <a:lnTo>
                  <a:pt x="3956" y="1817"/>
                </a:lnTo>
                <a:lnTo>
                  <a:pt x="3920" y="1853"/>
                </a:lnTo>
                <a:lnTo>
                  <a:pt x="3885" y="1890"/>
                </a:lnTo>
                <a:lnTo>
                  <a:pt x="3849" y="1928"/>
                </a:lnTo>
                <a:lnTo>
                  <a:pt x="3813" y="1964"/>
                </a:lnTo>
                <a:lnTo>
                  <a:pt x="3776" y="2001"/>
                </a:lnTo>
                <a:lnTo>
                  <a:pt x="3739" y="2038"/>
                </a:lnTo>
                <a:lnTo>
                  <a:pt x="3702" y="2076"/>
                </a:lnTo>
                <a:lnTo>
                  <a:pt x="3664" y="2113"/>
                </a:lnTo>
                <a:lnTo>
                  <a:pt x="3626" y="2149"/>
                </a:lnTo>
                <a:lnTo>
                  <a:pt x="3587" y="2186"/>
                </a:lnTo>
                <a:lnTo>
                  <a:pt x="3548" y="2224"/>
                </a:lnTo>
                <a:lnTo>
                  <a:pt x="3509" y="2261"/>
                </a:lnTo>
                <a:lnTo>
                  <a:pt x="3470" y="2298"/>
                </a:lnTo>
                <a:lnTo>
                  <a:pt x="3429" y="2334"/>
                </a:lnTo>
                <a:lnTo>
                  <a:pt x="3390" y="2372"/>
                </a:lnTo>
                <a:lnTo>
                  <a:pt x="3349" y="2409"/>
                </a:lnTo>
                <a:lnTo>
                  <a:pt x="3308" y="2445"/>
                </a:lnTo>
                <a:lnTo>
                  <a:pt x="3268" y="2481"/>
                </a:lnTo>
                <a:lnTo>
                  <a:pt x="3226" y="2519"/>
                </a:lnTo>
                <a:lnTo>
                  <a:pt x="3185" y="2555"/>
                </a:lnTo>
                <a:lnTo>
                  <a:pt x="3143" y="2591"/>
                </a:lnTo>
                <a:lnTo>
                  <a:pt x="3102" y="2627"/>
                </a:lnTo>
                <a:lnTo>
                  <a:pt x="3059" y="2664"/>
                </a:lnTo>
                <a:lnTo>
                  <a:pt x="3017" y="2699"/>
                </a:lnTo>
                <a:lnTo>
                  <a:pt x="2974" y="2735"/>
                </a:lnTo>
                <a:lnTo>
                  <a:pt x="2932" y="2770"/>
                </a:lnTo>
                <a:lnTo>
                  <a:pt x="2889" y="2806"/>
                </a:lnTo>
                <a:lnTo>
                  <a:pt x="2847" y="2841"/>
                </a:lnTo>
                <a:lnTo>
                  <a:pt x="2803" y="2875"/>
                </a:lnTo>
                <a:lnTo>
                  <a:pt x="2761" y="2910"/>
                </a:lnTo>
                <a:lnTo>
                  <a:pt x="2717" y="2944"/>
                </a:lnTo>
                <a:lnTo>
                  <a:pt x="2675" y="2978"/>
                </a:lnTo>
                <a:lnTo>
                  <a:pt x="2631" y="3012"/>
                </a:lnTo>
                <a:lnTo>
                  <a:pt x="2588" y="3046"/>
                </a:lnTo>
                <a:lnTo>
                  <a:pt x="2544" y="3079"/>
                </a:lnTo>
                <a:lnTo>
                  <a:pt x="2502" y="3112"/>
                </a:lnTo>
                <a:lnTo>
                  <a:pt x="2458" y="3144"/>
                </a:lnTo>
                <a:lnTo>
                  <a:pt x="2415" y="3177"/>
                </a:lnTo>
                <a:lnTo>
                  <a:pt x="2371" y="3209"/>
                </a:lnTo>
                <a:lnTo>
                  <a:pt x="2328" y="3240"/>
                </a:lnTo>
                <a:lnTo>
                  <a:pt x="2285" y="3272"/>
                </a:lnTo>
                <a:lnTo>
                  <a:pt x="2242" y="3302"/>
                </a:lnTo>
                <a:lnTo>
                  <a:pt x="2198" y="3334"/>
                </a:lnTo>
                <a:lnTo>
                  <a:pt x="2156" y="3364"/>
                </a:lnTo>
                <a:lnTo>
                  <a:pt x="2112" y="3394"/>
                </a:lnTo>
                <a:lnTo>
                  <a:pt x="2070" y="3424"/>
                </a:lnTo>
                <a:lnTo>
                  <a:pt x="2027" y="3453"/>
                </a:lnTo>
                <a:lnTo>
                  <a:pt x="1985" y="3482"/>
                </a:lnTo>
                <a:lnTo>
                  <a:pt x="1942" y="3510"/>
                </a:lnTo>
                <a:lnTo>
                  <a:pt x="1900" y="3537"/>
                </a:lnTo>
                <a:lnTo>
                  <a:pt x="1858" y="3564"/>
                </a:lnTo>
                <a:lnTo>
                  <a:pt x="1816" y="3591"/>
                </a:lnTo>
                <a:lnTo>
                  <a:pt x="1774" y="3618"/>
                </a:lnTo>
                <a:lnTo>
                  <a:pt x="1733" y="3644"/>
                </a:lnTo>
                <a:lnTo>
                  <a:pt x="1691" y="3670"/>
                </a:lnTo>
                <a:lnTo>
                  <a:pt x="1651" y="3695"/>
                </a:lnTo>
                <a:lnTo>
                  <a:pt x="1610" y="3720"/>
                </a:lnTo>
                <a:lnTo>
                  <a:pt x="1569" y="3744"/>
                </a:lnTo>
                <a:lnTo>
                  <a:pt x="1529" y="3767"/>
                </a:lnTo>
                <a:lnTo>
                  <a:pt x="1489" y="3791"/>
                </a:lnTo>
                <a:lnTo>
                  <a:pt x="1450" y="3813"/>
                </a:lnTo>
                <a:lnTo>
                  <a:pt x="1411" y="3836"/>
                </a:lnTo>
                <a:lnTo>
                  <a:pt x="1371" y="3857"/>
                </a:lnTo>
                <a:lnTo>
                  <a:pt x="1333" y="3878"/>
                </a:lnTo>
                <a:lnTo>
                  <a:pt x="1295" y="3899"/>
                </a:lnTo>
                <a:lnTo>
                  <a:pt x="1257" y="3919"/>
                </a:lnTo>
                <a:lnTo>
                  <a:pt x="1219" y="3938"/>
                </a:lnTo>
                <a:lnTo>
                  <a:pt x="1182" y="3957"/>
                </a:lnTo>
                <a:lnTo>
                  <a:pt x="1145" y="3975"/>
                </a:lnTo>
                <a:lnTo>
                  <a:pt x="1109" y="3993"/>
                </a:lnTo>
                <a:lnTo>
                  <a:pt x="1073" y="4011"/>
                </a:lnTo>
                <a:lnTo>
                  <a:pt x="1038" y="4027"/>
                </a:lnTo>
                <a:lnTo>
                  <a:pt x="1002" y="4043"/>
                </a:lnTo>
                <a:lnTo>
                  <a:pt x="968" y="4058"/>
                </a:lnTo>
                <a:lnTo>
                  <a:pt x="934" y="4073"/>
                </a:lnTo>
                <a:lnTo>
                  <a:pt x="900" y="4087"/>
                </a:lnTo>
                <a:lnTo>
                  <a:pt x="867" y="4101"/>
                </a:lnTo>
                <a:lnTo>
                  <a:pt x="835" y="4114"/>
                </a:lnTo>
                <a:lnTo>
                  <a:pt x="802" y="4127"/>
                </a:lnTo>
                <a:lnTo>
                  <a:pt x="770" y="4138"/>
                </a:lnTo>
                <a:lnTo>
                  <a:pt x="739" y="4149"/>
                </a:lnTo>
                <a:lnTo>
                  <a:pt x="709" y="4160"/>
                </a:lnTo>
                <a:lnTo>
                  <a:pt x="679" y="4170"/>
                </a:lnTo>
                <a:lnTo>
                  <a:pt x="649" y="4179"/>
                </a:lnTo>
                <a:lnTo>
                  <a:pt x="620" y="4188"/>
                </a:lnTo>
                <a:lnTo>
                  <a:pt x="592" y="4196"/>
                </a:lnTo>
                <a:lnTo>
                  <a:pt x="564" y="4203"/>
                </a:lnTo>
                <a:lnTo>
                  <a:pt x="537" y="4210"/>
                </a:lnTo>
                <a:lnTo>
                  <a:pt x="510" y="4217"/>
                </a:lnTo>
                <a:lnTo>
                  <a:pt x="484" y="4222"/>
                </a:lnTo>
                <a:lnTo>
                  <a:pt x="458" y="4227"/>
                </a:lnTo>
                <a:lnTo>
                  <a:pt x="433" y="4231"/>
                </a:lnTo>
                <a:lnTo>
                  <a:pt x="410" y="4234"/>
                </a:lnTo>
                <a:lnTo>
                  <a:pt x="386" y="4237"/>
                </a:lnTo>
                <a:lnTo>
                  <a:pt x="363" y="4239"/>
                </a:lnTo>
                <a:lnTo>
                  <a:pt x="341" y="4242"/>
                </a:lnTo>
                <a:lnTo>
                  <a:pt x="320" y="4243"/>
                </a:lnTo>
                <a:lnTo>
                  <a:pt x="299" y="4243"/>
                </a:lnTo>
                <a:lnTo>
                  <a:pt x="278" y="4243"/>
                </a:lnTo>
                <a:lnTo>
                  <a:pt x="258" y="4242"/>
                </a:lnTo>
                <a:lnTo>
                  <a:pt x="240" y="4239"/>
                </a:lnTo>
                <a:lnTo>
                  <a:pt x="221" y="4237"/>
                </a:lnTo>
                <a:lnTo>
                  <a:pt x="203" y="4234"/>
                </a:lnTo>
                <a:lnTo>
                  <a:pt x="187" y="4231"/>
                </a:lnTo>
                <a:lnTo>
                  <a:pt x="171" y="4227"/>
                </a:lnTo>
                <a:lnTo>
                  <a:pt x="156" y="4222"/>
                </a:lnTo>
                <a:lnTo>
                  <a:pt x="140" y="4216"/>
                </a:lnTo>
                <a:lnTo>
                  <a:pt x="127" y="4210"/>
                </a:lnTo>
                <a:lnTo>
                  <a:pt x="113" y="4203"/>
                </a:lnTo>
                <a:lnTo>
                  <a:pt x="101" y="4196"/>
                </a:lnTo>
                <a:lnTo>
                  <a:pt x="88" y="4188"/>
                </a:lnTo>
                <a:lnTo>
                  <a:pt x="78" y="4179"/>
                </a:lnTo>
                <a:lnTo>
                  <a:pt x="68" y="4170"/>
                </a:lnTo>
                <a:lnTo>
                  <a:pt x="57" y="4160"/>
                </a:lnTo>
                <a:lnTo>
                  <a:pt x="49" y="4149"/>
                </a:lnTo>
                <a:lnTo>
                  <a:pt x="41" y="4138"/>
                </a:lnTo>
                <a:lnTo>
                  <a:pt x="34" y="4127"/>
                </a:lnTo>
                <a:lnTo>
                  <a:pt x="26" y="4114"/>
                </a:lnTo>
                <a:lnTo>
                  <a:pt x="21" y="4101"/>
                </a:lnTo>
                <a:lnTo>
                  <a:pt x="16" y="4087"/>
                </a:lnTo>
                <a:lnTo>
                  <a:pt x="12" y="4073"/>
                </a:lnTo>
                <a:lnTo>
                  <a:pt x="8" y="4058"/>
                </a:lnTo>
                <a:lnTo>
                  <a:pt x="5" y="4043"/>
                </a:lnTo>
                <a:lnTo>
                  <a:pt x="2" y="4026"/>
                </a:lnTo>
                <a:lnTo>
                  <a:pt x="1" y="4010"/>
                </a:lnTo>
                <a:lnTo>
                  <a:pt x="0" y="3993"/>
                </a:lnTo>
                <a:lnTo>
                  <a:pt x="0" y="3974"/>
                </a:lnTo>
                <a:lnTo>
                  <a:pt x="1" y="3957"/>
                </a:lnTo>
                <a:lnTo>
                  <a:pt x="3" y="3937"/>
                </a:lnTo>
                <a:lnTo>
                  <a:pt x="6" y="3919"/>
                </a:lnTo>
                <a:lnTo>
                  <a:pt x="9" y="3898"/>
                </a:lnTo>
                <a:lnTo>
                  <a:pt x="13" y="3878"/>
                </a:lnTo>
                <a:lnTo>
                  <a:pt x="18" y="3856"/>
                </a:lnTo>
                <a:lnTo>
                  <a:pt x="23" y="3835"/>
                </a:lnTo>
                <a:lnTo>
                  <a:pt x="29" y="3813"/>
                </a:lnTo>
                <a:lnTo>
                  <a:pt x="36" y="3790"/>
                </a:lnTo>
                <a:lnTo>
                  <a:pt x="44" y="3767"/>
                </a:lnTo>
                <a:lnTo>
                  <a:pt x="52" y="3744"/>
                </a:lnTo>
                <a:lnTo>
                  <a:pt x="62" y="3719"/>
                </a:lnTo>
                <a:lnTo>
                  <a:pt x="71" y="3695"/>
                </a:lnTo>
                <a:lnTo>
                  <a:pt x="82" y="3669"/>
                </a:lnTo>
                <a:lnTo>
                  <a:pt x="94" y="3644"/>
                </a:lnTo>
                <a:lnTo>
                  <a:pt x="105" y="3617"/>
                </a:lnTo>
                <a:lnTo>
                  <a:pt x="118" y="3591"/>
                </a:lnTo>
                <a:lnTo>
                  <a:pt x="132" y="3564"/>
                </a:lnTo>
                <a:lnTo>
                  <a:pt x="146" y="3536"/>
                </a:lnTo>
                <a:lnTo>
                  <a:pt x="161" y="3509"/>
                </a:lnTo>
                <a:lnTo>
                  <a:pt x="177" y="3481"/>
                </a:lnTo>
                <a:lnTo>
                  <a:pt x="193" y="3452"/>
                </a:lnTo>
                <a:lnTo>
                  <a:pt x="211" y="3423"/>
                </a:lnTo>
                <a:lnTo>
                  <a:pt x="228" y="3394"/>
                </a:lnTo>
                <a:lnTo>
                  <a:pt x="247" y="3364"/>
                </a:lnTo>
                <a:lnTo>
                  <a:pt x="266" y="3333"/>
                </a:lnTo>
                <a:lnTo>
                  <a:pt x="285" y="3302"/>
                </a:lnTo>
                <a:lnTo>
                  <a:pt x="306" y="3271"/>
                </a:lnTo>
                <a:lnTo>
                  <a:pt x="328" y="3240"/>
                </a:lnTo>
                <a:lnTo>
                  <a:pt x="350" y="3208"/>
                </a:lnTo>
                <a:lnTo>
                  <a:pt x="371" y="3176"/>
                </a:lnTo>
                <a:lnTo>
                  <a:pt x="395" y="3144"/>
                </a:lnTo>
                <a:lnTo>
                  <a:pt x="419" y="3111"/>
                </a:lnTo>
                <a:lnTo>
                  <a:pt x="443" y="3078"/>
                </a:lnTo>
                <a:lnTo>
                  <a:pt x="468" y="3045"/>
                </a:lnTo>
                <a:lnTo>
                  <a:pt x="494" y="3012"/>
                </a:lnTo>
                <a:lnTo>
                  <a:pt x="520" y="2977"/>
                </a:lnTo>
                <a:lnTo>
                  <a:pt x="546" y="2943"/>
                </a:lnTo>
                <a:lnTo>
                  <a:pt x="574" y="2909"/>
                </a:lnTo>
                <a:lnTo>
                  <a:pt x="602" y="2875"/>
                </a:lnTo>
                <a:lnTo>
                  <a:pt x="631" y="2840"/>
                </a:lnTo>
                <a:lnTo>
                  <a:pt x="660" y="2804"/>
                </a:lnTo>
                <a:lnTo>
                  <a:pt x="689" y="2769"/>
                </a:lnTo>
                <a:lnTo>
                  <a:pt x="721" y="2734"/>
                </a:lnTo>
                <a:lnTo>
                  <a:pt x="751" y="2698"/>
                </a:lnTo>
                <a:lnTo>
                  <a:pt x="783" y="2663"/>
                </a:lnTo>
                <a:lnTo>
                  <a:pt x="814" y="2626"/>
                </a:lnTo>
                <a:lnTo>
                  <a:pt x="847" y="2590"/>
                </a:lnTo>
                <a:lnTo>
                  <a:pt x="879" y="2554"/>
                </a:lnTo>
                <a:lnTo>
                  <a:pt x="912" y="2518"/>
                </a:lnTo>
                <a:lnTo>
                  <a:pt x="946" y="2481"/>
                </a:lnTo>
                <a:lnTo>
                  <a:pt x="981" y="2444"/>
                </a:lnTo>
                <a:lnTo>
                  <a:pt x="1016" y="2408"/>
                </a:lnTo>
                <a:lnTo>
                  <a:pt x="1051" y="2371"/>
                </a:lnTo>
                <a:lnTo>
                  <a:pt x="1086" y="2334"/>
                </a:lnTo>
                <a:lnTo>
                  <a:pt x="1123" y="2297"/>
                </a:lnTo>
                <a:lnTo>
                  <a:pt x="1159" y="2260"/>
                </a:lnTo>
                <a:lnTo>
                  <a:pt x="1196" y="2223"/>
                </a:lnTo>
                <a:lnTo>
                  <a:pt x="1233" y="2185"/>
                </a:lnTo>
                <a:lnTo>
                  <a:pt x="1271" y="2149"/>
                </a:lnTo>
                <a:lnTo>
                  <a:pt x="1309" y="2112"/>
                </a:lnTo>
                <a:lnTo>
                  <a:pt x="1347" y="2075"/>
                </a:lnTo>
                <a:lnTo>
                  <a:pt x="1386" y="2037"/>
                </a:lnTo>
                <a:lnTo>
                  <a:pt x="1425" y="2000"/>
                </a:lnTo>
                <a:lnTo>
                  <a:pt x="1465" y="1963"/>
                </a:lnTo>
                <a:lnTo>
                  <a:pt x="1504" y="1927"/>
                </a:lnTo>
                <a:lnTo>
                  <a:pt x="1544" y="1889"/>
                </a:lnTo>
                <a:lnTo>
                  <a:pt x="1585" y="1852"/>
                </a:lnTo>
                <a:lnTo>
                  <a:pt x="1625" y="1816"/>
                </a:lnTo>
                <a:lnTo>
                  <a:pt x="1666" y="1778"/>
                </a:lnTo>
                <a:lnTo>
                  <a:pt x="1707" y="1742"/>
                </a:lnTo>
                <a:lnTo>
                  <a:pt x="1748" y="1706"/>
                </a:lnTo>
                <a:lnTo>
                  <a:pt x="1790" y="1670"/>
                </a:lnTo>
                <a:lnTo>
                  <a:pt x="1831" y="1634"/>
                </a:lnTo>
                <a:lnTo>
                  <a:pt x="1874" y="1597"/>
                </a:lnTo>
                <a:lnTo>
                  <a:pt x="1915" y="1561"/>
                </a:lnTo>
                <a:lnTo>
                  <a:pt x="1958" y="1526"/>
                </a:lnTo>
                <a:lnTo>
                  <a:pt x="2000" y="1491"/>
                </a:lnTo>
                <a:lnTo>
                  <a:pt x="2043" y="1454"/>
                </a:lnTo>
                <a:lnTo>
                  <a:pt x="2086" y="1419"/>
                </a:lnTo>
                <a:lnTo>
                  <a:pt x="2129" y="1385"/>
                </a:lnTo>
                <a:lnTo>
                  <a:pt x="2171" y="1350"/>
                </a:lnTo>
                <a:lnTo>
                  <a:pt x="2215" y="1316"/>
                </a:lnTo>
                <a:lnTo>
                  <a:pt x="2258" y="1281"/>
                </a:lnTo>
                <a:lnTo>
                  <a:pt x="2301" y="1247"/>
                </a:lnTo>
                <a:lnTo>
                  <a:pt x="2344" y="1213"/>
                </a:lnTo>
                <a:lnTo>
                  <a:pt x="2388" y="1180"/>
                </a:lnTo>
                <a:lnTo>
                  <a:pt x="2431" y="1147"/>
                </a:lnTo>
                <a:lnTo>
                  <a:pt x="2474" y="1115"/>
                </a:lnTo>
                <a:lnTo>
                  <a:pt x="2517" y="1082"/>
                </a:lnTo>
                <a:lnTo>
                  <a:pt x="2561" y="1050"/>
                </a:lnTo>
                <a:lnTo>
                  <a:pt x="2604" y="1017"/>
                </a:lnTo>
                <a:lnTo>
                  <a:pt x="2648" y="986"/>
                </a:lnTo>
                <a:lnTo>
                  <a:pt x="2690" y="955"/>
                </a:lnTo>
                <a:lnTo>
                  <a:pt x="2734" y="924"/>
                </a:lnTo>
                <a:lnTo>
                  <a:pt x="2776" y="893"/>
                </a:lnTo>
                <a:lnTo>
                  <a:pt x="2820" y="863"/>
                </a:lnTo>
                <a:lnTo>
                  <a:pt x="2862" y="834"/>
                </a:lnTo>
                <a:lnTo>
                  <a:pt x="2906" y="804"/>
                </a:lnTo>
                <a:lnTo>
                  <a:pt x="2948" y="775"/>
                </a:lnTo>
                <a:lnTo>
                  <a:pt x="2991" y="747"/>
                </a:lnTo>
                <a:lnTo>
                  <a:pt x="3033" y="719"/>
                </a:lnTo>
                <a:lnTo>
                  <a:pt x="3075" y="691"/>
                </a:lnTo>
                <a:lnTo>
                  <a:pt x="3117" y="664"/>
                </a:lnTo>
                <a:lnTo>
                  <a:pt x="3159" y="638"/>
                </a:lnTo>
                <a:lnTo>
                  <a:pt x="3200" y="612"/>
                </a:lnTo>
                <a:lnTo>
                  <a:pt x="3242" y="586"/>
                </a:lnTo>
                <a:lnTo>
                  <a:pt x="3283" y="560"/>
                </a:lnTo>
                <a:lnTo>
                  <a:pt x="3323" y="535"/>
                </a:lnTo>
                <a:lnTo>
                  <a:pt x="3364" y="511"/>
                </a:lnTo>
                <a:lnTo>
                  <a:pt x="3404" y="486"/>
                </a:lnTo>
                <a:lnTo>
                  <a:pt x="3445" y="464"/>
                </a:lnTo>
                <a:lnTo>
                  <a:pt x="3484" y="441"/>
                </a:lnTo>
                <a:lnTo>
                  <a:pt x="3523" y="418"/>
                </a:lnTo>
                <a:lnTo>
                  <a:pt x="3563" y="396"/>
                </a:lnTo>
                <a:lnTo>
                  <a:pt x="3601" y="375"/>
                </a:lnTo>
                <a:lnTo>
                  <a:pt x="3641" y="354"/>
                </a:lnTo>
                <a:lnTo>
                  <a:pt x="3678" y="334"/>
                </a:lnTo>
                <a:lnTo>
                  <a:pt x="3716" y="314"/>
                </a:lnTo>
                <a:lnTo>
                  <a:pt x="3753" y="295"/>
                </a:lnTo>
                <a:lnTo>
                  <a:pt x="3790" y="276"/>
                </a:lnTo>
                <a:lnTo>
                  <a:pt x="3827" y="259"/>
                </a:lnTo>
                <a:lnTo>
                  <a:pt x="3863" y="241"/>
                </a:lnTo>
                <a:lnTo>
                  <a:pt x="3899" y="224"/>
                </a:lnTo>
                <a:lnTo>
                  <a:pt x="3934" y="208"/>
                </a:lnTo>
                <a:lnTo>
                  <a:pt x="3969" y="192"/>
                </a:lnTo>
                <a:lnTo>
                  <a:pt x="4003" y="177"/>
                </a:lnTo>
                <a:lnTo>
                  <a:pt x="4036" y="162"/>
                </a:lnTo>
                <a:lnTo>
                  <a:pt x="4071" y="148"/>
                </a:lnTo>
                <a:lnTo>
                  <a:pt x="4104" y="135"/>
                </a:lnTo>
                <a:lnTo>
                  <a:pt x="4136" y="122"/>
                </a:lnTo>
                <a:lnTo>
                  <a:pt x="4168" y="111"/>
                </a:lnTo>
                <a:lnTo>
                  <a:pt x="4199" y="99"/>
                </a:lnTo>
                <a:lnTo>
                  <a:pt x="4230" y="88"/>
                </a:lnTo>
                <a:lnTo>
                  <a:pt x="4260" y="77"/>
                </a:lnTo>
                <a:lnTo>
                  <a:pt x="4290" y="68"/>
                </a:lnTo>
                <a:lnTo>
                  <a:pt x="4319" y="59"/>
                </a:lnTo>
                <a:lnTo>
                  <a:pt x="4348" y="50"/>
                </a:lnTo>
                <a:lnTo>
                  <a:pt x="4376" y="43"/>
                </a:lnTo>
                <a:lnTo>
                  <a:pt x="4403" y="36"/>
                </a:lnTo>
                <a:lnTo>
                  <a:pt x="4430" y="29"/>
                </a:lnTo>
                <a:lnTo>
                  <a:pt x="4457" y="24"/>
                </a:lnTo>
                <a:lnTo>
                  <a:pt x="4483" y="18"/>
                </a:lnTo>
                <a:lnTo>
                  <a:pt x="4508" y="13"/>
                </a:lnTo>
                <a:lnTo>
                  <a:pt x="4532" y="10"/>
                </a:lnTo>
                <a:lnTo>
                  <a:pt x="4557" y="7"/>
                </a:lnTo>
                <a:lnTo>
                  <a:pt x="4579" y="4"/>
                </a:lnTo>
                <a:lnTo>
                  <a:pt x="4602" y="2"/>
                </a:lnTo>
                <a:lnTo>
                  <a:pt x="4624" y="1"/>
                </a:lnTo>
                <a:lnTo>
                  <a:pt x="4645" y="0"/>
                </a:lnTo>
                <a:lnTo>
                  <a:pt x="4665" y="0"/>
                </a:lnTo>
                <a:lnTo>
                  <a:pt x="4686" y="1"/>
                </a:lnTo>
                <a:lnTo>
                  <a:pt x="4705" y="2"/>
                </a:lnTo>
                <a:lnTo>
                  <a:pt x="4723" y="4"/>
                </a:lnTo>
                <a:lnTo>
                  <a:pt x="4741" y="7"/>
                </a:lnTo>
                <a:lnTo>
                  <a:pt x="4759" y="10"/>
                </a:lnTo>
                <a:lnTo>
                  <a:pt x="4775" y="14"/>
                </a:lnTo>
                <a:lnTo>
                  <a:pt x="4791" y="18"/>
                </a:lnTo>
                <a:lnTo>
                  <a:pt x="4806" y="24"/>
                </a:lnTo>
                <a:lnTo>
                  <a:pt x="4821" y="30"/>
                </a:lnTo>
                <a:lnTo>
                  <a:pt x="4834" y="36"/>
                </a:lnTo>
                <a:lnTo>
                  <a:pt x="4847" y="43"/>
                </a:lnTo>
                <a:lnTo>
                  <a:pt x="4859" y="50"/>
                </a:lnTo>
                <a:lnTo>
                  <a:pt x="4870" y="59"/>
                </a:lnTo>
                <a:lnTo>
                  <a:pt x="4881" y="68"/>
                </a:lnTo>
                <a:lnTo>
                  <a:pt x="4891" y="77"/>
                </a:lnTo>
                <a:lnTo>
                  <a:pt x="4901" y="88"/>
                </a:lnTo>
                <a:close/>
              </a:path>
            </a:pathLst>
          </a:custGeom>
          <a:solidFill>
            <a:srgbClr val="b2b2b2"/>
          </a:solidFill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05200" y="4133880"/>
            <a:ext cx="1573200" cy="1346040"/>
          </a:xfrm>
          <a:custGeom>
            <a:avLst/>
            <a:gdLst/>
            <a:ahLst/>
            <a:rect l="l" t="t" r="r" b="b"/>
            <a:pathLst>
              <a:path w="4953" h="4243">
                <a:moveTo>
                  <a:pt x="4900" y="88"/>
                </a:moveTo>
                <a:lnTo>
                  <a:pt x="4909" y="99"/>
                </a:lnTo>
                <a:lnTo>
                  <a:pt x="4917" y="111"/>
                </a:lnTo>
                <a:lnTo>
                  <a:pt x="4923" y="123"/>
                </a:lnTo>
                <a:lnTo>
                  <a:pt x="4929" y="136"/>
                </a:lnTo>
                <a:lnTo>
                  <a:pt x="4935" y="149"/>
                </a:lnTo>
                <a:lnTo>
                  <a:pt x="4940" y="163"/>
                </a:lnTo>
                <a:lnTo>
                  <a:pt x="4944" y="178"/>
                </a:lnTo>
                <a:lnTo>
                  <a:pt x="4947" y="193"/>
                </a:lnTo>
                <a:lnTo>
                  <a:pt x="4950" y="209"/>
                </a:lnTo>
                <a:lnTo>
                  <a:pt x="4951" y="225"/>
                </a:lnTo>
                <a:lnTo>
                  <a:pt x="4952" y="242"/>
                </a:lnTo>
                <a:lnTo>
                  <a:pt x="4953" y="259"/>
                </a:lnTo>
                <a:lnTo>
                  <a:pt x="4952" y="277"/>
                </a:lnTo>
                <a:lnTo>
                  <a:pt x="4951" y="296"/>
                </a:lnTo>
                <a:lnTo>
                  <a:pt x="4949" y="315"/>
                </a:lnTo>
                <a:lnTo>
                  <a:pt x="4946" y="335"/>
                </a:lnTo>
                <a:lnTo>
                  <a:pt x="4943" y="355"/>
                </a:lnTo>
                <a:lnTo>
                  <a:pt x="4939" y="375"/>
                </a:lnTo>
                <a:lnTo>
                  <a:pt x="4933" y="397"/>
                </a:lnTo>
                <a:lnTo>
                  <a:pt x="4927" y="419"/>
                </a:lnTo>
                <a:lnTo>
                  <a:pt x="4921" y="442"/>
                </a:lnTo>
                <a:lnTo>
                  <a:pt x="4914" y="464"/>
                </a:lnTo>
                <a:lnTo>
                  <a:pt x="4905" y="488"/>
                </a:lnTo>
                <a:lnTo>
                  <a:pt x="4897" y="512"/>
                </a:lnTo>
                <a:lnTo>
                  <a:pt x="4887" y="536"/>
                </a:lnTo>
                <a:lnTo>
                  <a:pt x="4876" y="561"/>
                </a:lnTo>
                <a:lnTo>
                  <a:pt x="4866" y="586"/>
                </a:lnTo>
                <a:lnTo>
                  <a:pt x="4854" y="612"/>
                </a:lnTo>
                <a:lnTo>
                  <a:pt x="4841" y="638"/>
                </a:lnTo>
                <a:lnTo>
                  <a:pt x="4829" y="665"/>
                </a:lnTo>
                <a:lnTo>
                  <a:pt x="4814" y="692"/>
                </a:lnTo>
                <a:lnTo>
                  <a:pt x="4800" y="720"/>
                </a:lnTo>
                <a:lnTo>
                  <a:pt x="4784" y="748"/>
                </a:lnTo>
                <a:lnTo>
                  <a:pt x="4769" y="777"/>
                </a:lnTo>
                <a:lnTo>
                  <a:pt x="4752" y="806"/>
                </a:lnTo>
                <a:lnTo>
                  <a:pt x="4734" y="835"/>
                </a:lnTo>
                <a:lnTo>
                  <a:pt x="4716" y="865"/>
                </a:lnTo>
                <a:lnTo>
                  <a:pt x="4697" y="895"/>
                </a:lnTo>
                <a:lnTo>
                  <a:pt x="4677" y="925"/>
                </a:lnTo>
                <a:lnTo>
                  <a:pt x="4658" y="956"/>
                </a:lnTo>
                <a:lnTo>
                  <a:pt x="4637" y="987"/>
                </a:lnTo>
                <a:lnTo>
                  <a:pt x="4615" y="1019"/>
                </a:lnTo>
                <a:lnTo>
                  <a:pt x="4593" y="1050"/>
                </a:lnTo>
                <a:lnTo>
                  <a:pt x="4570" y="1082"/>
                </a:lnTo>
                <a:lnTo>
                  <a:pt x="4547" y="1116"/>
                </a:lnTo>
                <a:lnTo>
                  <a:pt x="4522" y="1149"/>
                </a:lnTo>
                <a:lnTo>
                  <a:pt x="4498" y="1182"/>
                </a:lnTo>
                <a:lnTo>
                  <a:pt x="4472" y="1215"/>
                </a:lnTo>
                <a:lnTo>
                  <a:pt x="4446" y="1248"/>
                </a:lnTo>
                <a:lnTo>
                  <a:pt x="4419" y="1282"/>
                </a:lnTo>
                <a:lnTo>
                  <a:pt x="4393" y="1316"/>
                </a:lnTo>
                <a:lnTo>
                  <a:pt x="4366" y="1352"/>
                </a:lnTo>
                <a:lnTo>
                  <a:pt x="4337" y="1386"/>
                </a:lnTo>
                <a:lnTo>
                  <a:pt x="4308" y="1421"/>
                </a:lnTo>
                <a:lnTo>
                  <a:pt x="4279" y="1456"/>
                </a:lnTo>
                <a:lnTo>
                  <a:pt x="4248" y="1491"/>
                </a:lnTo>
                <a:lnTo>
                  <a:pt x="4217" y="1527"/>
                </a:lnTo>
                <a:lnTo>
                  <a:pt x="4186" y="1563"/>
                </a:lnTo>
                <a:lnTo>
                  <a:pt x="4155" y="1598"/>
                </a:lnTo>
                <a:lnTo>
                  <a:pt x="4123" y="1634"/>
                </a:lnTo>
                <a:lnTo>
                  <a:pt x="4090" y="1671"/>
                </a:lnTo>
                <a:lnTo>
                  <a:pt x="4058" y="1707"/>
                </a:lnTo>
                <a:lnTo>
                  <a:pt x="4024" y="1744"/>
                </a:lnTo>
                <a:lnTo>
                  <a:pt x="3989" y="1780"/>
                </a:lnTo>
                <a:lnTo>
                  <a:pt x="3955" y="1816"/>
                </a:lnTo>
                <a:lnTo>
                  <a:pt x="3920" y="1854"/>
                </a:lnTo>
                <a:lnTo>
                  <a:pt x="3885" y="1890"/>
                </a:lnTo>
                <a:lnTo>
                  <a:pt x="3849" y="1927"/>
                </a:lnTo>
                <a:lnTo>
                  <a:pt x="3812" y="1965"/>
                </a:lnTo>
                <a:lnTo>
                  <a:pt x="3776" y="2002"/>
                </a:lnTo>
                <a:lnTo>
                  <a:pt x="3739" y="2039"/>
                </a:lnTo>
                <a:lnTo>
                  <a:pt x="3701" y="2075"/>
                </a:lnTo>
                <a:lnTo>
                  <a:pt x="3663" y="2113"/>
                </a:lnTo>
                <a:lnTo>
                  <a:pt x="3625" y="2150"/>
                </a:lnTo>
                <a:lnTo>
                  <a:pt x="3586" y="2187"/>
                </a:lnTo>
                <a:lnTo>
                  <a:pt x="3548" y="2224"/>
                </a:lnTo>
                <a:lnTo>
                  <a:pt x="3509" y="2262"/>
                </a:lnTo>
                <a:lnTo>
                  <a:pt x="3469" y="2298"/>
                </a:lnTo>
                <a:lnTo>
                  <a:pt x="3429" y="2335"/>
                </a:lnTo>
                <a:lnTo>
                  <a:pt x="3388" y="2372"/>
                </a:lnTo>
                <a:lnTo>
                  <a:pt x="3348" y="2409"/>
                </a:lnTo>
                <a:lnTo>
                  <a:pt x="3308" y="2446"/>
                </a:lnTo>
                <a:lnTo>
                  <a:pt x="3267" y="2482"/>
                </a:lnTo>
                <a:lnTo>
                  <a:pt x="3226" y="2518"/>
                </a:lnTo>
                <a:lnTo>
                  <a:pt x="3184" y="2556"/>
                </a:lnTo>
                <a:lnTo>
                  <a:pt x="3143" y="2592"/>
                </a:lnTo>
                <a:lnTo>
                  <a:pt x="3100" y="2627"/>
                </a:lnTo>
                <a:lnTo>
                  <a:pt x="3059" y="2663"/>
                </a:lnTo>
                <a:lnTo>
                  <a:pt x="3016" y="2700"/>
                </a:lnTo>
                <a:lnTo>
                  <a:pt x="2974" y="2735"/>
                </a:lnTo>
                <a:lnTo>
                  <a:pt x="2931" y="2770"/>
                </a:lnTo>
                <a:lnTo>
                  <a:pt x="2889" y="2805"/>
                </a:lnTo>
                <a:lnTo>
                  <a:pt x="2847" y="2840"/>
                </a:lnTo>
                <a:lnTo>
                  <a:pt x="2803" y="2876"/>
                </a:lnTo>
                <a:lnTo>
                  <a:pt x="2761" y="2910"/>
                </a:lnTo>
                <a:lnTo>
                  <a:pt x="2717" y="2945"/>
                </a:lnTo>
                <a:lnTo>
                  <a:pt x="2673" y="2978"/>
                </a:lnTo>
                <a:lnTo>
                  <a:pt x="2631" y="3012"/>
                </a:lnTo>
                <a:lnTo>
                  <a:pt x="2587" y="3046"/>
                </a:lnTo>
                <a:lnTo>
                  <a:pt x="2544" y="3080"/>
                </a:lnTo>
                <a:lnTo>
                  <a:pt x="2500" y="3113"/>
                </a:lnTo>
                <a:lnTo>
                  <a:pt x="2458" y="3145"/>
                </a:lnTo>
                <a:lnTo>
                  <a:pt x="2414" y="3177"/>
                </a:lnTo>
                <a:lnTo>
                  <a:pt x="2371" y="3209"/>
                </a:lnTo>
                <a:lnTo>
                  <a:pt x="2327" y="3241"/>
                </a:lnTo>
                <a:lnTo>
                  <a:pt x="2284" y="3272"/>
                </a:lnTo>
                <a:lnTo>
                  <a:pt x="2241" y="3303"/>
                </a:lnTo>
                <a:lnTo>
                  <a:pt x="2198" y="3334"/>
                </a:lnTo>
                <a:lnTo>
                  <a:pt x="2155" y="3364"/>
                </a:lnTo>
                <a:lnTo>
                  <a:pt x="2112" y="3394"/>
                </a:lnTo>
                <a:lnTo>
                  <a:pt x="2069" y="3423"/>
                </a:lnTo>
                <a:lnTo>
                  <a:pt x="2027" y="3452"/>
                </a:lnTo>
                <a:lnTo>
                  <a:pt x="1984" y="3481"/>
                </a:lnTo>
                <a:lnTo>
                  <a:pt x="1942" y="3510"/>
                </a:lnTo>
                <a:lnTo>
                  <a:pt x="1899" y="3537"/>
                </a:lnTo>
                <a:lnTo>
                  <a:pt x="1857" y="3565"/>
                </a:lnTo>
                <a:lnTo>
                  <a:pt x="1816" y="3592"/>
                </a:lnTo>
                <a:lnTo>
                  <a:pt x="1774" y="3619"/>
                </a:lnTo>
                <a:lnTo>
                  <a:pt x="1733" y="3645"/>
                </a:lnTo>
                <a:lnTo>
                  <a:pt x="1691" y="3671"/>
                </a:lnTo>
                <a:lnTo>
                  <a:pt x="1650" y="3696"/>
                </a:lnTo>
                <a:lnTo>
                  <a:pt x="1609" y="3720"/>
                </a:lnTo>
                <a:lnTo>
                  <a:pt x="1569" y="3744"/>
                </a:lnTo>
                <a:lnTo>
                  <a:pt x="1528" y="3768"/>
                </a:lnTo>
                <a:lnTo>
                  <a:pt x="1489" y="3791"/>
                </a:lnTo>
                <a:lnTo>
                  <a:pt x="1450" y="3814"/>
                </a:lnTo>
                <a:lnTo>
                  <a:pt x="1410" y="3835"/>
                </a:lnTo>
                <a:lnTo>
                  <a:pt x="1371" y="3857"/>
                </a:lnTo>
                <a:lnTo>
                  <a:pt x="1333" y="3879"/>
                </a:lnTo>
                <a:lnTo>
                  <a:pt x="1294" y="3899"/>
                </a:lnTo>
                <a:lnTo>
                  <a:pt x="1256" y="3919"/>
                </a:lnTo>
                <a:lnTo>
                  <a:pt x="1219" y="3939"/>
                </a:lnTo>
                <a:lnTo>
                  <a:pt x="1181" y="3958"/>
                </a:lnTo>
                <a:lnTo>
                  <a:pt x="1145" y="3975"/>
                </a:lnTo>
                <a:lnTo>
                  <a:pt x="1109" y="3994"/>
                </a:lnTo>
                <a:lnTo>
                  <a:pt x="1073" y="4010"/>
                </a:lnTo>
                <a:lnTo>
                  <a:pt x="1037" y="4027"/>
                </a:lnTo>
                <a:lnTo>
                  <a:pt x="1002" y="4044"/>
                </a:lnTo>
                <a:lnTo>
                  <a:pt x="968" y="4059"/>
                </a:lnTo>
                <a:lnTo>
                  <a:pt x="934" y="4074"/>
                </a:lnTo>
                <a:lnTo>
                  <a:pt x="900" y="4088"/>
                </a:lnTo>
                <a:lnTo>
                  <a:pt x="866" y="4101"/>
                </a:lnTo>
                <a:lnTo>
                  <a:pt x="834" y="4114"/>
                </a:lnTo>
                <a:lnTo>
                  <a:pt x="802" y="4126"/>
                </a:lnTo>
                <a:lnTo>
                  <a:pt x="770" y="4139"/>
                </a:lnTo>
                <a:lnTo>
                  <a:pt x="739" y="4150"/>
                </a:lnTo>
                <a:lnTo>
                  <a:pt x="708" y="4160"/>
                </a:lnTo>
                <a:lnTo>
                  <a:pt x="678" y="4170"/>
                </a:lnTo>
                <a:lnTo>
                  <a:pt x="649" y="4179"/>
                </a:lnTo>
                <a:lnTo>
                  <a:pt x="620" y="4188"/>
                </a:lnTo>
                <a:lnTo>
                  <a:pt x="592" y="4197"/>
                </a:lnTo>
                <a:lnTo>
                  <a:pt x="564" y="4204"/>
                </a:lnTo>
                <a:lnTo>
                  <a:pt x="536" y="4210"/>
                </a:lnTo>
                <a:lnTo>
                  <a:pt x="510" y="4216"/>
                </a:lnTo>
                <a:lnTo>
                  <a:pt x="484" y="4223"/>
                </a:lnTo>
                <a:lnTo>
                  <a:pt x="458" y="4227"/>
                </a:lnTo>
                <a:lnTo>
                  <a:pt x="433" y="4231"/>
                </a:lnTo>
                <a:lnTo>
                  <a:pt x="409" y="4235"/>
                </a:lnTo>
                <a:lnTo>
                  <a:pt x="386" y="4238"/>
                </a:lnTo>
                <a:lnTo>
                  <a:pt x="363" y="4240"/>
                </a:lnTo>
                <a:lnTo>
                  <a:pt x="340" y="4241"/>
                </a:lnTo>
                <a:lnTo>
                  <a:pt x="319" y="4242"/>
                </a:lnTo>
                <a:lnTo>
                  <a:pt x="297" y="4243"/>
                </a:lnTo>
                <a:lnTo>
                  <a:pt x="278" y="4242"/>
                </a:lnTo>
                <a:lnTo>
                  <a:pt x="258" y="4241"/>
                </a:lnTo>
                <a:lnTo>
                  <a:pt x="239" y="4240"/>
                </a:lnTo>
                <a:lnTo>
                  <a:pt x="221" y="4238"/>
                </a:lnTo>
                <a:lnTo>
                  <a:pt x="203" y="4235"/>
                </a:lnTo>
                <a:lnTo>
                  <a:pt x="187" y="4231"/>
                </a:lnTo>
                <a:lnTo>
                  <a:pt x="170" y="4227"/>
                </a:lnTo>
                <a:lnTo>
                  <a:pt x="154" y="4222"/>
                </a:lnTo>
                <a:lnTo>
                  <a:pt x="140" y="4216"/>
                </a:lnTo>
                <a:lnTo>
                  <a:pt x="126" y="4210"/>
                </a:lnTo>
                <a:lnTo>
                  <a:pt x="113" y="4204"/>
                </a:lnTo>
                <a:lnTo>
                  <a:pt x="101" y="4196"/>
                </a:lnTo>
                <a:lnTo>
                  <a:pt x="88" y="4188"/>
                </a:lnTo>
                <a:lnTo>
                  <a:pt x="78" y="4179"/>
                </a:lnTo>
                <a:lnTo>
                  <a:pt x="67" y="4170"/>
                </a:lnTo>
                <a:lnTo>
                  <a:pt x="57" y="4160"/>
                </a:lnTo>
                <a:lnTo>
                  <a:pt x="49" y="4149"/>
                </a:lnTo>
                <a:lnTo>
                  <a:pt x="40" y="4139"/>
                </a:lnTo>
                <a:lnTo>
                  <a:pt x="33" y="4126"/>
                </a:lnTo>
                <a:lnTo>
                  <a:pt x="26" y="4114"/>
                </a:lnTo>
                <a:lnTo>
                  <a:pt x="21" y="4101"/>
                </a:lnTo>
                <a:lnTo>
                  <a:pt x="16" y="4087"/>
                </a:lnTo>
                <a:lnTo>
                  <a:pt x="10" y="4074"/>
                </a:lnTo>
                <a:lnTo>
                  <a:pt x="7" y="4058"/>
                </a:lnTo>
                <a:lnTo>
                  <a:pt x="4" y="4042"/>
                </a:lnTo>
                <a:lnTo>
                  <a:pt x="2" y="4027"/>
                </a:lnTo>
                <a:lnTo>
                  <a:pt x="1" y="4010"/>
                </a:lnTo>
                <a:lnTo>
                  <a:pt x="0" y="3993"/>
                </a:lnTo>
                <a:lnTo>
                  <a:pt x="0" y="3975"/>
                </a:lnTo>
                <a:lnTo>
                  <a:pt x="1" y="3957"/>
                </a:lnTo>
                <a:lnTo>
                  <a:pt x="3" y="3938"/>
                </a:lnTo>
                <a:lnTo>
                  <a:pt x="5" y="3918"/>
                </a:lnTo>
                <a:lnTo>
                  <a:pt x="8" y="3899"/>
                </a:lnTo>
                <a:lnTo>
                  <a:pt x="13" y="3878"/>
                </a:lnTo>
                <a:lnTo>
                  <a:pt x="17" y="3857"/>
                </a:lnTo>
                <a:lnTo>
                  <a:pt x="23" y="3835"/>
                </a:lnTo>
                <a:lnTo>
                  <a:pt x="29" y="3814"/>
                </a:lnTo>
                <a:lnTo>
                  <a:pt x="35" y="3791"/>
                </a:lnTo>
                <a:lnTo>
                  <a:pt x="44" y="3767"/>
                </a:lnTo>
                <a:lnTo>
                  <a:pt x="52" y="3743"/>
                </a:lnTo>
                <a:lnTo>
                  <a:pt x="61" y="3719"/>
                </a:lnTo>
                <a:lnTo>
                  <a:pt x="71" y="3695"/>
                </a:lnTo>
                <a:lnTo>
                  <a:pt x="82" y="3670"/>
                </a:lnTo>
                <a:lnTo>
                  <a:pt x="92" y="3644"/>
                </a:lnTo>
                <a:lnTo>
                  <a:pt x="105" y="3618"/>
                </a:lnTo>
                <a:lnTo>
                  <a:pt x="118" y="3591"/>
                </a:lnTo>
                <a:lnTo>
                  <a:pt x="132" y="3564"/>
                </a:lnTo>
                <a:lnTo>
                  <a:pt x="145" y="3537"/>
                </a:lnTo>
                <a:lnTo>
                  <a:pt x="161" y="3509"/>
                </a:lnTo>
                <a:lnTo>
                  <a:pt x="176" y="3481"/>
                </a:lnTo>
                <a:lnTo>
                  <a:pt x="193" y="3452"/>
                </a:lnTo>
                <a:lnTo>
                  <a:pt x="209" y="3423"/>
                </a:lnTo>
                <a:lnTo>
                  <a:pt x="228" y="3393"/>
                </a:lnTo>
                <a:lnTo>
                  <a:pt x="246" y="3363"/>
                </a:lnTo>
                <a:lnTo>
                  <a:pt x="265" y="3333"/>
                </a:lnTo>
                <a:lnTo>
                  <a:pt x="285" y="3302"/>
                </a:lnTo>
                <a:lnTo>
                  <a:pt x="306" y="3271"/>
                </a:lnTo>
                <a:lnTo>
                  <a:pt x="326" y="3240"/>
                </a:lnTo>
                <a:lnTo>
                  <a:pt x="348" y="3209"/>
                </a:lnTo>
                <a:lnTo>
                  <a:pt x="371" y="3177"/>
                </a:lnTo>
                <a:lnTo>
                  <a:pt x="395" y="3144"/>
                </a:lnTo>
                <a:lnTo>
                  <a:pt x="418" y="3112"/>
                </a:lnTo>
                <a:lnTo>
                  <a:pt x="443" y="3079"/>
                </a:lnTo>
                <a:lnTo>
                  <a:pt x="467" y="3045"/>
                </a:lnTo>
                <a:lnTo>
                  <a:pt x="493" y="3011"/>
                </a:lnTo>
                <a:lnTo>
                  <a:pt x="519" y="2978"/>
                </a:lnTo>
                <a:lnTo>
                  <a:pt x="546" y="2944"/>
                </a:lnTo>
                <a:lnTo>
                  <a:pt x="574" y="2910"/>
                </a:lnTo>
                <a:lnTo>
                  <a:pt x="602" y="2875"/>
                </a:lnTo>
                <a:lnTo>
                  <a:pt x="630" y="2840"/>
                </a:lnTo>
                <a:lnTo>
                  <a:pt x="660" y="2805"/>
                </a:lnTo>
                <a:lnTo>
                  <a:pt x="689" y="2770"/>
                </a:lnTo>
                <a:lnTo>
                  <a:pt x="719" y="2734"/>
                </a:lnTo>
                <a:lnTo>
                  <a:pt x="750" y="2699"/>
                </a:lnTo>
                <a:lnTo>
                  <a:pt x="781" y="2662"/>
                </a:lnTo>
                <a:lnTo>
                  <a:pt x="813" y="2627"/>
                </a:lnTo>
                <a:lnTo>
                  <a:pt x="846" y="2591"/>
                </a:lnTo>
                <a:lnTo>
                  <a:pt x="879" y="2555"/>
                </a:lnTo>
                <a:lnTo>
                  <a:pt x="912" y="2518"/>
                </a:lnTo>
                <a:lnTo>
                  <a:pt x="946" y="2481"/>
                </a:lnTo>
                <a:lnTo>
                  <a:pt x="980" y="2445"/>
                </a:lnTo>
                <a:lnTo>
                  <a:pt x="1016" y="2408"/>
                </a:lnTo>
                <a:lnTo>
                  <a:pt x="1051" y="2371"/>
                </a:lnTo>
                <a:lnTo>
                  <a:pt x="1086" y="2334"/>
                </a:lnTo>
                <a:lnTo>
                  <a:pt x="1122" y="2297"/>
                </a:lnTo>
                <a:lnTo>
                  <a:pt x="1159" y="2261"/>
                </a:lnTo>
                <a:lnTo>
                  <a:pt x="1196" y="2223"/>
                </a:lnTo>
                <a:lnTo>
                  <a:pt x="1233" y="2186"/>
                </a:lnTo>
                <a:lnTo>
                  <a:pt x="1270" y="2149"/>
                </a:lnTo>
                <a:lnTo>
                  <a:pt x="1309" y="2112"/>
                </a:lnTo>
                <a:lnTo>
                  <a:pt x="1347" y="2075"/>
                </a:lnTo>
                <a:lnTo>
                  <a:pt x="1385" y="2038"/>
                </a:lnTo>
                <a:lnTo>
                  <a:pt x="1425" y="2001"/>
                </a:lnTo>
                <a:lnTo>
                  <a:pt x="1464" y="1964"/>
                </a:lnTo>
                <a:lnTo>
                  <a:pt x="1504" y="1926"/>
                </a:lnTo>
                <a:lnTo>
                  <a:pt x="1544" y="1890"/>
                </a:lnTo>
                <a:lnTo>
                  <a:pt x="1584" y="1853"/>
                </a:lnTo>
                <a:lnTo>
                  <a:pt x="1625" y="1816"/>
                </a:lnTo>
                <a:lnTo>
                  <a:pt x="1665" y="1779"/>
                </a:lnTo>
                <a:lnTo>
                  <a:pt x="1707" y="1743"/>
                </a:lnTo>
                <a:lnTo>
                  <a:pt x="1748" y="1707"/>
                </a:lnTo>
                <a:lnTo>
                  <a:pt x="1790" y="1669"/>
                </a:lnTo>
                <a:lnTo>
                  <a:pt x="1831" y="1633"/>
                </a:lnTo>
                <a:lnTo>
                  <a:pt x="1874" y="1598"/>
                </a:lnTo>
                <a:lnTo>
                  <a:pt x="1915" y="1562"/>
                </a:lnTo>
                <a:lnTo>
                  <a:pt x="1957" y="1526"/>
                </a:lnTo>
                <a:lnTo>
                  <a:pt x="2000" y="1490"/>
                </a:lnTo>
                <a:lnTo>
                  <a:pt x="2042" y="1455"/>
                </a:lnTo>
                <a:lnTo>
                  <a:pt x="2085" y="1420"/>
                </a:lnTo>
                <a:lnTo>
                  <a:pt x="2128" y="1385"/>
                </a:lnTo>
                <a:lnTo>
                  <a:pt x="2171" y="1351"/>
                </a:lnTo>
                <a:lnTo>
                  <a:pt x="2214" y="1316"/>
                </a:lnTo>
                <a:lnTo>
                  <a:pt x="2257" y="1281"/>
                </a:lnTo>
                <a:lnTo>
                  <a:pt x="2300" y="1248"/>
                </a:lnTo>
                <a:lnTo>
                  <a:pt x="2344" y="1214"/>
                </a:lnTo>
                <a:lnTo>
                  <a:pt x="2387" y="1181"/>
                </a:lnTo>
                <a:lnTo>
                  <a:pt x="2430" y="1148"/>
                </a:lnTo>
                <a:lnTo>
                  <a:pt x="2473" y="1115"/>
                </a:lnTo>
                <a:lnTo>
                  <a:pt x="2517" y="1082"/>
                </a:lnTo>
                <a:lnTo>
                  <a:pt x="2561" y="1050"/>
                </a:lnTo>
                <a:lnTo>
                  <a:pt x="2604" y="1018"/>
                </a:lnTo>
                <a:lnTo>
                  <a:pt x="2647" y="986"/>
                </a:lnTo>
                <a:lnTo>
                  <a:pt x="2690" y="955"/>
                </a:lnTo>
                <a:lnTo>
                  <a:pt x="2734" y="925"/>
                </a:lnTo>
                <a:lnTo>
                  <a:pt x="2776" y="894"/>
                </a:lnTo>
                <a:lnTo>
                  <a:pt x="2820" y="864"/>
                </a:lnTo>
                <a:lnTo>
                  <a:pt x="2862" y="834"/>
                </a:lnTo>
                <a:lnTo>
                  <a:pt x="2905" y="805"/>
                </a:lnTo>
                <a:lnTo>
                  <a:pt x="2948" y="776"/>
                </a:lnTo>
                <a:lnTo>
                  <a:pt x="2991" y="748"/>
                </a:lnTo>
                <a:lnTo>
                  <a:pt x="3032" y="719"/>
                </a:lnTo>
                <a:lnTo>
                  <a:pt x="3074" y="692"/>
                </a:lnTo>
                <a:lnTo>
                  <a:pt x="3117" y="664"/>
                </a:lnTo>
                <a:lnTo>
                  <a:pt x="3158" y="638"/>
                </a:lnTo>
                <a:lnTo>
                  <a:pt x="3200" y="611"/>
                </a:lnTo>
                <a:lnTo>
                  <a:pt x="3241" y="585"/>
                </a:lnTo>
                <a:lnTo>
                  <a:pt x="3282" y="561"/>
                </a:lnTo>
                <a:lnTo>
                  <a:pt x="3323" y="536"/>
                </a:lnTo>
                <a:lnTo>
                  <a:pt x="3364" y="511"/>
                </a:lnTo>
                <a:lnTo>
                  <a:pt x="3404" y="487"/>
                </a:lnTo>
                <a:lnTo>
                  <a:pt x="3444" y="463"/>
                </a:lnTo>
                <a:lnTo>
                  <a:pt x="3484" y="441"/>
                </a:lnTo>
                <a:lnTo>
                  <a:pt x="3523" y="419"/>
                </a:lnTo>
                <a:lnTo>
                  <a:pt x="3563" y="397"/>
                </a:lnTo>
                <a:lnTo>
                  <a:pt x="3601" y="375"/>
                </a:lnTo>
                <a:lnTo>
                  <a:pt x="3639" y="355"/>
                </a:lnTo>
                <a:lnTo>
                  <a:pt x="3678" y="334"/>
                </a:lnTo>
                <a:lnTo>
                  <a:pt x="3716" y="314"/>
                </a:lnTo>
                <a:lnTo>
                  <a:pt x="3753" y="296"/>
                </a:lnTo>
                <a:lnTo>
                  <a:pt x="3789" y="277"/>
                </a:lnTo>
                <a:lnTo>
                  <a:pt x="3826" y="258"/>
                </a:lnTo>
                <a:lnTo>
                  <a:pt x="3862" y="241"/>
                </a:lnTo>
                <a:lnTo>
                  <a:pt x="3898" y="224"/>
                </a:lnTo>
                <a:lnTo>
                  <a:pt x="3933" y="208"/>
                </a:lnTo>
                <a:lnTo>
                  <a:pt x="3968" y="192"/>
                </a:lnTo>
                <a:lnTo>
                  <a:pt x="4003" y="178"/>
                </a:lnTo>
                <a:lnTo>
                  <a:pt x="4036" y="163"/>
                </a:lnTo>
                <a:lnTo>
                  <a:pt x="4070" y="149"/>
                </a:lnTo>
                <a:lnTo>
                  <a:pt x="4102" y="135"/>
                </a:lnTo>
                <a:lnTo>
                  <a:pt x="4136" y="123"/>
                </a:lnTo>
                <a:lnTo>
                  <a:pt x="4167" y="110"/>
                </a:lnTo>
                <a:lnTo>
                  <a:pt x="4199" y="99"/>
                </a:lnTo>
                <a:lnTo>
                  <a:pt x="4230" y="88"/>
                </a:lnTo>
                <a:lnTo>
                  <a:pt x="4260" y="78"/>
                </a:lnTo>
                <a:lnTo>
                  <a:pt x="4290" y="68"/>
                </a:lnTo>
                <a:lnTo>
                  <a:pt x="4319" y="60"/>
                </a:lnTo>
                <a:lnTo>
                  <a:pt x="4347" y="51"/>
                </a:lnTo>
                <a:lnTo>
                  <a:pt x="4376" y="43"/>
                </a:lnTo>
                <a:lnTo>
                  <a:pt x="4403" y="36"/>
                </a:lnTo>
                <a:lnTo>
                  <a:pt x="4430" y="29"/>
                </a:lnTo>
                <a:lnTo>
                  <a:pt x="4457" y="23"/>
                </a:lnTo>
                <a:lnTo>
                  <a:pt x="4482" y="18"/>
                </a:lnTo>
                <a:lnTo>
                  <a:pt x="4508" y="14"/>
                </a:lnTo>
                <a:lnTo>
                  <a:pt x="4531" y="10"/>
                </a:lnTo>
                <a:lnTo>
                  <a:pt x="4555" y="7"/>
                </a:lnTo>
                <a:lnTo>
                  <a:pt x="4579" y="5"/>
                </a:lnTo>
                <a:lnTo>
                  <a:pt x="4602" y="3"/>
                </a:lnTo>
                <a:lnTo>
                  <a:pt x="4624" y="2"/>
                </a:lnTo>
                <a:lnTo>
                  <a:pt x="4644" y="0"/>
                </a:lnTo>
                <a:lnTo>
                  <a:pt x="4665" y="0"/>
                </a:lnTo>
                <a:lnTo>
                  <a:pt x="4685" y="2"/>
                </a:lnTo>
                <a:lnTo>
                  <a:pt x="4704" y="3"/>
                </a:lnTo>
                <a:lnTo>
                  <a:pt x="4723" y="5"/>
                </a:lnTo>
                <a:lnTo>
                  <a:pt x="4741" y="7"/>
                </a:lnTo>
                <a:lnTo>
                  <a:pt x="4758" y="10"/>
                </a:lnTo>
                <a:lnTo>
                  <a:pt x="4775" y="14"/>
                </a:lnTo>
                <a:lnTo>
                  <a:pt x="4790" y="19"/>
                </a:lnTo>
                <a:lnTo>
                  <a:pt x="4805" y="24"/>
                </a:lnTo>
                <a:lnTo>
                  <a:pt x="4819" y="29"/>
                </a:lnTo>
                <a:lnTo>
                  <a:pt x="4833" y="36"/>
                </a:lnTo>
                <a:lnTo>
                  <a:pt x="4846" y="43"/>
                </a:lnTo>
                <a:lnTo>
                  <a:pt x="4859" y="51"/>
                </a:lnTo>
                <a:lnTo>
                  <a:pt x="4870" y="60"/>
                </a:lnTo>
                <a:lnTo>
                  <a:pt x="4881" y="69"/>
                </a:lnTo>
                <a:lnTo>
                  <a:pt x="4891" y="78"/>
                </a:lnTo>
                <a:lnTo>
                  <a:pt x="4900" y="88"/>
                </a:lnTo>
                <a:close/>
              </a:path>
            </a:pathLst>
          </a:custGeom>
          <a:solidFill>
            <a:srgbClr val="b2b2b2"/>
          </a:solidFill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502080" y="4581000"/>
            <a:ext cx="1241280" cy="1041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97280" y="4568760"/>
            <a:ext cx="61920" cy="55800"/>
          </a:xfrm>
          <a:custGeom>
            <a:avLst/>
            <a:gdLst/>
            <a:ahLst/>
            <a:rect l="l" t="t" r="r" b="b"/>
            <a:pathLst>
              <a:path w="195" h="176">
                <a:moveTo>
                  <a:pt x="0" y="96"/>
                </a:moveTo>
                <a:lnTo>
                  <a:pt x="195" y="0"/>
                </a:lnTo>
                <a:lnTo>
                  <a:pt x="67" y="176"/>
                </a:lnTo>
                <a:lnTo>
                  <a:pt x="66" y="109"/>
                </a:lnTo>
                <a:lnTo>
                  <a:pt x="0" y="96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349280" y="2017440"/>
            <a:ext cx="1243080" cy="1041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44840" y="2004840"/>
            <a:ext cx="61920" cy="55800"/>
          </a:xfrm>
          <a:custGeom>
            <a:avLst/>
            <a:gdLst/>
            <a:ahLst/>
            <a:rect l="l" t="t" r="r" b="b"/>
            <a:pathLst>
              <a:path w="196" h="176">
                <a:moveTo>
                  <a:pt x="0" y="95"/>
                </a:moveTo>
                <a:lnTo>
                  <a:pt x="196" y="0"/>
                </a:lnTo>
                <a:lnTo>
                  <a:pt x="68" y="176"/>
                </a:lnTo>
                <a:lnTo>
                  <a:pt x="68" y="108"/>
                </a:lnTo>
                <a:lnTo>
                  <a:pt x="0" y="95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38320" y="3901680"/>
            <a:ext cx="2549520" cy="9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54720" y="3884760"/>
            <a:ext cx="66600" cy="33120"/>
          </a:xfrm>
          <a:custGeom>
            <a:avLst/>
            <a:gdLst/>
            <a:ahLst/>
            <a:rect l="l" t="t" r="r" b="b"/>
            <a:pathLst>
              <a:path w="211" h="105">
                <a:moveTo>
                  <a:pt x="0" y="0"/>
                </a:moveTo>
                <a:lnTo>
                  <a:pt x="211" y="53"/>
                </a:lnTo>
                <a:lnTo>
                  <a:pt x="0" y="1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930400" y="1362240"/>
            <a:ext cx="7920" cy="2549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3120" y="1328760"/>
            <a:ext cx="33120" cy="66600"/>
          </a:xfrm>
          <a:custGeom>
            <a:avLst/>
            <a:gdLst/>
            <a:ahLst/>
            <a:rect l="l" t="t" r="r" b="b"/>
            <a:pathLst>
              <a:path w="106" h="211">
                <a:moveTo>
                  <a:pt x="0" y="211"/>
                </a:moveTo>
                <a:lnTo>
                  <a:pt x="53" y="0"/>
                </a:lnTo>
                <a:lnTo>
                  <a:pt x="106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38320" y="2653920"/>
            <a:ext cx="1498680" cy="1257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78320" y="2651040"/>
            <a:ext cx="61920" cy="55800"/>
          </a:xfrm>
          <a:custGeom>
            <a:avLst/>
            <a:gdLst/>
            <a:ahLst/>
            <a:rect l="l" t="t" r="r" b="b"/>
            <a:pathLst>
              <a:path w="195" h="176">
                <a:moveTo>
                  <a:pt x="0" y="94"/>
                </a:moveTo>
                <a:lnTo>
                  <a:pt x="195" y="0"/>
                </a:lnTo>
                <a:lnTo>
                  <a:pt x="66" y="176"/>
                </a:lnTo>
                <a:lnTo>
                  <a:pt x="64" y="109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24040" y="5068800"/>
            <a:ext cx="615960" cy="733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7960" y="5011560"/>
            <a:ext cx="111240" cy="123840"/>
          </a:xfrm>
          <a:custGeom>
            <a:avLst/>
            <a:gdLst/>
            <a:ahLst/>
            <a:rect l="l" t="t" r="r" b="b"/>
            <a:pathLst>
              <a:path w="352" h="390">
                <a:moveTo>
                  <a:pt x="190" y="390"/>
                </a:moveTo>
                <a:lnTo>
                  <a:pt x="0" y="0"/>
                </a:lnTo>
                <a:lnTo>
                  <a:pt x="352" y="255"/>
                </a:lnTo>
                <a:lnTo>
                  <a:pt x="217" y="259"/>
                </a:lnTo>
                <a:lnTo>
                  <a:pt x="190" y="39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76640" y="5734080"/>
            <a:ext cx="110880" cy="123840"/>
          </a:xfrm>
          <a:custGeom>
            <a:avLst/>
            <a:gdLst/>
            <a:ahLst/>
            <a:rect l="l" t="t" r="r" b="b"/>
            <a:pathLst>
              <a:path w="351" h="390">
                <a:moveTo>
                  <a:pt x="161" y="0"/>
                </a:moveTo>
                <a:lnTo>
                  <a:pt x="351" y="390"/>
                </a:lnTo>
                <a:lnTo>
                  <a:pt x="0" y="134"/>
                </a:lnTo>
                <a:lnTo>
                  <a:pt x="136" y="131"/>
                </a:lnTo>
                <a:lnTo>
                  <a:pt x="161" y="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8840" y="2801880"/>
            <a:ext cx="1585800" cy="1887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760" y="2744640"/>
            <a:ext cx="111240" cy="123840"/>
          </a:xfrm>
          <a:custGeom>
            <a:avLst/>
            <a:gdLst/>
            <a:ahLst/>
            <a:rect l="l" t="t" r="r" b="b"/>
            <a:pathLst>
              <a:path w="351" h="391">
                <a:moveTo>
                  <a:pt x="189" y="391"/>
                </a:moveTo>
                <a:lnTo>
                  <a:pt x="0" y="0"/>
                </a:lnTo>
                <a:lnTo>
                  <a:pt x="351" y="255"/>
                </a:lnTo>
                <a:lnTo>
                  <a:pt x="215" y="258"/>
                </a:lnTo>
                <a:lnTo>
                  <a:pt x="189" y="391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4621320"/>
            <a:ext cx="111240" cy="123840"/>
          </a:xfrm>
          <a:custGeom>
            <a:avLst/>
            <a:gdLst/>
            <a:ahLst/>
            <a:rect l="l" t="t" r="r" b="b"/>
            <a:pathLst>
              <a:path w="353" h="390">
                <a:moveTo>
                  <a:pt x="162" y="0"/>
                </a:moveTo>
                <a:lnTo>
                  <a:pt x="353" y="390"/>
                </a:lnTo>
                <a:lnTo>
                  <a:pt x="0" y="136"/>
                </a:lnTo>
                <a:lnTo>
                  <a:pt x="136" y="133"/>
                </a:lnTo>
                <a:lnTo>
                  <a:pt x="162" y="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6720" y="3689280"/>
            <a:ext cx="21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9720" y="1862280"/>
            <a:ext cx="558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28680" y="1573200"/>
            <a:ext cx="244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53480" y="3978360"/>
            <a:ext cx="512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2120" y="1262160"/>
            <a:ext cx="15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7960" y="5362560"/>
            <a:ext cx="336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3600360"/>
            <a:ext cx="159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76960" y="3940200"/>
            <a:ext cx="15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852560" y="2060640"/>
            <a:ext cx="235800" cy="401760"/>
            <a:chOff x="1852560" y="2060640"/>
            <a:chExt cx="235800" cy="401760"/>
          </a:xfrm>
        </p:grpSpPr>
        <p:sp>
          <p:nvSpPr>
            <p:cNvPr id="148" name=""/>
            <p:cNvSpPr/>
            <p:nvPr/>
          </p:nvSpPr>
          <p:spPr>
            <a:xfrm>
              <a:off x="1852560" y="2060640"/>
              <a:ext cx="1591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20680" y="2201760"/>
              <a:ext cx="676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424040" y="4916520"/>
            <a:ext cx="211320" cy="401760"/>
            <a:chOff x="4424040" y="4916520"/>
            <a:chExt cx="211320" cy="401760"/>
          </a:xfrm>
        </p:grpSpPr>
        <p:sp>
          <p:nvSpPr>
            <p:cNvPr id="151" name=""/>
            <p:cNvSpPr/>
            <p:nvPr/>
          </p:nvSpPr>
          <p:spPr>
            <a:xfrm>
              <a:off x="4424040" y="4916520"/>
              <a:ext cx="1591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54000" y="5057640"/>
              <a:ext cx="813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87960" y="2433600"/>
                <a:ext cx="2813040" cy="36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248000" y="1130400"/>
                <a:ext cx="4667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CC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E27-FE7D-4891-B7B2-11608E5D5C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Differential Drive: Forward Kinematics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252440"/>
            <a:ext cx="1800" cy="4606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30400" y="1417680"/>
            <a:ext cx="2251080" cy="3913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3840" y="2381400"/>
            <a:ext cx="301680" cy="107640"/>
          </a:xfrm>
          <a:custGeom>
            <a:avLst/>
            <a:gdLst/>
            <a:ahLst/>
            <a:rect l="l" t="t" r="r" b="b"/>
            <a:pathLst>
              <a:path w="1142" h="402">
                <a:moveTo>
                  <a:pt x="0" y="402"/>
                </a:moveTo>
                <a:lnTo>
                  <a:pt x="32" y="402"/>
                </a:lnTo>
                <a:lnTo>
                  <a:pt x="63" y="401"/>
                </a:lnTo>
                <a:lnTo>
                  <a:pt x="95" y="400"/>
                </a:lnTo>
                <a:lnTo>
                  <a:pt x="127" y="398"/>
                </a:lnTo>
                <a:lnTo>
                  <a:pt x="157" y="396"/>
                </a:lnTo>
                <a:lnTo>
                  <a:pt x="189" y="392"/>
                </a:lnTo>
                <a:lnTo>
                  <a:pt x="220" y="389"/>
                </a:lnTo>
                <a:lnTo>
                  <a:pt x="252" y="385"/>
                </a:lnTo>
                <a:lnTo>
                  <a:pt x="283" y="381"/>
                </a:lnTo>
                <a:lnTo>
                  <a:pt x="314" y="375"/>
                </a:lnTo>
                <a:lnTo>
                  <a:pt x="346" y="369"/>
                </a:lnTo>
                <a:lnTo>
                  <a:pt x="377" y="364"/>
                </a:lnTo>
                <a:lnTo>
                  <a:pt x="408" y="356"/>
                </a:lnTo>
                <a:lnTo>
                  <a:pt x="439" y="349"/>
                </a:lnTo>
                <a:lnTo>
                  <a:pt x="469" y="341"/>
                </a:lnTo>
                <a:lnTo>
                  <a:pt x="500" y="333"/>
                </a:lnTo>
                <a:lnTo>
                  <a:pt x="530" y="324"/>
                </a:lnTo>
                <a:lnTo>
                  <a:pt x="561" y="315"/>
                </a:lnTo>
                <a:lnTo>
                  <a:pt x="590" y="304"/>
                </a:lnTo>
                <a:lnTo>
                  <a:pt x="620" y="294"/>
                </a:lnTo>
                <a:lnTo>
                  <a:pt x="650" y="283"/>
                </a:lnTo>
                <a:lnTo>
                  <a:pt x="680" y="271"/>
                </a:lnTo>
                <a:lnTo>
                  <a:pt x="709" y="259"/>
                </a:lnTo>
                <a:lnTo>
                  <a:pt x="738" y="246"/>
                </a:lnTo>
                <a:lnTo>
                  <a:pt x="766" y="234"/>
                </a:lnTo>
                <a:lnTo>
                  <a:pt x="795" y="220"/>
                </a:lnTo>
                <a:lnTo>
                  <a:pt x="824" y="206"/>
                </a:lnTo>
                <a:lnTo>
                  <a:pt x="852" y="192"/>
                </a:lnTo>
                <a:lnTo>
                  <a:pt x="879" y="176"/>
                </a:lnTo>
                <a:lnTo>
                  <a:pt x="907" y="161"/>
                </a:lnTo>
                <a:lnTo>
                  <a:pt x="935" y="145"/>
                </a:lnTo>
                <a:lnTo>
                  <a:pt x="961" y="128"/>
                </a:lnTo>
                <a:lnTo>
                  <a:pt x="988" y="111"/>
                </a:lnTo>
                <a:lnTo>
                  <a:pt x="1015" y="94"/>
                </a:lnTo>
                <a:lnTo>
                  <a:pt x="1040" y="76"/>
                </a:lnTo>
                <a:lnTo>
                  <a:pt x="1067" y="58"/>
                </a:lnTo>
                <a:lnTo>
                  <a:pt x="1093" y="38"/>
                </a:lnTo>
                <a:lnTo>
                  <a:pt x="1117" y="19"/>
                </a:lnTo>
                <a:lnTo>
                  <a:pt x="114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2360520"/>
            <a:ext cx="39600" cy="38160"/>
          </a:xfrm>
          <a:custGeom>
            <a:avLst/>
            <a:gdLst/>
            <a:ahLst/>
            <a:rect l="l" t="t" r="r" b="b"/>
            <a:pathLst>
              <a:path w="150" h="143">
                <a:moveTo>
                  <a:pt x="0" y="80"/>
                </a:moveTo>
                <a:lnTo>
                  <a:pt x="150" y="0"/>
                </a:lnTo>
                <a:lnTo>
                  <a:pt x="55" y="143"/>
                </a:lnTo>
                <a:lnTo>
                  <a:pt x="52" y="89"/>
                </a:lnTo>
                <a:lnTo>
                  <a:pt x="0" y="8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7160" y="5037120"/>
            <a:ext cx="876240" cy="163440"/>
          </a:xfrm>
          <a:custGeom>
            <a:avLst/>
            <a:gdLst/>
            <a:ahLst/>
            <a:rect l="l" t="t" r="r" b="b"/>
            <a:pathLst>
              <a:path w="3315" h="622">
                <a:moveTo>
                  <a:pt x="3315" y="312"/>
                </a:moveTo>
                <a:lnTo>
                  <a:pt x="3315" y="317"/>
                </a:lnTo>
                <a:lnTo>
                  <a:pt x="3314" y="322"/>
                </a:lnTo>
                <a:lnTo>
                  <a:pt x="3313" y="328"/>
                </a:lnTo>
                <a:lnTo>
                  <a:pt x="3311" y="333"/>
                </a:lnTo>
                <a:lnTo>
                  <a:pt x="3309" y="338"/>
                </a:lnTo>
                <a:lnTo>
                  <a:pt x="3307" y="344"/>
                </a:lnTo>
                <a:lnTo>
                  <a:pt x="3303" y="349"/>
                </a:lnTo>
                <a:lnTo>
                  <a:pt x="3299" y="354"/>
                </a:lnTo>
                <a:lnTo>
                  <a:pt x="3295" y="360"/>
                </a:lnTo>
                <a:lnTo>
                  <a:pt x="3290" y="365"/>
                </a:lnTo>
                <a:lnTo>
                  <a:pt x="3284" y="370"/>
                </a:lnTo>
                <a:lnTo>
                  <a:pt x="3279" y="376"/>
                </a:lnTo>
                <a:lnTo>
                  <a:pt x="3273" y="381"/>
                </a:lnTo>
                <a:lnTo>
                  <a:pt x="3266" y="386"/>
                </a:lnTo>
                <a:lnTo>
                  <a:pt x="3259" y="392"/>
                </a:lnTo>
                <a:lnTo>
                  <a:pt x="3251" y="397"/>
                </a:lnTo>
                <a:lnTo>
                  <a:pt x="3243" y="402"/>
                </a:lnTo>
                <a:lnTo>
                  <a:pt x="3234" y="408"/>
                </a:lnTo>
                <a:lnTo>
                  <a:pt x="3225" y="413"/>
                </a:lnTo>
                <a:lnTo>
                  <a:pt x="3215" y="418"/>
                </a:lnTo>
                <a:lnTo>
                  <a:pt x="3204" y="423"/>
                </a:lnTo>
                <a:lnTo>
                  <a:pt x="3194" y="428"/>
                </a:lnTo>
                <a:lnTo>
                  <a:pt x="3183" y="433"/>
                </a:lnTo>
                <a:lnTo>
                  <a:pt x="3171" y="439"/>
                </a:lnTo>
                <a:lnTo>
                  <a:pt x="3159" y="443"/>
                </a:lnTo>
                <a:lnTo>
                  <a:pt x="3147" y="448"/>
                </a:lnTo>
                <a:lnTo>
                  <a:pt x="3134" y="452"/>
                </a:lnTo>
                <a:lnTo>
                  <a:pt x="3120" y="458"/>
                </a:lnTo>
                <a:lnTo>
                  <a:pt x="3106" y="462"/>
                </a:lnTo>
                <a:lnTo>
                  <a:pt x="3092" y="467"/>
                </a:lnTo>
                <a:lnTo>
                  <a:pt x="3077" y="472"/>
                </a:lnTo>
                <a:lnTo>
                  <a:pt x="3062" y="477"/>
                </a:lnTo>
                <a:lnTo>
                  <a:pt x="3046" y="481"/>
                </a:lnTo>
                <a:lnTo>
                  <a:pt x="3030" y="486"/>
                </a:lnTo>
                <a:lnTo>
                  <a:pt x="3013" y="490"/>
                </a:lnTo>
                <a:lnTo>
                  <a:pt x="2997" y="494"/>
                </a:lnTo>
                <a:lnTo>
                  <a:pt x="2979" y="499"/>
                </a:lnTo>
                <a:lnTo>
                  <a:pt x="2962" y="504"/>
                </a:lnTo>
                <a:lnTo>
                  <a:pt x="2944" y="508"/>
                </a:lnTo>
                <a:lnTo>
                  <a:pt x="2925" y="512"/>
                </a:lnTo>
                <a:lnTo>
                  <a:pt x="2907" y="515"/>
                </a:lnTo>
                <a:lnTo>
                  <a:pt x="2888" y="520"/>
                </a:lnTo>
                <a:lnTo>
                  <a:pt x="2867" y="524"/>
                </a:lnTo>
                <a:lnTo>
                  <a:pt x="2847" y="528"/>
                </a:lnTo>
                <a:lnTo>
                  <a:pt x="2827" y="531"/>
                </a:lnTo>
                <a:lnTo>
                  <a:pt x="2807" y="536"/>
                </a:lnTo>
                <a:lnTo>
                  <a:pt x="2785" y="539"/>
                </a:lnTo>
                <a:lnTo>
                  <a:pt x="2764" y="543"/>
                </a:lnTo>
                <a:lnTo>
                  <a:pt x="2743" y="546"/>
                </a:lnTo>
                <a:lnTo>
                  <a:pt x="2720" y="550"/>
                </a:lnTo>
                <a:lnTo>
                  <a:pt x="2698" y="554"/>
                </a:lnTo>
                <a:lnTo>
                  <a:pt x="2674" y="557"/>
                </a:lnTo>
                <a:lnTo>
                  <a:pt x="2652" y="560"/>
                </a:lnTo>
                <a:lnTo>
                  <a:pt x="2628" y="563"/>
                </a:lnTo>
                <a:lnTo>
                  <a:pt x="2605" y="567"/>
                </a:lnTo>
                <a:lnTo>
                  <a:pt x="2580" y="570"/>
                </a:lnTo>
                <a:lnTo>
                  <a:pt x="2557" y="573"/>
                </a:lnTo>
                <a:lnTo>
                  <a:pt x="2532" y="575"/>
                </a:lnTo>
                <a:lnTo>
                  <a:pt x="2507" y="578"/>
                </a:lnTo>
                <a:lnTo>
                  <a:pt x="2482" y="582"/>
                </a:lnTo>
                <a:lnTo>
                  <a:pt x="2457" y="584"/>
                </a:lnTo>
                <a:lnTo>
                  <a:pt x="2431" y="586"/>
                </a:lnTo>
                <a:lnTo>
                  <a:pt x="2406" y="589"/>
                </a:lnTo>
                <a:lnTo>
                  <a:pt x="2380" y="591"/>
                </a:lnTo>
                <a:lnTo>
                  <a:pt x="2353" y="593"/>
                </a:lnTo>
                <a:lnTo>
                  <a:pt x="2327" y="595"/>
                </a:lnTo>
                <a:lnTo>
                  <a:pt x="2300" y="598"/>
                </a:lnTo>
                <a:lnTo>
                  <a:pt x="2273" y="600"/>
                </a:lnTo>
                <a:lnTo>
                  <a:pt x="2247" y="602"/>
                </a:lnTo>
                <a:lnTo>
                  <a:pt x="2219" y="604"/>
                </a:lnTo>
                <a:lnTo>
                  <a:pt x="2191" y="606"/>
                </a:lnTo>
                <a:lnTo>
                  <a:pt x="2165" y="607"/>
                </a:lnTo>
                <a:lnTo>
                  <a:pt x="2137" y="609"/>
                </a:lnTo>
                <a:lnTo>
                  <a:pt x="2109" y="610"/>
                </a:lnTo>
                <a:lnTo>
                  <a:pt x="2080" y="612"/>
                </a:lnTo>
                <a:lnTo>
                  <a:pt x="2053" y="614"/>
                </a:lnTo>
                <a:lnTo>
                  <a:pt x="2024" y="615"/>
                </a:lnTo>
                <a:lnTo>
                  <a:pt x="1996" y="616"/>
                </a:lnTo>
                <a:lnTo>
                  <a:pt x="1967" y="617"/>
                </a:lnTo>
                <a:lnTo>
                  <a:pt x="1939" y="618"/>
                </a:lnTo>
                <a:lnTo>
                  <a:pt x="1911" y="619"/>
                </a:lnTo>
                <a:lnTo>
                  <a:pt x="1882" y="620"/>
                </a:lnTo>
                <a:lnTo>
                  <a:pt x="1853" y="620"/>
                </a:lnTo>
                <a:lnTo>
                  <a:pt x="1824" y="621"/>
                </a:lnTo>
                <a:lnTo>
                  <a:pt x="1795" y="621"/>
                </a:lnTo>
                <a:lnTo>
                  <a:pt x="1766" y="622"/>
                </a:lnTo>
                <a:lnTo>
                  <a:pt x="1737" y="622"/>
                </a:lnTo>
                <a:lnTo>
                  <a:pt x="1708" y="622"/>
                </a:lnTo>
                <a:lnTo>
                  <a:pt x="1679" y="622"/>
                </a:lnTo>
                <a:lnTo>
                  <a:pt x="1651" y="622"/>
                </a:lnTo>
                <a:lnTo>
                  <a:pt x="1621" y="622"/>
                </a:lnTo>
                <a:lnTo>
                  <a:pt x="1592" y="622"/>
                </a:lnTo>
                <a:lnTo>
                  <a:pt x="1563" y="622"/>
                </a:lnTo>
                <a:lnTo>
                  <a:pt x="1534" y="621"/>
                </a:lnTo>
                <a:lnTo>
                  <a:pt x="1506" y="621"/>
                </a:lnTo>
                <a:lnTo>
                  <a:pt x="1477" y="620"/>
                </a:lnTo>
                <a:lnTo>
                  <a:pt x="1448" y="620"/>
                </a:lnTo>
                <a:lnTo>
                  <a:pt x="1419" y="619"/>
                </a:lnTo>
                <a:lnTo>
                  <a:pt x="1390" y="618"/>
                </a:lnTo>
                <a:lnTo>
                  <a:pt x="1362" y="618"/>
                </a:lnTo>
                <a:lnTo>
                  <a:pt x="1333" y="617"/>
                </a:lnTo>
                <a:lnTo>
                  <a:pt x="1305" y="616"/>
                </a:lnTo>
                <a:lnTo>
                  <a:pt x="1276" y="614"/>
                </a:lnTo>
                <a:lnTo>
                  <a:pt x="1249" y="612"/>
                </a:lnTo>
                <a:lnTo>
                  <a:pt x="1220" y="611"/>
                </a:lnTo>
                <a:lnTo>
                  <a:pt x="1192" y="609"/>
                </a:lnTo>
                <a:lnTo>
                  <a:pt x="1164" y="608"/>
                </a:lnTo>
                <a:lnTo>
                  <a:pt x="1137" y="606"/>
                </a:lnTo>
                <a:lnTo>
                  <a:pt x="1109" y="605"/>
                </a:lnTo>
                <a:lnTo>
                  <a:pt x="1082" y="603"/>
                </a:lnTo>
                <a:lnTo>
                  <a:pt x="1055" y="601"/>
                </a:lnTo>
                <a:lnTo>
                  <a:pt x="1028" y="599"/>
                </a:lnTo>
                <a:lnTo>
                  <a:pt x="1001" y="596"/>
                </a:lnTo>
                <a:lnTo>
                  <a:pt x="975" y="594"/>
                </a:lnTo>
                <a:lnTo>
                  <a:pt x="948" y="592"/>
                </a:lnTo>
                <a:lnTo>
                  <a:pt x="922" y="590"/>
                </a:lnTo>
                <a:lnTo>
                  <a:pt x="897" y="588"/>
                </a:lnTo>
                <a:lnTo>
                  <a:pt x="871" y="585"/>
                </a:lnTo>
                <a:lnTo>
                  <a:pt x="846" y="583"/>
                </a:lnTo>
                <a:lnTo>
                  <a:pt x="820" y="579"/>
                </a:lnTo>
                <a:lnTo>
                  <a:pt x="796" y="577"/>
                </a:lnTo>
                <a:lnTo>
                  <a:pt x="771" y="574"/>
                </a:lnTo>
                <a:lnTo>
                  <a:pt x="746" y="571"/>
                </a:lnTo>
                <a:lnTo>
                  <a:pt x="722" y="568"/>
                </a:lnTo>
                <a:lnTo>
                  <a:pt x="698" y="564"/>
                </a:lnTo>
                <a:lnTo>
                  <a:pt x="675" y="561"/>
                </a:lnTo>
                <a:lnTo>
                  <a:pt x="652" y="558"/>
                </a:lnTo>
                <a:lnTo>
                  <a:pt x="628" y="555"/>
                </a:lnTo>
                <a:lnTo>
                  <a:pt x="606" y="552"/>
                </a:lnTo>
                <a:lnTo>
                  <a:pt x="583" y="548"/>
                </a:lnTo>
                <a:lnTo>
                  <a:pt x="562" y="544"/>
                </a:lnTo>
                <a:lnTo>
                  <a:pt x="541" y="541"/>
                </a:lnTo>
                <a:lnTo>
                  <a:pt x="519" y="538"/>
                </a:lnTo>
                <a:lnTo>
                  <a:pt x="498" y="534"/>
                </a:lnTo>
                <a:lnTo>
                  <a:pt x="478" y="529"/>
                </a:lnTo>
                <a:lnTo>
                  <a:pt x="457" y="526"/>
                </a:lnTo>
                <a:lnTo>
                  <a:pt x="437" y="522"/>
                </a:lnTo>
                <a:lnTo>
                  <a:pt x="418" y="518"/>
                </a:lnTo>
                <a:lnTo>
                  <a:pt x="399" y="513"/>
                </a:lnTo>
                <a:lnTo>
                  <a:pt x="380" y="510"/>
                </a:lnTo>
                <a:lnTo>
                  <a:pt x="362" y="506"/>
                </a:lnTo>
                <a:lnTo>
                  <a:pt x="344" y="502"/>
                </a:lnTo>
                <a:lnTo>
                  <a:pt x="326" y="497"/>
                </a:lnTo>
                <a:lnTo>
                  <a:pt x="309" y="492"/>
                </a:lnTo>
                <a:lnTo>
                  <a:pt x="292" y="488"/>
                </a:lnTo>
                <a:lnTo>
                  <a:pt x="276" y="483"/>
                </a:lnTo>
                <a:lnTo>
                  <a:pt x="260" y="479"/>
                </a:lnTo>
                <a:lnTo>
                  <a:pt x="245" y="474"/>
                </a:lnTo>
                <a:lnTo>
                  <a:pt x="230" y="470"/>
                </a:lnTo>
                <a:lnTo>
                  <a:pt x="215" y="465"/>
                </a:lnTo>
                <a:lnTo>
                  <a:pt x="202" y="460"/>
                </a:lnTo>
                <a:lnTo>
                  <a:pt x="188" y="456"/>
                </a:lnTo>
                <a:lnTo>
                  <a:pt x="175" y="450"/>
                </a:lnTo>
                <a:lnTo>
                  <a:pt x="162" y="446"/>
                </a:lnTo>
                <a:lnTo>
                  <a:pt x="149" y="441"/>
                </a:lnTo>
                <a:lnTo>
                  <a:pt x="138" y="435"/>
                </a:lnTo>
                <a:lnTo>
                  <a:pt x="126" y="431"/>
                </a:lnTo>
                <a:lnTo>
                  <a:pt x="115" y="426"/>
                </a:lnTo>
                <a:lnTo>
                  <a:pt x="105" y="420"/>
                </a:lnTo>
                <a:lnTo>
                  <a:pt x="95" y="415"/>
                </a:lnTo>
                <a:lnTo>
                  <a:pt x="85" y="410"/>
                </a:lnTo>
                <a:lnTo>
                  <a:pt x="77" y="406"/>
                </a:lnTo>
                <a:lnTo>
                  <a:pt x="68" y="400"/>
                </a:lnTo>
                <a:lnTo>
                  <a:pt x="60" y="395"/>
                </a:lnTo>
                <a:lnTo>
                  <a:pt x="52" y="390"/>
                </a:lnTo>
                <a:lnTo>
                  <a:pt x="46" y="384"/>
                </a:lnTo>
                <a:lnTo>
                  <a:pt x="39" y="379"/>
                </a:lnTo>
                <a:lnTo>
                  <a:pt x="33" y="374"/>
                </a:lnTo>
                <a:lnTo>
                  <a:pt x="28" y="368"/>
                </a:lnTo>
                <a:lnTo>
                  <a:pt x="22" y="363"/>
                </a:lnTo>
                <a:lnTo>
                  <a:pt x="18" y="358"/>
                </a:lnTo>
                <a:lnTo>
                  <a:pt x="14" y="352"/>
                </a:lnTo>
                <a:lnTo>
                  <a:pt x="11" y="347"/>
                </a:lnTo>
                <a:lnTo>
                  <a:pt x="8" y="342"/>
                </a:lnTo>
                <a:lnTo>
                  <a:pt x="4" y="336"/>
                </a:lnTo>
                <a:lnTo>
                  <a:pt x="2" y="331"/>
                </a:lnTo>
                <a:lnTo>
                  <a:pt x="1" y="325"/>
                </a:lnTo>
                <a:lnTo>
                  <a:pt x="0" y="319"/>
                </a:lnTo>
                <a:lnTo>
                  <a:pt x="0" y="314"/>
                </a:lnTo>
                <a:lnTo>
                  <a:pt x="0" y="309"/>
                </a:lnTo>
                <a:lnTo>
                  <a:pt x="0" y="303"/>
                </a:lnTo>
                <a:lnTo>
                  <a:pt x="1" y="298"/>
                </a:lnTo>
                <a:lnTo>
                  <a:pt x="2" y="293"/>
                </a:lnTo>
                <a:lnTo>
                  <a:pt x="4" y="287"/>
                </a:lnTo>
                <a:lnTo>
                  <a:pt x="8" y="282"/>
                </a:lnTo>
                <a:lnTo>
                  <a:pt x="11" y="277"/>
                </a:lnTo>
                <a:lnTo>
                  <a:pt x="14" y="271"/>
                </a:lnTo>
                <a:lnTo>
                  <a:pt x="18" y="265"/>
                </a:lnTo>
                <a:lnTo>
                  <a:pt x="22" y="259"/>
                </a:lnTo>
                <a:lnTo>
                  <a:pt x="28" y="254"/>
                </a:lnTo>
                <a:lnTo>
                  <a:pt x="33" y="249"/>
                </a:lnTo>
                <a:lnTo>
                  <a:pt x="39" y="243"/>
                </a:lnTo>
                <a:lnTo>
                  <a:pt x="46" y="238"/>
                </a:lnTo>
                <a:lnTo>
                  <a:pt x="52" y="233"/>
                </a:lnTo>
                <a:lnTo>
                  <a:pt x="60" y="229"/>
                </a:lnTo>
                <a:lnTo>
                  <a:pt x="68" y="223"/>
                </a:lnTo>
                <a:lnTo>
                  <a:pt x="77" y="218"/>
                </a:lnTo>
                <a:lnTo>
                  <a:pt x="85" y="213"/>
                </a:lnTo>
                <a:lnTo>
                  <a:pt x="95" y="207"/>
                </a:lnTo>
                <a:lnTo>
                  <a:pt x="105" y="202"/>
                </a:lnTo>
                <a:lnTo>
                  <a:pt x="115" y="198"/>
                </a:lnTo>
                <a:lnTo>
                  <a:pt x="126" y="192"/>
                </a:lnTo>
                <a:lnTo>
                  <a:pt x="138" y="187"/>
                </a:lnTo>
                <a:lnTo>
                  <a:pt x="149" y="182"/>
                </a:lnTo>
                <a:lnTo>
                  <a:pt x="162" y="177"/>
                </a:lnTo>
                <a:lnTo>
                  <a:pt x="175" y="172"/>
                </a:lnTo>
                <a:lnTo>
                  <a:pt x="188" y="168"/>
                </a:lnTo>
                <a:lnTo>
                  <a:pt x="202" y="162"/>
                </a:lnTo>
                <a:lnTo>
                  <a:pt x="215" y="158"/>
                </a:lnTo>
                <a:lnTo>
                  <a:pt x="230" y="153"/>
                </a:lnTo>
                <a:lnTo>
                  <a:pt x="245" y="149"/>
                </a:lnTo>
                <a:lnTo>
                  <a:pt x="260" y="144"/>
                </a:lnTo>
                <a:lnTo>
                  <a:pt x="276" y="139"/>
                </a:lnTo>
                <a:lnTo>
                  <a:pt x="292" y="135"/>
                </a:lnTo>
                <a:lnTo>
                  <a:pt x="309" y="130"/>
                </a:lnTo>
                <a:lnTo>
                  <a:pt x="326" y="126"/>
                </a:lnTo>
                <a:lnTo>
                  <a:pt x="343" y="122"/>
                </a:lnTo>
                <a:lnTo>
                  <a:pt x="362" y="118"/>
                </a:lnTo>
                <a:lnTo>
                  <a:pt x="380" y="113"/>
                </a:lnTo>
                <a:lnTo>
                  <a:pt x="399" y="109"/>
                </a:lnTo>
                <a:lnTo>
                  <a:pt x="418" y="105"/>
                </a:lnTo>
                <a:lnTo>
                  <a:pt x="437" y="101"/>
                </a:lnTo>
                <a:lnTo>
                  <a:pt x="457" y="97"/>
                </a:lnTo>
                <a:lnTo>
                  <a:pt x="478" y="93"/>
                </a:lnTo>
                <a:lnTo>
                  <a:pt x="498" y="89"/>
                </a:lnTo>
                <a:lnTo>
                  <a:pt x="519" y="86"/>
                </a:lnTo>
                <a:lnTo>
                  <a:pt x="541" y="81"/>
                </a:lnTo>
                <a:lnTo>
                  <a:pt x="562" y="78"/>
                </a:lnTo>
                <a:lnTo>
                  <a:pt x="583" y="75"/>
                </a:lnTo>
                <a:lnTo>
                  <a:pt x="606" y="71"/>
                </a:lnTo>
                <a:lnTo>
                  <a:pt x="628" y="67"/>
                </a:lnTo>
                <a:lnTo>
                  <a:pt x="652" y="64"/>
                </a:lnTo>
                <a:lnTo>
                  <a:pt x="675" y="61"/>
                </a:lnTo>
                <a:lnTo>
                  <a:pt x="698" y="58"/>
                </a:lnTo>
                <a:lnTo>
                  <a:pt x="722" y="55"/>
                </a:lnTo>
                <a:lnTo>
                  <a:pt x="746" y="51"/>
                </a:lnTo>
                <a:lnTo>
                  <a:pt x="771" y="48"/>
                </a:lnTo>
                <a:lnTo>
                  <a:pt x="796" y="46"/>
                </a:lnTo>
                <a:lnTo>
                  <a:pt x="820" y="43"/>
                </a:lnTo>
                <a:lnTo>
                  <a:pt x="846" y="41"/>
                </a:lnTo>
                <a:lnTo>
                  <a:pt x="870" y="38"/>
                </a:lnTo>
                <a:lnTo>
                  <a:pt x="897" y="36"/>
                </a:lnTo>
                <a:lnTo>
                  <a:pt x="922" y="32"/>
                </a:lnTo>
                <a:lnTo>
                  <a:pt x="948" y="30"/>
                </a:lnTo>
                <a:lnTo>
                  <a:pt x="975" y="28"/>
                </a:lnTo>
                <a:lnTo>
                  <a:pt x="1001" y="26"/>
                </a:lnTo>
                <a:lnTo>
                  <a:pt x="1028" y="24"/>
                </a:lnTo>
                <a:lnTo>
                  <a:pt x="1055" y="22"/>
                </a:lnTo>
                <a:lnTo>
                  <a:pt x="1082" y="20"/>
                </a:lnTo>
                <a:lnTo>
                  <a:pt x="1109" y="18"/>
                </a:lnTo>
                <a:lnTo>
                  <a:pt x="1137" y="16"/>
                </a:lnTo>
                <a:lnTo>
                  <a:pt x="1164" y="14"/>
                </a:lnTo>
                <a:lnTo>
                  <a:pt x="1192" y="13"/>
                </a:lnTo>
                <a:lnTo>
                  <a:pt x="1220" y="11"/>
                </a:lnTo>
                <a:lnTo>
                  <a:pt x="1249" y="10"/>
                </a:lnTo>
                <a:lnTo>
                  <a:pt x="1276" y="9"/>
                </a:lnTo>
                <a:lnTo>
                  <a:pt x="1304" y="8"/>
                </a:lnTo>
                <a:lnTo>
                  <a:pt x="1333" y="7"/>
                </a:lnTo>
                <a:lnTo>
                  <a:pt x="1362" y="6"/>
                </a:lnTo>
                <a:lnTo>
                  <a:pt x="1390" y="5"/>
                </a:lnTo>
                <a:lnTo>
                  <a:pt x="1419" y="4"/>
                </a:lnTo>
                <a:lnTo>
                  <a:pt x="1448" y="2"/>
                </a:lnTo>
                <a:lnTo>
                  <a:pt x="1477" y="2"/>
                </a:lnTo>
                <a:lnTo>
                  <a:pt x="1506" y="1"/>
                </a:lnTo>
                <a:lnTo>
                  <a:pt x="1534" y="1"/>
                </a:lnTo>
                <a:lnTo>
                  <a:pt x="1563" y="1"/>
                </a:lnTo>
                <a:lnTo>
                  <a:pt x="1592" y="0"/>
                </a:lnTo>
                <a:lnTo>
                  <a:pt x="1621" y="0"/>
                </a:lnTo>
                <a:lnTo>
                  <a:pt x="1650" y="0"/>
                </a:lnTo>
                <a:lnTo>
                  <a:pt x="1679" y="0"/>
                </a:lnTo>
                <a:lnTo>
                  <a:pt x="1708" y="0"/>
                </a:lnTo>
                <a:lnTo>
                  <a:pt x="1737" y="0"/>
                </a:lnTo>
                <a:lnTo>
                  <a:pt x="1766" y="1"/>
                </a:lnTo>
                <a:lnTo>
                  <a:pt x="1795" y="1"/>
                </a:lnTo>
                <a:lnTo>
                  <a:pt x="1823" y="2"/>
                </a:lnTo>
                <a:lnTo>
                  <a:pt x="1853" y="2"/>
                </a:lnTo>
                <a:lnTo>
                  <a:pt x="1882" y="4"/>
                </a:lnTo>
                <a:lnTo>
                  <a:pt x="1910" y="5"/>
                </a:lnTo>
                <a:lnTo>
                  <a:pt x="1939" y="5"/>
                </a:lnTo>
                <a:lnTo>
                  <a:pt x="1967" y="6"/>
                </a:lnTo>
                <a:lnTo>
                  <a:pt x="1996" y="7"/>
                </a:lnTo>
                <a:lnTo>
                  <a:pt x="2024" y="8"/>
                </a:lnTo>
                <a:lnTo>
                  <a:pt x="2053" y="10"/>
                </a:lnTo>
                <a:lnTo>
                  <a:pt x="2080" y="11"/>
                </a:lnTo>
                <a:lnTo>
                  <a:pt x="2108" y="12"/>
                </a:lnTo>
                <a:lnTo>
                  <a:pt x="2137" y="14"/>
                </a:lnTo>
                <a:lnTo>
                  <a:pt x="2165" y="15"/>
                </a:lnTo>
                <a:lnTo>
                  <a:pt x="2191" y="17"/>
                </a:lnTo>
                <a:lnTo>
                  <a:pt x="2219" y="18"/>
                </a:lnTo>
                <a:lnTo>
                  <a:pt x="2247" y="21"/>
                </a:lnTo>
                <a:lnTo>
                  <a:pt x="2273" y="23"/>
                </a:lnTo>
                <a:lnTo>
                  <a:pt x="2300" y="25"/>
                </a:lnTo>
                <a:lnTo>
                  <a:pt x="2327" y="27"/>
                </a:lnTo>
                <a:lnTo>
                  <a:pt x="2353" y="29"/>
                </a:lnTo>
                <a:lnTo>
                  <a:pt x="2380" y="31"/>
                </a:lnTo>
                <a:lnTo>
                  <a:pt x="2406" y="34"/>
                </a:lnTo>
                <a:lnTo>
                  <a:pt x="2431" y="37"/>
                </a:lnTo>
                <a:lnTo>
                  <a:pt x="2457" y="39"/>
                </a:lnTo>
                <a:lnTo>
                  <a:pt x="2482" y="42"/>
                </a:lnTo>
                <a:lnTo>
                  <a:pt x="2507" y="44"/>
                </a:lnTo>
                <a:lnTo>
                  <a:pt x="2532" y="47"/>
                </a:lnTo>
                <a:lnTo>
                  <a:pt x="2557" y="50"/>
                </a:lnTo>
                <a:lnTo>
                  <a:pt x="2580" y="54"/>
                </a:lnTo>
                <a:lnTo>
                  <a:pt x="2605" y="56"/>
                </a:lnTo>
                <a:lnTo>
                  <a:pt x="2628" y="59"/>
                </a:lnTo>
                <a:lnTo>
                  <a:pt x="2652" y="62"/>
                </a:lnTo>
                <a:lnTo>
                  <a:pt x="2674" y="65"/>
                </a:lnTo>
                <a:lnTo>
                  <a:pt x="2698" y="70"/>
                </a:lnTo>
                <a:lnTo>
                  <a:pt x="2720" y="73"/>
                </a:lnTo>
                <a:lnTo>
                  <a:pt x="2743" y="76"/>
                </a:lnTo>
                <a:lnTo>
                  <a:pt x="2764" y="80"/>
                </a:lnTo>
                <a:lnTo>
                  <a:pt x="2785" y="83"/>
                </a:lnTo>
                <a:lnTo>
                  <a:pt x="2807" y="88"/>
                </a:lnTo>
                <a:lnTo>
                  <a:pt x="2827" y="91"/>
                </a:lnTo>
                <a:lnTo>
                  <a:pt x="2847" y="95"/>
                </a:lnTo>
                <a:lnTo>
                  <a:pt x="2867" y="98"/>
                </a:lnTo>
                <a:lnTo>
                  <a:pt x="2888" y="103"/>
                </a:lnTo>
                <a:lnTo>
                  <a:pt x="2907" y="107"/>
                </a:lnTo>
                <a:lnTo>
                  <a:pt x="2925" y="111"/>
                </a:lnTo>
                <a:lnTo>
                  <a:pt x="2944" y="115"/>
                </a:lnTo>
                <a:lnTo>
                  <a:pt x="2962" y="120"/>
                </a:lnTo>
                <a:lnTo>
                  <a:pt x="2979" y="124"/>
                </a:lnTo>
                <a:lnTo>
                  <a:pt x="2997" y="128"/>
                </a:lnTo>
                <a:lnTo>
                  <a:pt x="3013" y="133"/>
                </a:lnTo>
                <a:lnTo>
                  <a:pt x="3030" y="137"/>
                </a:lnTo>
                <a:lnTo>
                  <a:pt x="3046" y="141"/>
                </a:lnTo>
                <a:lnTo>
                  <a:pt x="3062" y="146"/>
                </a:lnTo>
                <a:lnTo>
                  <a:pt x="3077" y="151"/>
                </a:lnTo>
                <a:lnTo>
                  <a:pt x="3092" y="156"/>
                </a:lnTo>
                <a:lnTo>
                  <a:pt x="3106" y="160"/>
                </a:lnTo>
                <a:lnTo>
                  <a:pt x="3120" y="165"/>
                </a:lnTo>
                <a:lnTo>
                  <a:pt x="3134" y="170"/>
                </a:lnTo>
                <a:lnTo>
                  <a:pt x="3147" y="175"/>
                </a:lnTo>
                <a:lnTo>
                  <a:pt x="3159" y="179"/>
                </a:lnTo>
                <a:lnTo>
                  <a:pt x="3171" y="185"/>
                </a:lnTo>
                <a:lnTo>
                  <a:pt x="3183" y="189"/>
                </a:lnTo>
                <a:lnTo>
                  <a:pt x="3194" y="194"/>
                </a:lnTo>
                <a:lnTo>
                  <a:pt x="3204" y="200"/>
                </a:lnTo>
                <a:lnTo>
                  <a:pt x="3215" y="205"/>
                </a:lnTo>
                <a:lnTo>
                  <a:pt x="3225" y="209"/>
                </a:lnTo>
                <a:lnTo>
                  <a:pt x="3234" y="215"/>
                </a:lnTo>
                <a:lnTo>
                  <a:pt x="3243" y="220"/>
                </a:lnTo>
                <a:lnTo>
                  <a:pt x="3251" y="225"/>
                </a:lnTo>
                <a:lnTo>
                  <a:pt x="3259" y="231"/>
                </a:lnTo>
                <a:lnTo>
                  <a:pt x="3266" y="236"/>
                </a:lnTo>
                <a:lnTo>
                  <a:pt x="3273" y="241"/>
                </a:lnTo>
                <a:lnTo>
                  <a:pt x="3279" y="247"/>
                </a:lnTo>
                <a:lnTo>
                  <a:pt x="3284" y="252"/>
                </a:lnTo>
                <a:lnTo>
                  <a:pt x="3290" y="257"/>
                </a:lnTo>
                <a:lnTo>
                  <a:pt x="3295" y="263"/>
                </a:lnTo>
                <a:lnTo>
                  <a:pt x="3299" y="268"/>
                </a:lnTo>
                <a:lnTo>
                  <a:pt x="3303" y="273"/>
                </a:lnTo>
                <a:lnTo>
                  <a:pt x="3307" y="279"/>
                </a:lnTo>
                <a:lnTo>
                  <a:pt x="3309" y="284"/>
                </a:lnTo>
                <a:lnTo>
                  <a:pt x="3311" y="289"/>
                </a:lnTo>
                <a:lnTo>
                  <a:pt x="3313" y="295"/>
                </a:lnTo>
                <a:lnTo>
                  <a:pt x="3314" y="300"/>
                </a:lnTo>
                <a:lnTo>
                  <a:pt x="3315" y="306"/>
                </a:lnTo>
                <a:lnTo>
                  <a:pt x="3315" y="312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57160" y="4241880"/>
            <a:ext cx="876240" cy="163440"/>
          </a:xfrm>
          <a:custGeom>
            <a:avLst/>
            <a:gdLst/>
            <a:ahLst/>
            <a:rect l="l" t="t" r="r" b="b"/>
            <a:pathLst>
              <a:path w="3315" h="622">
                <a:moveTo>
                  <a:pt x="3315" y="310"/>
                </a:moveTo>
                <a:lnTo>
                  <a:pt x="3315" y="317"/>
                </a:lnTo>
                <a:lnTo>
                  <a:pt x="3314" y="322"/>
                </a:lnTo>
                <a:lnTo>
                  <a:pt x="3313" y="327"/>
                </a:lnTo>
                <a:lnTo>
                  <a:pt x="3311" y="333"/>
                </a:lnTo>
                <a:lnTo>
                  <a:pt x="3309" y="338"/>
                </a:lnTo>
                <a:lnTo>
                  <a:pt x="3307" y="343"/>
                </a:lnTo>
                <a:lnTo>
                  <a:pt x="3303" y="349"/>
                </a:lnTo>
                <a:lnTo>
                  <a:pt x="3299" y="354"/>
                </a:lnTo>
                <a:lnTo>
                  <a:pt x="3295" y="359"/>
                </a:lnTo>
                <a:lnTo>
                  <a:pt x="3290" y="365"/>
                </a:lnTo>
                <a:lnTo>
                  <a:pt x="3284" y="370"/>
                </a:lnTo>
                <a:lnTo>
                  <a:pt x="3279" y="375"/>
                </a:lnTo>
                <a:lnTo>
                  <a:pt x="3273" y="381"/>
                </a:lnTo>
                <a:lnTo>
                  <a:pt x="3266" y="386"/>
                </a:lnTo>
                <a:lnTo>
                  <a:pt x="3259" y="391"/>
                </a:lnTo>
                <a:lnTo>
                  <a:pt x="3251" y="397"/>
                </a:lnTo>
                <a:lnTo>
                  <a:pt x="3243" y="402"/>
                </a:lnTo>
                <a:lnTo>
                  <a:pt x="3234" y="407"/>
                </a:lnTo>
                <a:lnTo>
                  <a:pt x="3225" y="413"/>
                </a:lnTo>
                <a:lnTo>
                  <a:pt x="3215" y="417"/>
                </a:lnTo>
                <a:lnTo>
                  <a:pt x="3204" y="422"/>
                </a:lnTo>
                <a:lnTo>
                  <a:pt x="3194" y="428"/>
                </a:lnTo>
                <a:lnTo>
                  <a:pt x="3183" y="433"/>
                </a:lnTo>
                <a:lnTo>
                  <a:pt x="3171" y="437"/>
                </a:lnTo>
                <a:lnTo>
                  <a:pt x="3159" y="443"/>
                </a:lnTo>
                <a:lnTo>
                  <a:pt x="3147" y="448"/>
                </a:lnTo>
                <a:lnTo>
                  <a:pt x="3134" y="452"/>
                </a:lnTo>
                <a:lnTo>
                  <a:pt x="3120" y="458"/>
                </a:lnTo>
                <a:lnTo>
                  <a:pt x="3106" y="462"/>
                </a:lnTo>
                <a:lnTo>
                  <a:pt x="3092" y="467"/>
                </a:lnTo>
                <a:lnTo>
                  <a:pt x="3077" y="471"/>
                </a:lnTo>
                <a:lnTo>
                  <a:pt x="3062" y="476"/>
                </a:lnTo>
                <a:lnTo>
                  <a:pt x="3046" y="481"/>
                </a:lnTo>
                <a:lnTo>
                  <a:pt x="3030" y="485"/>
                </a:lnTo>
                <a:lnTo>
                  <a:pt x="3013" y="490"/>
                </a:lnTo>
                <a:lnTo>
                  <a:pt x="2997" y="494"/>
                </a:lnTo>
                <a:lnTo>
                  <a:pt x="2979" y="498"/>
                </a:lnTo>
                <a:lnTo>
                  <a:pt x="2962" y="502"/>
                </a:lnTo>
                <a:lnTo>
                  <a:pt x="2944" y="507"/>
                </a:lnTo>
                <a:lnTo>
                  <a:pt x="2925" y="511"/>
                </a:lnTo>
                <a:lnTo>
                  <a:pt x="2907" y="515"/>
                </a:lnTo>
                <a:lnTo>
                  <a:pt x="2888" y="519"/>
                </a:lnTo>
                <a:lnTo>
                  <a:pt x="2867" y="524"/>
                </a:lnTo>
                <a:lnTo>
                  <a:pt x="2847" y="527"/>
                </a:lnTo>
                <a:lnTo>
                  <a:pt x="2827" y="531"/>
                </a:lnTo>
                <a:lnTo>
                  <a:pt x="2807" y="535"/>
                </a:lnTo>
                <a:lnTo>
                  <a:pt x="2785" y="539"/>
                </a:lnTo>
                <a:lnTo>
                  <a:pt x="2764" y="543"/>
                </a:lnTo>
                <a:lnTo>
                  <a:pt x="2743" y="546"/>
                </a:lnTo>
                <a:lnTo>
                  <a:pt x="2720" y="549"/>
                </a:lnTo>
                <a:lnTo>
                  <a:pt x="2698" y="553"/>
                </a:lnTo>
                <a:lnTo>
                  <a:pt x="2674" y="557"/>
                </a:lnTo>
                <a:lnTo>
                  <a:pt x="2652" y="560"/>
                </a:lnTo>
                <a:lnTo>
                  <a:pt x="2628" y="563"/>
                </a:lnTo>
                <a:lnTo>
                  <a:pt x="2605" y="566"/>
                </a:lnTo>
                <a:lnTo>
                  <a:pt x="2580" y="569"/>
                </a:lnTo>
                <a:lnTo>
                  <a:pt x="2557" y="572"/>
                </a:lnTo>
                <a:lnTo>
                  <a:pt x="2532" y="575"/>
                </a:lnTo>
                <a:lnTo>
                  <a:pt x="2507" y="578"/>
                </a:lnTo>
                <a:lnTo>
                  <a:pt x="2482" y="580"/>
                </a:lnTo>
                <a:lnTo>
                  <a:pt x="2457" y="583"/>
                </a:lnTo>
                <a:lnTo>
                  <a:pt x="2431" y="585"/>
                </a:lnTo>
                <a:lnTo>
                  <a:pt x="2406" y="589"/>
                </a:lnTo>
                <a:lnTo>
                  <a:pt x="2380" y="591"/>
                </a:lnTo>
                <a:lnTo>
                  <a:pt x="2353" y="593"/>
                </a:lnTo>
                <a:lnTo>
                  <a:pt x="2327" y="595"/>
                </a:lnTo>
                <a:lnTo>
                  <a:pt x="2300" y="597"/>
                </a:lnTo>
                <a:lnTo>
                  <a:pt x="2273" y="599"/>
                </a:lnTo>
                <a:lnTo>
                  <a:pt x="2247" y="601"/>
                </a:lnTo>
                <a:lnTo>
                  <a:pt x="2219" y="604"/>
                </a:lnTo>
                <a:lnTo>
                  <a:pt x="2191" y="605"/>
                </a:lnTo>
                <a:lnTo>
                  <a:pt x="2165" y="607"/>
                </a:lnTo>
                <a:lnTo>
                  <a:pt x="2137" y="609"/>
                </a:lnTo>
                <a:lnTo>
                  <a:pt x="2109" y="610"/>
                </a:lnTo>
                <a:lnTo>
                  <a:pt x="2080" y="611"/>
                </a:lnTo>
                <a:lnTo>
                  <a:pt x="2053" y="613"/>
                </a:lnTo>
                <a:lnTo>
                  <a:pt x="2024" y="614"/>
                </a:lnTo>
                <a:lnTo>
                  <a:pt x="1996" y="615"/>
                </a:lnTo>
                <a:lnTo>
                  <a:pt x="1967" y="616"/>
                </a:lnTo>
                <a:lnTo>
                  <a:pt x="1939" y="617"/>
                </a:lnTo>
                <a:lnTo>
                  <a:pt x="1911" y="619"/>
                </a:lnTo>
                <a:lnTo>
                  <a:pt x="1882" y="619"/>
                </a:lnTo>
                <a:lnTo>
                  <a:pt x="1853" y="620"/>
                </a:lnTo>
                <a:lnTo>
                  <a:pt x="1824" y="621"/>
                </a:lnTo>
                <a:lnTo>
                  <a:pt x="1795" y="621"/>
                </a:lnTo>
                <a:lnTo>
                  <a:pt x="1766" y="621"/>
                </a:lnTo>
                <a:lnTo>
                  <a:pt x="1737" y="622"/>
                </a:lnTo>
                <a:lnTo>
                  <a:pt x="1708" y="622"/>
                </a:lnTo>
                <a:lnTo>
                  <a:pt x="1679" y="622"/>
                </a:lnTo>
                <a:lnTo>
                  <a:pt x="1651" y="622"/>
                </a:lnTo>
                <a:lnTo>
                  <a:pt x="1621" y="622"/>
                </a:lnTo>
                <a:lnTo>
                  <a:pt x="1592" y="622"/>
                </a:lnTo>
                <a:lnTo>
                  <a:pt x="1563" y="622"/>
                </a:lnTo>
                <a:lnTo>
                  <a:pt x="1534" y="621"/>
                </a:lnTo>
                <a:lnTo>
                  <a:pt x="1506" y="621"/>
                </a:lnTo>
                <a:lnTo>
                  <a:pt x="1477" y="620"/>
                </a:lnTo>
                <a:lnTo>
                  <a:pt x="1448" y="620"/>
                </a:lnTo>
                <a:lnTo>
                  <a:pt x="1419" y="619"/>
                </a:lnTo>
                <a:lnTo>
                  <a:pt x="1390" y="617"/>
                </a:lnTo>
                <a:lnTo>
                  <a:pt x="1362" y="616"/>
                </a:lnTo>
                <a:lnTo>
                  <a:pt x="1333" y="615"/>
                </a:lnTo>
                <a:lnTo>
                  <a:pt x="1305" y="614"/>
                </a:lnTo>
                <a:lnTo>
                  <a:pt x="1276" y="613"/>
                </a:lnTo>
                <a:lnTo>
                  <a:pt x="1249" y="612"/>
                </a:lnTo>
                <a:lnTo>
                  <a:pt x="1220" y="611"/>
                </a:lnTo>
                <a:lnTo>
                  <a:pt x="1192" y="609"/>
                </a:lnTo>
                <a:lnTo>
                  <a:pt x="1164" y="608"/>
                </a:lnTo>
                <a:lnTo>
                  <a:pt x="1137" y="606"/>
                </a:lnTo>
                <a:lnTo>
                  <a:pt x="1109" y="605"/>
                </a:lnTo>
                <a:lnTo>
                  <a:pt x="1082" y="603"/>
                </a:lnTo>
                <a:lnTo>
                  <a:pt x="1055" y="600"/>
                </a:lnTo>
                <a:lnTo>
                  <a:pt x="1028" y="598"/>
                </a:lnTo>
                <a:lnTo>
                  <a:pt x="1001" y="596"/>
                </a:lnTo>
                <a:lnTo>
                  <a:pt x="975" y="594"/>
                </a:lnTo>
                <a:lnTo>
                  <a:pt x="948" y="592"/>
                </a:lnTo>
                <a:lnTo>
                  <a:pt x="922" y="590"/>
                </a:lnTo>
                <a:lnTo>
                  <a:pt x="897" y="588"/>
                </a:lnTo>
                <a:lnTo>
                  <a:pt x="871" y="584"/>
                </a:lnTo>
                <a:lnTo>
                  <a:pt x="846" y="582"/>
                </a:lnTo>
                <a:lnTo>
                  <a:pt x="820" y="579"/>
                </a:lnTo>
                <a:lnTo>
                  <a:pt x="796" y="577"/>
                </a:lnTo>
                <a:lnTo>
                  <a:pt x="771" y="574"/>
                </a:lnTo>
                <a:lnTo>
                  <a:pt x="746" y="571"/>
                </a:lnTo>
                <a:lnTo>
                  <a:pt x="722" y="567"/>
                </a:lnTo>
                <a:lnTo>
                  <a:pt x="698" y="564"/>
                </a:lnTo>
                <a:lnTo>
                  <a:pt x="675" y="561"/>
                </a:lnTo>
                <a:lnTo>
                  <a:pt x="652" y="558"/>
                </a:lnTo>
                <a:lnTo>
                  <a:pt x="628" y="555"/>
                </a:lnTo>
                <a:lnTo>
                  <a:pt x="606" y="551"/>
                </a:lnTo>
                <a:lnTo>
                  <a:pt x="583" y="548"/>
                </a:lnTo>
                <a:lnTo>
                  <a:pt x="562" y="544"/>
                </a:lnTo>
                <a:lnTo>
                  <a:pt x="541" y="541"/>
                </a:lnTo>
                <a:lnTo>
                  <a:pt x="519" y="536"/>
                </a:lnTo>
                <a:lnTo>
                  <a:pt x="498" y="533"/>
                </a:lnTo>
                <a:lnTo>
                  <a:pt x="478" y="529"/>
                </a:lnTo>
                <a:lnTo>
                  <a:pt x="457" y="526"/>
                </a:lnTo>
                <a:lnTo>
                  <a:pt x="437" y="521"/>
                </a:lnTo>
                <a:lnTo>
                  <a:pt x="418" y="517"/>
                </a:lnTo>
                <a:lnTo>
                  <a:pt x="399" y="513"/>
                </a:lnTo>
                <a:lnTo>
                  <a:pt x="380" y="509"/>
                </a:lnTo>
                <a:lnTo>
                  <a:pt x="362" y="504"/>
                </a:lnTo>
                <a:lnTo>
                  <a:pt x="344" y="500"/>
                </a:lnTo>
                <a:lnTo>
                  <a:pt x="326" y="496"/>
                </a:lnTo>
                <a:lnTo>
                  <a:pt x="309" y="492"/>
                </a:lnTo>
                <a:lnTo>
                  <a:pt x="292" y="487"/>
                </a:lnTo>
                <a:lnTo>
                  <a:pt x="276" y="483"/>
                </a:lnTo>
                <a:lnTo>
                  <a:pt x="260" y="479"/>
                </a:lnTo>
                <a:lnTo>
                  <a:pt x="245" y="474"/>
                </a:lnTo>
                <a:lnTo>
                  <a:pt x="230" y="469"/>
                </a:lnTo>
                <a:lnTo>
                  <a:pt x="215" y="464"/>
                </a:lnTo>
                <a:lnTo>
                  <a:pt x="202" y="460"/>
                </a:lnTo>
                <a:lnTo>
                  <a:pt x="188" y="454"/>
                </a:lnTo>
                <a:lnTo>
                  <a:pt x="175" y="450"/>
                </a:lnTo>
                <a:lnTo>
                  <a:pt x="162" y="445"/>
                </a:lnTo>
                <a:lnTo>
                  <a:pt x="149" y="440"/>
                </a:lnTo>
                <a:lnTo>
                  <a:pt x="138" y="435"/>
                </a:lnTo>
                <a:lnTo>
                  <a:pt x="126" y="430"/>
                </a:lnTo>
                <a:lnTo>
                  <a:pt x="115" y="426"/>
                </a:lnTo>
                <a:lnTo>
                  <a:pt x="105" y="420"/>
                </a:lnTo>
                <a:lnTo>
                  <a:pt x="95" y="415"/>
                </a:lnTo>
                <a:lnTo>
                  <a:pt x="85" y="410"/>
                </a:lnTo>
                <a:lnTo>
                  <a:pt x="77" y="404"/>
                </a:lnTo>
                <a:lnTo>
                  <a:pt x="68" y="400"/>
                </a:lnTo>
                <a:lnTo>
                  <a:pt x="60" y="395"/>
                </a:lnTo>
                <a:lnTo>
                  <a:pt x="52" y="389"/>
                </a:lnTo>
                <a:lnTo>
                  <a:pt x="46" y="384"/>
                </a:lnTo>
                <a:lnTo>
                  <a:pt x="39" y="379"/>
                </a:lnTo>
                <a:lnTo>
                  <a:pt x="33" y="373"/>
                </a:lnTo>
                <a:lnTo>
                  <a:pt x="28" y="368"/>
                </a:lnTo>
                <a:lnTo>
                  <a:pt x="22" y="363"/>
                </a:lnTo>
                <a:lnTo>
                  <a:pt x="18" y="357"/>
                </a:lnTo>
                <a:lnTo>
                  <a:pt x="14" y="352"/>
                </a:lnTo>
                <a:lnTo>
                  <a:pt x="11" y="347"/>
                </a:lnTo>
                <a:lnTo>
                  <a:pt x="8" y="341"/>
                </a:lnTo>
                <a:lnTo>
                  <a:pt x="4" y="335"/>
                </a:lnTo>
                <a:lnTo>
                  <a:pt x="2" y="330"/>
                </a:lnTo>
                <a:lnTo>
                  <a:pt x="1" y="324"/>
                </a:lnTo>
                <a:lnTo>
                  <a:pt x="0" y="319"/>
                </a:lnTo>
                <a:lnTo>
                  <a:pt x="0" y="314"/>
                </a:lnTo>
                <a:lnTo>
                  <a:pt x="0" y="308"/>
                </a:lnTo>
                <a:lnTo>
                  <a:pt x="0" y="303"/>
                </a:lnTo>
                <a:lnTo>
                  <a:pt x="1" y="298"/>
                </a:lnTo>
                <a:lnTo>
                  <a:pt x="2" y="292"/>
                </a:lnTo>
                <a:lnTo>
                  <a:pt x="4" y="287"/>
                </a:lnTo>
                <a:lnTo>
                  <a:pt x="8" y="280"/>
                </a:lnTo>
                <a:lnTo>
                  <a:pt x="11" y="275"/>
                </a:lnTo>
                <a:lnTo>
                  <a:pt x="14" y="270"/>
                </a:lnTo>
                <a:lnTo>
                  <a:pt x="18" y="264"/>
                </a:lnTo>
                <a:lnTo>
                  <a:pt x="22" y="259"/>
                </a:lnTo>
                <a:lnTo>
                  <a:pt x="28" y="254"/>
                </a:lnTo>
                <a:lnTo>
                  <a:pt x="33" y="248"/>
                </a:lnTo>
                <a:lnTo>
                  <a:pt x="39" y="243"/>
                </a:lnTo>
                <a:lnTo>
                  <a:pt x="46" y="238"/>
                </a:lnTo>
                <a:lnTo>
                  <a:pt x="52" y="232"/>
                </a:lnTo>
                <a:lnTo>
                  <a:pt x="60" y="227"/>
                </a:lnTo>
                <a:lnTo>
                  <a:pt x="68" y="222"/>
                </a:lnTo>
                <a:lnTo>
                  <a:pt x="77" y="218"/>
                </a:lnTo>
                <a:lnTo>
                  <a:pt x="85" y="212"/>
                </a:lnTo>
                <a:lnTo>
                  <a:pt x="95" y="207"/>
                </a:lnTo>
                <a:lnTo>
                  <a:pt x="105" y="202"/>
                </a:lnTo>
                <a:lnTo>
                  <a:pt x="115" y="196"/>
                </a:lnTo>
                <a:lnTo>
                  <a:pt x="126" y="192"/>
                </a:lnTo>
                <a:lnTo>
                  <a:pt x="138" y="187"/>
                </a:lnTo>
                <a:lnTo>
                  <a:pt x="149" y="181"/>
                </a:lnTo>
                <a:lnTo>
                  <a:pt x="162" y="177"/>
                </a:lnTo>
                <a:lnTo>
                  <a:pt x="175" y="172"/>
                </a:lnTo>
                <a:lnTo>
                  <a:pt x="188" y="167"/>
                </a:lnTo>
                <a:lnTo>
                  <a:pt x="202" y="162"/>
                </a:lnTo>
                <a:lnTo>
                  <a:pt x="215" y="158"/>
                </a:lnTo>
                <a:lnTo>
                  <a:pt x="230" y="152"/>
                </a:lnTo>
                <a:lnTo>
                  <a:pt x="245" y="148"/>
                </a:lnTo>
                <a:lnTo>
                  <a:pt x="260" y="143"/>
                </a:lnTo>
                <a:lnTo>
                  <a:pt x="276" y="139"/>
                </a:lnTo>
                <a:lnTo>
                  <a:pt x="292" y="134"/>
                </a:lnTo>
                <a:lnTo>
                  <a:pt x="309" y="130"/>
                </a:lnTo>
                <a:lnTo>
                  <a:pt x="326" y="126"/>
                </a:lnTo>
                <a:lnTo>
                  <a:pt x="343" y="122"/>
                </a:lnTo>
                <a:lnTo>
                  <a:pt x="362" y="117"/>
                </a:lnTo>
                <a:lnTo>
                  <a:pt x="380" y="113"/>
                </a:lnTo>
                <a:lnTo>
                  <a:pt x="399" y="109"/>
                </a:lnTo>
                <a:lnTo>
                  <a:pt x="418" y="105"/>
                </a:lnTo>
                <a:lnTo>
                  <a:pt x="437" y="100"/>
                </a:lnTo>
                <a:lnTo>
                  <a:pt x="457" y="96"/>
                </a:lnTo>
                <a:lnTo>
                  <a:pt x="478" y="93"/>
                </a:lnTo>
                <a:lnTo>
                  <a:pt x="498" y="89"/>
                </a:lnTo>
                <a:lnTo>
                  <a:pt x="519" y="85"/>
                </a:lnTo>
                <a:lnTo>
                  <a:pt x="541" y="81"/>
                </a:lnTo>
                <a:lnTo>
                  <a:pt x="562" y="78"/>
                </a:lnTo>
                <a:lnTo>
                  <a:pt x="583" y="74"/>
                </a:lnTo>
                <a:lnTo>
                  <a:pt x="606" y="70"/>
                </a:lnTo>
                <a:lnTo>
                  <a:pt x="628" y="67"/>
                </a:lnTo>
                <a:lnTo>
                  <a:pt x="652" y="64"/>
                </a:lnTo>
                <a:lnTo>
                  <a:pt x="675" y="61"/>
                </a:lnTo>
                <a:lnTo>
                  <a:pt x="698" y="58"/>
                </a:lnTo>
                <a:lnTo>
                  <a:pt x="722" y="54"/>
                </a:lnTo>
                <a:lnTo>
                  <a:pt x="746" y="51"/>
                </a:lnTo>
                <a:lnTo>
                  <a:pt x="771" y="48"/>
                </a:lnTo>
                <a:lnTo>
                  <a:pt x="796" y="45"/>
                </a:lnTo>
                <a:lnTo>
                  <a:pt x="820" y="43"/>
                </a:lnTo>
                <a:lnTo>
                  <a:pt x="846" y="39"/>
                </a:lnTo>
                <a:lnTo>
                  <a:pt x="870" y="37"/>
                </a:lnTo>
                <a:lnTo>
                  <a:pt x="897" y="34"/>
                </a:lnTo>
                <a:lnTo>
                  <a:pt x="922" y="32"/>
                </a:lnTo>
                <a:lnTo>
                  <a:pt x="948" y="30"/>
                </a:lnTo>
                <a:lnTo>
                  <a:pt x="975" y="28"/>
                </a:lnTo>
                <a:lnTo>
                  <a:pt x="1001" y="26"/>
                </a:lnTo>
                <a:lnTo>
                  <a:pt x="1028" y="23"/>
                </a:lnTo>
                <a:lnTo>
                  <a:pt x="1055" y="21"/>
                </a:lnTo>
                <a:lnTo>
                  <a:pt x="1082" y="19"/>
                </a:lnTo>
                <a:lnTo>
                  <a:pt x="1109" y="17"/>
                </a:lnTo>
                <a:lnTo>
                  <a:pt x="1137" y="16"/>
                </a:lnTo>
                <a:lnTo>
                  <a:pt x="1164" y="14"/>
                </a:lnTo>
                <a:lnTo>
                  <a:pt x="1192" y="13"/>
                </a:lnTo>
                <a:lnTo>
                  <a:pt x="1220" y="11"/>
                </a:lnTo>
                <a:lnTo>
                  <a:pt x="1249" y="10"/>
                </a:lnTo>
                <a:lnTo>
                  <a:pt x="1276" y="9"/>
                </a:lnTo>
                <a:lnTo>
                  <a:pt x="1304" y="7"/>
                </a:lnTo>
                <a:lnTo>
                  <a:pt x="1333" y="6"/>
                </a:lnTo>
                <a:lnTo>
                  <a:pt x="1362" y="5"/>
                </a:lnTo>
                <a:lnTo>
                  <a:pt x="1390" y="4"/>
                </a:lnTo>
                <a:lnTo>
                  <a:pt x="1419" y="3"/>
                </a:lnTo>
                <a:lnTo>
                  <a:pt x="1448" y="2"/>
                </a:lnTo>
                <a:lnTo>
                  <a:pt x="1477" y="2"/>
                </a:lnTo>
                <a:lnTo>
                  <a:pt x="1506" y="1"/>
                </a:lnTo>
                <a:lnTo>
                  <a:pt x="1534" y="1"/>
                </a:lnTo>
                <a:lnTo>
                  <a:pt x="1563" y="0"/>
                </a:lnTo>
                <a:lnTo>
                  <a:pt x="1592" y="0"/>
                </a:lnTo>
                <a:lnTo>
                  <a:pt x="1621" y="0"/>
                </a:lnTo>
                <a:lnTo>
                  <a:pt x="1650" y="0"/>
                </a:lnTo>
                <a:lnTo>
                  <a:pt x="1679" y="0"/>
                </a:lnTo>
                <a:lnTo>
                  <a:pt x="1708" y="0"/>
                </a:lnTo>
                <a:lnTo>
                  <a:pt x="1737" y="0"/>
                </a:lnTo>
                <a:lnTo>
                  <a:pt x="1766" y="1"/>
                </a:lnTo>
                <a:lnTo>
                  <a:pt x="1795" y="1"/>
                </a:lnTo>
                <a:lnTo>
                  <a:pt x="1823" y="1"/>
                </a:lnTo>
                <a:lnTo>
                  <a:pt x="1853" y="2"/>
                </a:lnTo>
                <a:lnTo>
                  <a:pt x="1882" y="3"/>
                </a:lnTo>
                <a:lnTo>
                  <a:pt x="1910" y="3"/>
                </a:lnTo>
                <a:lnTo>
                  <a:pt x="1939" y="4"/>
                </a:lnTo>
                <a:lnTo>
                  <a:pt x="1967" y="5"/>
                </a:lnTo>
                <a:lnTo>
                  <a:pt x="1996" y="6"/>
                </a:lnTo>
                <a:lnTo>
                  <a:pt x="2024" y="7"/>
                </a:lnTo>
                <a:lnTo>
                  <a:pt x="2053" y="9"/>
                </a:lnTo>
                <a:lnTo>
                  <a:pt x="2080" y="11"/>
                </a:lnTo>
                <a:lnTo>
                  <a:pt x="2108" y="12"/>
                </a:lnTo>
                <a:lnTo>
                  <a:pt x="2137" y="13"/>
                </a:lnTo>
                <a:lnTo>
                  <a:pt x="2165" y="15"/>
                </a:lnTo>
                <a:lnTo>
                  <a:pt x="2191" y="17"/>
                </a:lnTo>
                <a:lnTo>
                  <a:pt x="2219" y="18"/>
                </a:lnTo>
                <a:lnTo>
                  <a:pt x="2247" y="20"/>
                </a:lnTo>
                <a:lnTo>
                  <a:pt x="2273" y="22"/>
                </a:lnTo>
                <a:lnTo>
                  <a:pt x="2300" y="25"/>
                </a:lnTo>
                <a:lnTo>
                  <a:pt x="2327" y="27"/>
                </a:lnTo>
                <a:lnTo>
                  <a:pt x="2353" y="29"/>
                </a:lnTo>
                <a:lnTo>
                  <a:pt x="2380" y="31"/>
                </a:lnTo>
                <a:lnTo>
                  <a:pt x="2406" y="33"/>
                </a:lnTo>
                <a:lnTo>
                  <a:pt x="2431" y="36"/>
                </a:lnTo>
                <a:lnTo>
                  <a:pt x="2457" y="38"/>
                </a:lnTo>
                <a:lnTo>
                  <a:pt x="2482" y="42"/>
                </a:lnTo>
                <a:lnTo>
                  <a:pt x="2507" y="44"/>
                </a:lnTo>
                <a:lnTo>
                  <a:pt x="2532" y="47"/>
                </a:lnTo>
                <a:lnTo>
                  <a:pt x="2557" y="50"/>
                </a:lnTo>
                <a:lnTo>
                  <a:pt x="2580" y="52"/>
                </a:lnTo>
                <a:lnTo>
                  <a:pt x="2605" y="55"/>
                </a:lnTo>
                <a:lnTo>
                  <a:pt x="2628" y="59"/>
                </a:lnTo>
                <a:lnTo>
                  <a:pt x="2652" y="62"/>
                </a:lnTo>
                <a:lnTo>
                  <a:pt x="2674" y="65"/>
                </a:lnTo>
                <a:lnTo>
                  <a:pt x="2698" y="68"/>
                </a:lnTo>
                <a:lnTo>
                  <a:pt x="2720" y="73"/>
                </a:lnTo>
                <a:lnTo>
                  <a:pt x="2743" y="76"/>
                </a:lnTo>
                <a:lnTo>
                  <a:pt x="2764" y="79"/>
                </a:lnTo>
                <a:lnTo>
                  <a:pt x="2785" y="83"/>
                </a:lnTo>
                <a:lnTo>
                  <a:pt x="2807" y="86"/>
                </a:lnTo>
                <a:lnTo>
                  <a:pt x="2827" y="91"/>
                </a:lnTo>
                <a:lnTo>
                  <a:pt x="2847" y="95"/>
                </a:lnTo>
                <a:lnTo>
                  <a:pt x="2867" y="98"/>
                </a:lnTo>
                <a:lnTo>
                  <a:pt x="2888" y="102"/>
                </a:lnTo>
                <a:lnTo>
                  <a:pt x="2907" y="107"/>
                </a:lnTo>
                <a:lnTo>
                  <a:pt x="2925" y="111"/>
                </a:lnTo>
                <a:lnTo>
                  <a:pt x="2944" y="115"/>
                </a:lnTo>
                <a:lnTo>
                  <a:pt x="2962" y="119"/>
                </a:lnTo>
                <a:lnTo>
                  <a:pt x="2979" y="124"/>
                </a:lnTo>
                <a:lnTo>
                  <a:pt x="2997" y="128"/>
                </a:lnTo>
                <a:lnTo>
                  <a:pt x="3013" y="132"/>
                </a:lnTo>
                <a:lnTo>
                  <a:pt x="3030" y="137"/>
                </a:lnTo>
                <a:lnTo>
                  <a:pt x="3046" y="141"/>
                </a:lnTo>
                <a:lnTo>
                  <a:pt x="3062" y="146"/>
                </a:lnTo>
                <a:lnTo>
                  <a:pt x="3077" y="150"/>
                </a:lnTo>
                <a:lnTo>
                  <a:pt x="3092" y="155"/>
                </a:lnTo>
                <a:lnTo>
                  <a:pt x="3106" y="160"/>
                </a:lnTo>
                <a:lnTo>
                  <a:pt x="3120" y="164"/>
                </a:lnTo>
                <a:lnTo>
                  <a:pt x="3134" y="170"/>
                </a:lnTo>
                <a:lnTo>
                  <a:pt x="3147" y="174"/>
                </a:lnTo>
                <a:lnTo>
                  <a:pt x="3159" y="179"/>
                </a:lnTo>
                <a:lnTo>
                  <a:pt x="3171" y="184"/>
                </a:lnTo>
                <a:lnTo>
                  <a:pt x="3183" y="189"/>
                </a:lnTo>
                <a:lnTo>
                  <a:pt x="3194" y="194"/>
                </a:lnTo>
                <a:lnTo>
                  <a:pt x="3204" y="199"/>
                </a:lnTo>
                <a:lnTo>
                  <a:pt x="3215" y="205"/>
                </a:lnTo>
                <a:lnTo>
                  <a:pt x="3225" y="209"/>
                </a:lnTo>
                <a:lnTo>
                  <a:pt x="3234" y="214"/>
                </a:lnTo>
                <a:lnTo>
                  <a:pt x="3243" y="220"/>
                </a:lnTo>
                <a:lnTo>
                  <a:pt x="3251" y="225"/>
                </a:lnTo>
                <a:lnTo>
                  <a:pt x="3259" y="230"/>
                </a:lnTo>
                <a:lnTo>
                  <a:pt x="3266" y="236"/>
                </a:lnTo>
                <a:lnTo>
                  <a:pt x="3273" y="241"/>
                </a:lnTo>
                <a:lnTo>
                  <a:pt x="3279" y="246"/>
                </a:lnTo>
                <a:lnTo>
                  <a:pt x="3284" y="252"/>
                </a:lnTo>
                <a:lnTo>
                  <a:pt x="3290" y="257"/>
                </a:lnTo>
                <a:lnTo>
                  <a:pt x="3295" y="262"/>
                </a:lnTo>
                <a:lnTo>
                  <a:pt x="3299" y="268"/>
                </a:lnTo>
                <a:lnTo>
                  <a:pt x="3303" y="273"/>
                </a:lnTo>
                <a:lnTo>
                  <a:pt x="3307" y="278"/>
                </a:lnTo>
                <a:lnTo>
                  <a:pt x="3309" y="284"/>
                </a:lnTo>
                <a:lnTo>
                  <a:pt x="3311" y="289"/>
                </a:lnTo>
                <a:lnTo>
                  <a:pt x="3313" y="294"/>
                </a:lnTo>
                <a:lnTo>
                  <a:pt x="3314" y="300"/>
                </a:lnTo>
                <a:lnTo>
                  <a:pt x="3315" y="305"/>
                </a:lnTo>
                <a:lnTo>
                  <a:pt x="3315" y="310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27280" y="4459320"/>
            <a:ext cx="765360" cy="461880"/>
          </a:xfrm>
          <a:custGeom>
            <a:avLst/>
            <a:gdLst/>
            <a:ahLst/>
            <a:rect l="l" t="t" r="r" b="b"/>
            <a:pathLst>
              <a:path w="2888" h="1746">
                <a:moveTo>
                  <a:pt x="2879" y="43"/>
                </a:moveTo>
                <a:lnTo>
                  <a:pt x="2882" y="47"/>
                </a:lnTo>
                <a:lnTo>
                  <a:pt x="2885" y="52"/>
                </a:lnTo>
                <a:lnTo>
                  <a:pt x="2886" y="58"/>
                </a:lnTo>
                <a:lnTo>
                  <a:pt x="2887" y="63"/>
                </a:lnTo>
                <a:lnTo>
                  <a:pt x="2888" y="69"/>
                </a:lnTo>
                <a:lnTo>
                  <a:pt x="2888" y="75"/>
                </a:lnTo>
                <a:lnTo>
                  <a:pt x="2888" y="81"/>
                </a:lnTo>
                <a:lnTo>
                  <a:pt x="2888" y="88"/>
                </a:lnTo>
                <a:lnTo>
                  <a:pt x="2887" y="95"/>
                </a:lnTo>
                <a:lnTo>
                  <a:pt x="2885" y="101"/>
                </a:lnTo>
                <a:lnTo>
                  <a:pt x="2882" y="109"/>
                </a:lnTo>
                <a:lnTo>
                  <a:pt x="2880" y="116"/>
                </a:lnTo>
                <a:lnTo>
                  <a:pt x="2877" y="125"/>
                </a:lnTo>
                <a:lnTo>
                  <a:pt x="2874" y="132"/>
                </a:lnTo>
                <a:lnTo>
                  <a:pt x="2871" y="141"/>
                </a:lnTo>
                <a:lnTo>
                  <a:pt x="2866" y="149"/>
                </a:lnTo>
                <a:lnTo>
                  <a:pt x="2862" y="158"/>
                </a:lnTo>
                <a:lnTo>
                  <a:pt x="2857" y="167"/>
                </a:lnTo>
                <a:lnTo>
                  <a:pt x="2851" y="175"/>
                </a:lnTo>
                <a:lnTo>
                  <a:pt x="2846" y="185"/>
                </a:lnTo>
                <a:lnTo>
                  <a:pt x="2840" y="194"/>
                </a:lnTo>
                <a:lnTo>
                  <a:pt x="2832" y="204"/>
                </a:lnTo>
                <a:lnTo>
                  <a:pt x="2826" y="215"/>
                </a:lnTo>
                <a:lnTo>
                  <a:pt x="2818" y="224"/>
                </a:lnTo>
                <a:lnTo>
                  <a:pt x="2810" y="235"/>
                </a:lnTo>
                <a:lnTo>
                  <a:pt x="2801" y="245"/>
                </a:lnTo>
                <a:lnTo>
                  <a:pt x="2793" y="256"/>
                </a:lnTo>
                <a:lnTo>
                  <a:pt x="2783" y="267"/>
                </a:lnTo>
                <a:lnTo>
                  <a:pt x="2774" y="277"/>
                </a:lnTo>
                <a:lnTo>
                  <a:pt x="2764" y="289"/>
                </a:lnTo>
                <a:lnTo>
                  <a:pt x="2753" y="300"/>
                </a:lnTo>
                <a:lnTo>
                  <a:pt x="2743" y="312"/>
                </a:lnTo>
                <a:lnTo>
                  <a:pt x="2731" y="323"/>
                </a:lnTo>
                <a:lnTo>
                  <a:pt x="2719" y="336"/>
                </a:lnTo>
                <a:lnTo>
                  <a:pt x="2708" y="348"/>
                </a:lnTo>
                <a:lnTo>
                  <a:pt x="2695" y="360"/>
                </a:lnTo>
                <a:lnTo>
                  <a:pt x="2682" y="372"/>
                </a:lnTo>
                <a:lnTo>
                  <a:pt x="2669" y="385"/>
                </a:lnTo>
                <a:lnTo>
                  <a:pt x="2655" y="398"/>
                </a:lnTo>
                <a:lnTo>
                  <a:pt x="2641" y="411"/>
                </a:lnTo>
                <a:lnTo>
                  <a:pt x="2628" y="424"/>
                </a:lnTo>
                <a:lnTo>
                  <a:pt x="2613" y="436"/>
                </a:lnTo>
                <a:lnTo>
                  <a:pt x="2598" y="450"/>
                </a:lnTo>
                <a:lnTo>
                  <a:pt x="2583" y="463"/>
                </a:lnTo>
                <a:lnTo>
                  <a:pt x="2567" y="477"/>
                </a:lnTo>
                <a:lnTo>
                  <a:pt x="2551" y="491"/>
                </a:lnTo>
                <a:lnTo>
                  <a:pt x="2534" y="505"/>
                </a:lnTo>
                <a:lnTo>
                  <a:pt x="2518" y="518"/>
                </a:lnTo>
                <a:lnTo>
                  <a:pt x="2501" y="532"/>
                </a:lnTo>
                <a:lnTo>
                  <a:pt x="2483" y="546"/>
                </a:lnTo>
                <a:lnTo>
                  <a:pt x="2465" y="561"/>
                </a:lnTo>
                <a:lnTo>
                  <a:pt x="2447" y="575"/>
                </a:lnTo>
                <a:lnTo>
                  <a:pt x="2429" y="590"/>
                </a:lnTo>
                <a:lnTo>
                  <a:pt x="2410" y="604"/>
                </a:lnTo>
                <a:lnTo>
                  <a:pt x="2392" y="619"/>
                </a:lnTo>
                <a:lnTo>
                  <a:pt x="2373" y="634"/>
                </a:lnTo>
                <a:lnTo>
                  <a:pt x="2352" y="648"/>
                </a:lnTo>
                <a:lnTo>
                  <a:pt x="2333" y="662"/>
                </a:lnTo>
                <a:lnTo>
                  <a:pt x="2313" y="677"/>
                </a:lnTo>
                <a:lnTo>
                  <a:pt x="2293" y="692"/>
                </a:lnTo>
                <a:lnTo>
                  <a:pt x="2272" y="707"/>
                </a:lnTo>
                <a:lnTo>
                  <a:pt x="2251" y="722"/>
                </a:lnTo>
                <a:lnTo>
                  <a:pt x="2230" y="737"/>
                </a:lnTo>
                <a:lnTo>
                  <a:pt x="2208" y="753"/>
                </a:lnTo>
                <a:lnTo>
                  <a:pt x="2187" y="768"/>
                </a:lnTo>
                <a:lnTo>
                  <a:pt x="2166" y="783"/>
                </a:lnTo>
                <a:lnTo>
                  <a:pt x="2143" y="798"/>
                </a:lnTo>
                <a:lnTo>
                  <a:pt x="2121" y="814"/>
                </a:lnTo>
                <a:lnTo>
                  <a:pt x="2099" y="829"/>
                </a:lnTo>
                <a:lnTo>
                  <a:pt x="2076" y="844"/>
                </a:lnTo>
                <a:lnTo>
                  <a:pt x="2053" y="859"/>
                </a:lnTo>
                <a:lnTo>
                  <a:pt x="2030" y="875"/>
                </a:lnTo>
                <a:lnTo>
                  <a:pt x="2007" y="890"/>
                </a:lnTo>
                <a:lnTo>
                  <a:pt x="1983" y="905"/>
                </a:lnTo>
                <a:lnTo>
                  <a:pt x="1960" y="921"/>
                </a:lnTo>
                <a:lnTo>
                  <a:pt x="1937" y="935"/>
                </a:lnTo>
                <a:lnTo>
                  <a:pt x="1913" y="950"/>
                </a:lnTo>
                <a:lnTo>
                  <a:pt x="1889" y="966"/>
                </a:lnTo>
                <a:lnTo>
                  <a:pt x="1865" y="981"/>
                </a:lnTo>
                <a:lnTo>
                  <a:pt x="1841" y="996"/>
                </a:lnTo>
                <a:lnTo>
                  <a:pt x="1816" y="1011"/>
                </a:lnTo>
                <a:lnTo>
                  <a:pt x="1792" y="1026"/>
                </a:lnTo>
                <a:lnTo>
                  <a:pt x="1767" y="1041"/>
                </a:lnTo>
                <a:lnTo>
                  <a:pt x="1743" y="1056"/>
                </a:lnTo>
                <a:lnTo>
                  <a:pt x="1718" y="1071"/>
                </a:lnTo>
                <a:lnTo>
                  <a:pt x="1692" y="1086"/>
                </a:lnTo>
                <a:lnTo>
                  <a:pt x="1668" y="1101"/>
                </a:lnTo>
                <a:lnTo>
                  <a:pt x="1643" y="1116"/>
                </a:lnTo>
                <a:lnTo>
                  <a:pt x="1618" y="1131"/>
                </a:lnTo>
                <a:lnTo>
                  <a:pt x="1592" y="1144"/>
                </a:lnTo>
                <a:lnTo>
                  <a:pt x="1568" y="1159"/>
                </a:lnTo>
                <a:lnTo>
                  <a:pt x="1542" y="1173"/>
                </a:lnTo>
                <a:lnTo>
                  <a:pt x="1518" y="1188"/>
                </a:lnTo>
                <a:lnTo>
                  <a:pt x="1492" y="1202"/>
                </a:lnTo>
                <a:lnTo>
                  <a:pt x="1466" y="1216"/>
                </a:lnTo>
                <a:lnTo>
                  <a:pt x="1442" y="1230"/>
                </a:lnTo>
                <a:lnTo>
                  <a:pt x="1416" y="1244"/>
                </a:lnTo>
                <a:lnTo>
                  <a:pt x="1391" y="1258"/>
                </a:lnTo>
                <a:lnTo>
                  <a:pt x="1365" y="1271"/>
                </a:lnTo>
                <a:lnTo>
                  <a:pt x="1341" y="1285"/>
                </a:lnTo>
                <a:lnTo>
                  <a:pt x="1315" y="1298"/>
                </a:lnTo>
                <a:lnTo>
                  <a:pt x="1290" y="1312"/>
                </a:lnTo>
                <a:lnTo>
                  <a:pt x="1265" y="1325"/>
                </a:lnTo>
                <a:lnTo>
                  <a:pt x="1240" y="1338"/>
                </a:lnTo>
                <a:lnTo>
                  <a:pt x="1215" y="1350"/>
                </a:lnTo>
                <a:lnTo>
                  <a:pt x="1190" y="1363"/>
                </a:lnTo>
                <a:lnTo>
                  <a:pt x="1165" y="1376"/>
                </a:lnTo>
                <a:lnTo>
                  <a:pt x="1140" y="1389"/>
                </a:lnTo>
                <a:lnTo>
                  <a:pt x="1116" y="1400"/>
                </a:lnTo>
                <a:lnTo>
                  <a:pt x="1091" y="1412"/>
                </a:lnTo>
                <a:lnTo>
                  <a:pt x="1066" y="1425"/>
                </a:lnTo>
                <a:lnTo>
                  <a:pt x="1042" y="1437"/>
                </a:lnTo>
                <a:lnTo>
                  <a:pt x="1018" y="1448"/>
                </a:lnTo>
                <a:lnTo>
                  <a:pt x="994" y="1459"/>
                </a:lnTo>
                <a:lnTo>
                  <a:pt x="971" y="1471"/>
                </a:lnTo>
                <a:lnTo>
                  <a:pt x="946" y="1482"/>
                </a:lnTo>
                <a:lnTo>
                  <a:pt x="923" y="1492"/>
                </a:lnTo>
                <a:lnTo>
                  <a:pt x="899" y="1503"/>
                </a:lnTo>
                <a:lnTo>
                  <a:pt x="876" y="1513"/>
                </a:lnTo>
                <a:lnTo>
                  <a:pt x="853" y="1524"/>
                </a:lnTo>
                <a:lnTo>
                  <a:pt x="830" y="1534"/>
                </a:lnTo>
                <a:lnTo>
                  <a:pt x="807" y="1543"/>
                </a:lnTo>
                <a:lnTo>
                  <a:pt x="785" y="1554"/>
                </a:lnTo>
                <a:lnTo>
                  <a:pt x="763" y="1563"/>
                </a:lnTo>
                <a:lnTo>
                  <a:pt x="740" y="1572"/>
                </a:lnTo>
                <a:lnTo>
                  <a:pt x="718" y="1582"/>
                </a:lnTo>
                <a:lnTo>
                  <a:pt x="696" y="1590"/>
                </a:lnTo>
                <a:lnTo>
                  <a:pt x="675" y="1599"/>
                </a:lnTo>
                <a:lnTo>
                  <a:pt x="654" y="1607"/>
                </a:lnTo>
                <a:lnTo>
                  <a:pt x="632" y="1615"/>
                </a:lnTo>
                <a:lnTo>
                  <a:pt x="611" y="1623"/>
                </a:lnTo>
                <a:lnTo>
                  <a:pt x="591" y="1631"/>
                </a:lnTo>
                <a:lnTo>
                  <a:pt x="571" y="1638"/>
                </a:lnTo>
                <a:lnTo>
                  <a:pt x="550" y="1646"/>
                </a:lnTo>
                <a:lnTo>
                  <a:pt x="531" y="1652"/>
                </a:lnTo>
                <a:lnTo>
                  <a:pt x="512" y="1660"/>
                </a:lnTo>
                <a:lnTo>
                  <a:pt x="493" y="1666"/>
                </a:lnTo>
                <a:lnTo>
                  <a:pt x="474" y="1672"/>
                </a:lnTo>
                <a:lnTo>
                  <a:pt x="455" y="1678"/>
                </a:lnTo>
                <a:lnTo>
                  <a:pt x="437" y="1684"/>
                </a:lnTo>
                <a:lnTo>
                  <a:pt x="419" y="1689"/>
                </a:lnTo>
                <a:lnTo>
                  <a:pt x="401" y="1695"/>
                </a:lnTo>
                <a:lnTo>
                  <a:pt x="384" y="1700"/>
                </a:lnTo>
                <a:lnTo>
                  <a:pt x="367" y="1704"/>
                </a:lnTo>
                <a:lnTo>
                  <a:pt x="350" y="1709"/>
                </a:lnTo>
                <a:lnTo>
                  <a:pt x="334" y="1713"/>
                </a:lnTo>
                <a:lnTo>
                  <a:pt x="318" y="1717"/>
                </a:lnTo>
                <a:lnTo>
                  <a:pt x="302" y="1721"/>
                </a:lnTo>
                <a:lnTo>
                  <a:pt x="287" y="1725"/>
                </a:lnTo>
                <a:lnTo>
                  <a:pt x="272" y="1728"/>
                </a:lnTo>
                <a:lnTo>
                  <a:pt x="257" y="1731"/>
                </a:lnTo>
                <a:lnTo>
                  <a:pt x="243" y="1733"/>
                </a:lnTo>
                <a:lnTo>
                  <a:pt x="229" y="1735"/>
                </a:lnTo>
                <a:lnTo>
                  <a:pt x="216" y="1737"/>
                </a:lnTo>
                <a:lnTo>
                  <a:pt x="203" y="1740"/>
                </a:lnTo>
                <a:lnTo>
                  <a:pt x="190" y="1742"/>
                </a:lnTo>
                <a:lnTo>
                  <a:pt x="178" y="1743"/>
                </a:lnTo>
                <a:lnTo>
                  <a:pt x="165" y="1744"/>
                </a:lnTo>
                <a:lnTo>
                  <a:pt x="155" y="1745"/>
                </a:lnTo>
                <a:lnTo>
                  <a:pt x="143" y="1745"/>
                </a:lnTo>
                <a:lnTo>
                  <a:pt x="132" y="1746"/>
                </a:lnTo>
                <a:lnTo>
                  <a:pt x="122" y="1746"/>
                </a:lnTo>
                <a:lnTo>
                  <a:pt x="112" y="1746"/>
                </a:lnTo>
                <a:lnTo>
                  <a:pt x="103" y="1745"/>
                </a:lnTo>
                <a:lnTo>
                  <a:pt x="94" y="1744"/>
                </a:lnTo>
                <a:lnTo>
                  <a:pt x="84" y="1743"/>
                </a:lnTo>
                <a:lnTo>
                  <a:pt x="77" y="1742"/>
                </a:lnTo>
                <a:lnTo>
                  <a:pt x="68" y="1741"/>
                </a:lnTo>
                <a:lnTo>
                  <a:pt x="61" y="1739"/>
                </a:lnTo>
                <a:lnTo>
                  <a:pt x="55" y="1736"/>
                </a:lnTo>
                <a:lnTo>
                  <a:pt x="47" y="1734"/>
                </a:lnTo>
                <a:lnTo>
                  <a:pt x="42" y="1731"/>
                </a:lnTo>
                <a:lnTo>
                  <a:pt x="35" y="1729"/>
                </a:lnTo>
                <a:lnTo>
                  <a:pt x="30" y="1726"/>
                </a:lnTo>
                <a:lnTo>
                  <a:pt x="26" y="1723"/>
                </a:lnTo>
                <a:lnTo>
                  <a:pt x="20" y="1718"/>
                </a:lnTo>
                <a:lnTo>
                  <a:pt x="17" y="1714"/>
                </a:lnTo>
                <a:lnTo>
                  <a:pt x="13" y="1711"/>
                </a:lnTo>
                <a:lnTo>
                  <a:pt x="10" y="1705"/>
                </a:lnTo>
                <a:lnTo>
                  <a:pt x="8" y="1701"/>
                </a:lnTo>
                <a:lnTo>
                  <a:pt x="6" y="1696"/>
                </a:lnTo>
                <a:lnTo>
                  <a:pt x="3" y="1691"/>
                </a:lnTo>
                <a:lnTo>
                  <a:pt x="2" y="1685"/>
                </a:lnTo>
                <a:lnTo>
                  <a:pt x="1" y="1680"/>
                </a:lnTo>
                <a:lnTo>
                  <a:pt x="0" y="1673"/>
                </a:lnTo>
                <a:lnTo>
                  <a:pt x="0" y="1668"/>
                </a:lnTo>
                <a:lnTo>
                  <a:pt x="1" y="1662"/>
                </a:lnTo>
                <a:lnTo>
                  <a:pt x="1" y="1654"/>
                </a:lnTo>
                <a:lnTo>
                  <a:pt x="3" y="1648"/>
                </a:lnTo>
                <a:lnTo>
                  <a:pt x="4" y="1640"/>
                </a:lnTo>
                <a:lnTo>
                  <a:pt x="7" y="1633"/>
                </a:lnTo>
                <a:lnTo>
                  <a:pt x="10" y="1625"/>
                </a:lnTo>
                <a:lnTo>
                  <a:pt x="12" y="1618"/>
                </a:lnTo>
                <a:lnTo>
                  <a:pt x="16" y="1609"/>
                </a:lnTo>
                <a:lnTo>
                  <a:pt x="19" y="1601"/>
                </a:lnTo>
                <a:lnTo>
                  <a:pt x="24" y="1592"/>
                </a:lnTo>
                <a:lnTo>
                  <a:pt x="29" y="1584"/>
                </a:lnTo>
                <a:lnTo>
                  <a:pt x="34" y="1575"/>
                </a:lnTo>
                <a:lnTo>
                  <a:pt x="40" y="1566"/>
                </a:lnTo>
                <a:lnTo>
                  <a:pt x="46" y="1556"/>
                </a:lnTo>
                <a:lnTo>
                  <a:pt x="52" y="1547"/>
                </a:lnTo>
                <a:lnTo>
                  <a:pt x="59" y="1537"/>
                </a:lnTo>
                <a:lnTo>
                  <a:pt x="66" y="1527"/>
                </a:lnTo>
                <a:lnTo>
                  <a:pt x="75" y="1517"/>
                </a:lnTo>
                <a:lnTo>
                  <a:pt x="82" y="1506"/>
                </a:lnTo>
                <a:lnTo>
                  <a:pt x="91" y="1496"/>
                </a:lnTo>
                <a:lnTo>
                  <a:pt x="100" y="1485"/>
                </a:lnTo>
                <a:lnTo>
                  <a:pt x="110" y="1474"/>
                </a:lnTo>
                <a:lnTo>
                  <a:pt x="120" y="1463"/>
                </a:lnTo>
                <a:lnTo>
                  <a:pt x="129" y="1452"/>
                </a:lnTo>
                <a:lnTo>
                  <a:pt x="140" y="1440"/>
                </a:lnTo>
                <a:lnTo>
                  <a:pt x="152" y="1428"/>
                </a:lnTo>
                <a:lnTo>
                  <a:pt x="163" y="1416"/>
                </a:lnTo>
                <a:lnTo>
                  <a:pt x="175" y="1405"/>
                </a:lnTo>
                <a:lnTo>
                  <a:pt x="187" y="1392"/>
                </a:lnTo>
                <a:lnTo>
                  <a:pt x="200" y="1380"/>
                </a:lnTo>
                <a:lnTo>
                  <a:pt x="212" y="1367"/>
                </a:lnTo>
                <a:lnTo>
                  <a:pt x="226" y="1355"/>
                </a:lnTo>
                <a:lnTo>
                  <a:pt x="240" y="1342"/>
                </a:lnTo>
                <a:lnTo>
                  <a:pt x="254" y="1329"/>
                </a:lnTo>
                <a:lnTo>
                  <a:pt x="268" y="1316"/>
                </a:lnTo>
                <a:lnTo>
                  <a:pt x="283" y="1302"/>
                </a:lnTo>
                <a:lnTo>
                  <a:pt x="299" y="1290"/>
                </a:lnTo>
                <a:lnTo>
                  <a:pt x="314" y="1276"/>
                </a:lnTo>
                <a:lnTo>
                  <a:pt x="330" y="1262"/>
                </a:lnTo>
                <a:lnTo>
                  <a:pt x="346" y="1249"/>
                </a:lnTo>
                <a:lnTo>
                  <a:pt x="363" y="1235"/>
                </a:lnTo>
                <a:lnTo>
                  <a:pt x="380" y="1220"/>
                </a:lnTo>
                <a:lnTo>
                  <a:pt x="397" y="1206"/>
                </a:lnTo>
                <a:lnTo>
                  <a:pt x="414" y="1192"/>
                </a:lnTo>
                <a:lnTo>
                  <a:pt x="432" y="1179"/>
                </a:lnTo>
                <a:lnTo>
                  <a:pt x="450" y="1164"/>
                </a:lnTo>
                <a:lnTo>
                  <a:pt x="468" y="1150"/>
                </a:lnTo>
                <a:lnTo>
                  <a:pt x="487" y="1135"/>
                </a:lnTo>
                <a:lnTo>
                  <a:pt x="507" y="1120"/>
                </a:lnTo>
                <a:lnTo>
                  <a:pt x="526" y="1106"/>
                </a:lnTo>
                <a:lnTo>
                  <a:pt x="545" y="1091"/>
                </a:lnTo>
                <a:lnTo>
                  <a:pt x="565" y="1076"/>
                </a:lnTo>
                <a:lnTo>
                  <a:pt x="586" y="1061"/>
                </a:lnTo>
                <a:lnTo>
                  <a:pt x="606" y="1046"/>
                </a:lnTo>
                <a:lnTo>
                  <a:pt x="627" y="1031"/>
                </a:lnTo>
                <a:lnTo>
                  <a:pt x="647" y="1017"/>
                </a:lnTo>
                <a:lnTo>
                  <a:pt x="669" y="1002"/>
                </a:lnTo>
                <a:lnTo>
                  <a:pt x="690" y="986"/>
                </a:lnTo>
                <a:lnTo>
                  <a:pt x="712" y="971"/>
                </a:lnTo>
                <a:lnTo>
                  <a:pt x="734" y="956"/>
                </a:lnTo>
                <a:lnTo>
                  <a:pt x="756" y="941"/>
                </a:lnTo>
                <a:lnTo>
                  <a:pt x="779" y="925"/>
                </a:lnTo>
                <a:lnTo>
                  <a:pt x="801" y="910"/>
                </a:lnTo>
                <a:lnTo>
                  <a:pt x="823" y="895"/>
                </a:lnTo>
                <a:lnTo>
                  <a:pt x="847" y="879"/>
                </a:lnTo>
                <a:lnTo>
                  <a:pt x="869" y="864"/>
                </a:lnTo>
                <a:lnTo>
                  <a:pt x="893" y="849"/>
                </a:lnTo>
                <a:lnTo>
                  <a:pt x="916" y="833"/>
                </a:lnTo>
                <a:lnTo>
                  <a:pt x="940" y="818"/>
                </a:lnTo>
                <a:lnTo>
                  <a:pt x="964" y="803"/>
                </a:lnTo>
                <a:lnTo>
                  <a:pt x="988" y="788"/>
                </a:lnTo>
                <a:lnTo>
                  <a:pt x="1012" y="772"/>
                </a:lnTo>
                <a:lnTo>
                  <a:pt x="1036" y="757"/>
                </a:lnTo>
                <a:lnTo>
                  <a:pt x="1060" y="742"/>
                </a:lnTo>
                <a:lnTo>
                  <a:pt x="1085" y="728"/>
                </a:lnTo>
                <a:lnTo>
                  <a:pt x="1109" y="713"/>
                </a:lnTo>
                <a:lnTo>
                  <a:pt x="1134" y="698"/>
                </a:lnTo>
                <a:lnTo>
                  <a:pt x="1158" y="683"/>
                </a:lnTo>
                <a:lnTo>
                  <a:pt x="1183" y="668"/>
                </a:lnTo>
                <a:lnTo>
                  <a:pt x="1208" y="653"/>
                </a:lnTo>
                <a:lnTo>
                  <a:pt x="1233" y="638"/>
                </a:lnTo>
                <a:lnTo>
                  <a:pt x="1258" y="623"/>
                </a:lnTo>
                <a:lnTo>
                  <a:pt x="1283" y="609"/>
                </a:lnTo>
                <a:lnTo>
                  <a:pt x="1309" y="594"/>
                </a:lnTo>
                <a:lnTo>
                  <a:pt x="1333" y="579"/>
                </a:lnTo>
                <a:lnTo>
                  <a:pt x="1359" y="565"/>
                </a:lnTo>
                <a:lnTo>
                  <a:pt x="1384" y="552"/>
                </a:lnTo>
                <a:lnTo>
                  <a:pt x="1409" y="537"/>
                </a:lnTo>
                <a:lnTo>
                  <a:pt x="1434" y="523"/>
                </a:lnTo>
                <a:lnTo>
                  <a:pt x="1460" y="509"/>
                </a:lnTo>
                <a:lnTo>
                  <a:pt x="1484" y="495"/>
                </a:lnTo>
                <a:lnTo>
                  <a:pt x="1510" y="481"/>
                </a:lnTo>
                <a:lnTo>
                  <a:pt x="1536" y="468"/>
                </a:lnTo>
                <a:lnTo>
                  <a:pt x="1560" y="454"/>
                </a:lnTo>
                <a:lnTo>
                  <a:pt x="1586" y="441"/>
                </a:lnTo>
                <a:lnTo>
                  <a:pt x="1611" y="428"/>
                </a:lnTo>
                <a:lnTo>
                  <a:pt x="1636" y="415"/>
                </a:lnTo>
                <a:lnTo>
                  <a:pt x="1661" y="402"/>
                </a:lnTo>
                <a:lnTo>
                  <a:pt x="1686" y="389"/>
                </a:lnTo>
                <a:lnTo>
                  <a:pt x="1711" y="377"/>
                </a:lnTo>
                <a:lnTo>
                  <a:pt x="1736" y="364"/>
                </a:lnTo>
                <a:lnTo>
                  <a:pt x="1761" y="352"/>
                </a:lnTo>
                <a:lnTo>
                  <a:pt x="1785" y="339"/>
                </a:lnTo>
                <a:lnTo>
                  <a:pt x="1810" y="328"/>
                </a:lnTo>
                <a:lnTo>
                  <a:pt x="1834" y="316"/>
                </a:lnTo>
                <a:lnTo>
                  <a:pt x="1858" y="304"/>
                </a:lnTo>
                <a:lnTo>
                  <a:pt x="1882" y="292"/>
                </a:lnTo>
                <a:lnTo>
                  <a:pt x="1907" y="281"/>
                </a:lnTo>
                <a:lnTo>
                  <a:pt x="1930" y="270"/>
                </a:lnTo>
                <a:lnTo>
                  <a:pt x="1954" y="259"/>
                </a:lnTo>
                <a:lnTo>
                  <a:pt x="1977" y="249"/>
                </a:lnTo>
                <a:lnTo>
                  <a:pt x="2001" y="238"/>
                </a:lnTo>
                <a:lnTo>
                  <a:pt x="2024" y="227"/>
                </a:lnTo>
                <a:lnTo>
                  <a:pt x="2047" y="218"/>
                </a:lnTo>
                <a:lnTo>
                  <a:pt x="2070" y="207"/>
                </a:lnTo>
                <a:lnTo>
                  <a:pt x="2092" y="197"/>
                </a:lnTo>
                <a:lnTo>
                  <a:pt x="2115" y="188"/>
                </a:lnTo>
                <a:lnTo>
                  <a:pt x="2137" y="178"/>
                </a:lnTo>
                <a:lnTo>
                  <a:pt x="2159" y="170"/>
                </a:lnTo>
                <a:lnTo>
                  <a:pt x="2181" y="160"/>
                </a:lnTo>
                <a:lnTo>
                  <a:pt x="2203" y="152"/>
                </a:lnTo>
                <a:lnTo>
                  <a:pt x="2224" y="143"/>
                </a:lnTo>
                <a:lnTo>
                  <a:pt x="2246" y="135"/>
                </a:lnTo>
                <a:lnTo>
                  <a:pt x="2266" y="127"/>
                </a:lnTo>
                <a:lnTo>
                  <a:pt x="2287" y="120"/>
                </a:lnTo>
                <a:lnTo>
                  <a:pt x="2308" y="112"/>
                </a:lnTo>
                <a:lnTo>
                  <a:pt x="2328" y="105"/>
                </a:lnTo>
                <a:lnTo>
                  <a:pt x="2347" y="97"/>
                </a:lnTo>
                <a:lnTo>
                  <a:pt x="2367" y="91"/>
                </a:lnTo>
                <a:lnTo>
                  <a:pt x="2387" y="83"/>
                </a:lnTo>
                <a:lnTo>
                  <a:pt x="2405" y="77"/>
                </a:lnTo>
                <a:lnTo>
                  <a:pt x="2424" y="72"/>
                </a:lnTo>
                <a:lnTo>
                  <a:pt x="2442" y="65"/>
                </a:lnTo>
                <a:lnTo>
                  <a:pt x="2460" y="60"/>
                </a:lnTo>
                <a:lnTo>
                  <a:pt x="2478" y="55"/>
                </a:lnTo>
                <a:lnTo>
                  <a:pt x="2495" y="49"/>
                </a:lnTo>
                <a:lnTo>
                  <a:pt x="2512" y="44"/>
                </a:lnTo>
                <a:lnTo>
                  <a:pt x="2529" y="40"/>
                </a:lnTo>
                <a:lnTo>
                  <a:pt x="2546" y="35"/>
                </a:lnTo>
                <a:lnTo>
                  <a:pt x="2562" y="31"/>
                </a:lnTo>
                <a:lnTo>
                  <a:pt x="2578" y="27"/>
                </a:lnTo>
                <a:lnTo>
                  <a:pt x="2593" y="24"/>
                </a:lnTo>
                <a:lnTo>
                  <a:pt x="2608" y="20"/>
                </a:lnTo>
                <a:lnTo>
                  <a:pt x="2623" y="17"/>
                </a:lnTo>
                <a:lnTo>
                  <a:pt x="2638" y="14"/>
                </a:lnTo>
                <a:lnTo>
                  <a:pt x="2652" y="12"/>
                </a:lnTo>
                <a:lnTo>
                  <a:pt x="2666" y="10"/>
                </a:lnTo>
                <a:lnTo>
                  <a:pt x="2679" y="8"/>
                </a:lnTo>
                <a:lnTo>
                  <a:pt x="2692" y="6"/>
                </a:lnTo>
                <a:lnTo>
                  <a:pt x="2704" y="4"/>
                </a:lnTo>
                <a:lnTo>
                  <a:pt x="2716" y="2"/>
                </a:lnTo>
                <a:lnTo>
                  <a:pt x="2728" y="1"/>
                </a:lnTo>
                <a:lnTo>
                  <a:pt x="2739" y="1"/>
                </a:lnTo>
                <a:lnTo>
                  <a:pt x="2750" y="0"/>
                </a:lnTo>
                <a:lnTo>
                  <a:pt x="2761" y="0"/>
                </a:lnTo>
                <a:lnTo>
                  <a:pt x="2771" y="0"/>
                </a:lnTo>
                <a:lnTo>
                  <a:pt x="2781" y="1"/>
                </a:lnTo>
                <a:lnTo>
                  <a:pt x="2791" y="1"/>
                </a:lnTo>
                <a:lnTo>
                  <a:pt x="2799" y="2"/>
                </a:lnTo>
                <a:lnTo>
                  <a:pt x="2808" y="3"/>
                </a:lnTo>
                <a:lnTo>
                  <a:pt x="2816" y="4"/>
                </a:lnTo>
                <a:lnTo>
                  <a:pt x="2824" y="7"/>
                </a:lnTo>
                <a:lnTo>
                  <a:pt x="2831" y="9"/>
                </a:lnTo>
                <a:lnTo>
                  <a:pt x="2838" y="11"/>
                </a:lnTo>
                <a:lnTo>
                  <a:pt x="2844" y="13"/>
                </a:lnTo>
                <a:lnTo>
                  <a:pt x="2850" y="16"/>
                </a:lnTo>
                <a:lnTo>
                  <a:pt x="2856" y="19"/>
                </a:lnTo>
                <a:lnTo>
                  <a:pt x="2861" y="23"/>
                </a:lnTo>
                <a:lnTo>
                  <a:pt x="2865" y="26"/>
                </a:lnTo>
                <a:lnTo>
                  <a:pt x="2870" y="30"/>
                </a:lnTo>
                <a:lnTo>
                  <a:pt x="2874" y="33"/>
                </a:lnTo>
                <a:lnTo>
                  <a:pt x="2877" y="38"/>
                </a:lnTo>
                <a:lnTo>
                  <a:pt x="2879" y="43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30560" y="3770280"/>
            <a:ext cx="765000" cy="461880"/>
          </a:xfrm>
          <a:custGeom>
            <a:avLst/>
            <a:gdLst/>
            <a:ahLst/>
            <a:rect l="l" t="t" r="r" b="b"/>
            <a:pathLst>
              <a:path w="2887" h="1745">
                <a:moveTo>
                  <a:pt x="2879" y="42"/>
                </a:moveTo>
                <a:lnTo>
                  <a:pt x="2882" y="47"/>
                </a:lnTo>
                <a:lnTo>
                  <a:pt x="2884" y="52"/>
                </a:lnTo>
                <a:lnTo>
                  <a:pt x="2885" y="58"/>
                </a:lnTo>
                <a:lnTo>
                  <a:pt x="2886" y="63"/>
                </a:lnTo>
                <a:lnTo>
                  <a:pt x="2887" y="68"/>
                </a:lnTo>
                <a:lnTo>
                  <a:pt x="2887" y="75"/>
                </a:lnTo>
                <a:lnTo>
                  <a:pt x="2887" y="81"/>
                </a:lnTo>
                <a:lnTo>
                  <a:pt x="2886" y="88"/>
                </a:lnTo>
                <a:lnTo>
                  <a:pt x="2885" y="94"/>
                </a:lnTo>
                <a:lnTo>
                  <a:pt x="2884" y="101"/>
                </a:lnTo>
                <a:lnTo>
                  <a:pt x="2882" y="109"/>
                </a:lnTo>
                <a:lnTo>
                  <a:pt x="2880" y="116"/>
                </a:lnTo>
                <a:lnTo>
                  <a:pt x="2877" y="124"/>
                </a:lnTo>
                <a:lnTo>
                  <a:pt x="2874" y="131"/>
                </a:lnTo>
                <a:lnTo>
                  <a:pt x="2870" y="140"/>
                </a:lnTo>
                <a:lnTo>
                  <a:pt x="2866" y="148"/>
                </a:lnTo>
                <a:lnTo>
                  <a:pt x="2862" y="157"/>
                </a:lnTo>
                <a:lnTo>
                  <a:pt x="2857" y="165"/>
                </a:lnTo>
                <a:lnTo>
                  <a:pt x="2851" y="175"/>
                </a:lnTo>
                <a:lnTo>
                  <a:pt x="2845" y="185"/>
                </a:lnTo>
                <a:lnTo>
                  <a:pt x="2839" y="194"/>
                </a:lnTo>
                <a:lnTo>
                  <a:pt x="2832" y="204"/>
                </a:lnTo>
                <a:lnTo>
                  <a:pt x="2826" y="213"/>
                </a:lnTo>
                <a:lnTo>
                  <a:pt x="2817" y="223"/>
                </a:lnTo>
                <a:lnTo>
                  <a:pt x="2810" y="234"/>
                </a:lnTo>
                <a:lnTo>
                  <a:pt x="2801" y="244"/>
                </a:lnTo>
                <a:lnTo>
                  <a:pt x="2793" y="255"/>
                </a:lnTo>
                <a:lnTo>
                  <a:pt x="2783" y="266"/>
                </a:lnTo>
                <a:lnTo>
                  <a:pt x="2773" y="277"/>
                </a:lnTo>
                <a:lnTo>
                  <a:pt x="2764" y="288"/>
                </a:lnTo>
                <a:lnTo>
                  <a:pt x="2753" y="300"/>
                </a:lnTo>
                <a:lnTo>
                  <a:pt x="2742" y="312"/>
                </a:lnTo>
                <a:lnTo>
                  <a:pt x="2731" y="323"/>
                </a:lnTo>
                <a:lnTo>
                  <a:pt x="2719" y="335"/>
                </a:lnTo>
                <a:lnTo>
                  <a:pt x="2707" y="347"/>
                </a:lnTo>
                <a:lnTo>
                  <a:pt x="2694" y="360"/>
                </a:lnTo>
                <a:lnTo>
                  <a:pt x="2682" y="372"/>
                </a:lnTo>
                <a:lnTo>
                  <a:pt x="2669" y="384"/>
                </a:lnTo>
                <a:lnTo>
                  <a:pt x="2655" y="397"/>
                </a:lnTo>
                <a:lnTo>
                  <a:pt x="2641" y="410"/>
                </a:lnTo>
                <a:lnTo>
                  <a:pt x="2627" y="424"/>
                </a:lnTo>
                <a:lnTo>
                  <a:pt x="2612" y="436"/>
                </a:lnTo>
                <a:lnTo>
                  <a:pt x="2597" y="449"/>
                </a:lnTo>
                <a:lnTo>
                  <a:pt x="2582" y="463"/>
                </a:lnTo>
                <a:lnTo>
                  <a:pt x="2566" y="477"/>
                </a:lnTo>
                <a:lnTo>
                  <a:pt x="2550" y="490"/>
                </a:lnTo>
                <a:lnTo>
                  <a:pt x="2533" y="503"/>
                </a:lnTo>
                <a:lnTo>
                  <a:pt x="2517" y="517"/>
                </a:lnTo>
                <a:lnTo>
                  <a:pt x="2500" y="532"/>
                </a:lnTo>
                <a:lnTo>
                  <a:pt x="2482" y="546"/>
                </a:lnTo>
                <a:lnTo>
                  <a:pt x="2465" y="560"/>
                </a:lnTo>
                <a:lnTo>
                  <a:pt x="2447" y="575"/>
                </a:lnTo>
                <a:lnTo>
                  <a:pt x="2429" y="589"/>
                </a:lnTo>
                <a:lnTo>
                  <a:pt x="2410" y="604"/>
                </a:lnTo>
                <a:lnTo>
                  <a:pt x="2391" y="618"/>
                </a:lnTo>
                <a:lnTo>
                  <a:pt x="2371" y="633"/>
                </a:lnTo>
                <a:lnTo>
                  <a:pt x="2352" y="647"/>
                </a:lnTo>
                <a:lnTo>
                  <a:pt x="2333" y="662"/>
                </a:lnTo>
                <a:lnTo>
                  <a:pt x="2313" y="677"/>
                </a:lnTo>
                <a:lnTo>
                  <a:pt x="2292" y="692"/>
                </a:lnTo>
                <a:lnTo>
                  <a:pt x="2271" y="707"/>
                </a:lnTo>
                <a:lnTo>
                  <a:pt x="2251" y="722"/>
                </a:lnTo>
                <a:lnTo>
                  <a:pt x="2230" y="737"/>
                </a:lnTo>
                <a:lnTo>
                  <a:pt x="2208" y="752"/>
                </a:lnTo>
                <a:lnTo>
                  <a:pt x="2187" y="767"/>
                </a:lnTo>
                <a:lnTo>
                  <a:pt x="2164" y="782"/>
                </a:lnTo>
                <a:lnTo>
                  <a:pt x="2143" y="798"/>
                </a:lnTo>
                <a:lnTo>
                  <a:pt x="2121" y="813"/>
                </a:lnTo>
                <a:lnTo>
                  <a:pt x="2098" y="828"/>
                </a:lnTo>
                <a:lnTo>
                  <a:pt x="2076" y="844"/>
                </a:lnTo>
                <a:lnTo>
                  <a:pt x="2053" y="859"/>
                </a:lnTo>
                <a:lnTo>
                  <a:pt x="2030" y="874"/>
                </a:lnTo>
                <a:lnTo>
                  <a:pt x="2007" y="890"/>
                </a:lnTo>
                <a:lnTo>
                  <a:pt x="1983" y="904"/>
                </a:lnTo>
                <a:lnTo>
                  <a:pt x="1960" y="919"/>
                </a:lnTo>
                <a:lnTo>
                  <a:pt x="1936" y="934"/>
                </a:lnTo>
                <a:lnTo>
                  <a:pt x="1913" y="950"/>
                </a:lnTo>
                <a:lnTo>
                  <a:pt x="1888" y="965"/>
                </a:lnTo>
                <a:lnTo>
                  <a:pt x="1864" y="980"/>
                </a:lnTo>
                <a:lnTo>
                  <a:pt x="1840" y="995"/>
                </a:lnTo>
                <a:lnTo>
                  <a:pt x="1816" y="1011"/>
                </a:lnTo>
                <a:lnTo>
                  <a:pt x="1791" y="1026"/>
                </a:lnTo>
                <a:lnTo>
                  <a:pt x="1767" y="1041"/>
                </a:lnTo>
                <a:lnTo>
                  <a:pt x="1742" y="1056"/>
                </a:lnTo>
                <a:lnTo>
                  <a:pt x="1717" y="1071"/>
                </a:lnTo>
                <a:lnTo>
                  <a:pt x="1692" y="1086"/>
                </a:lnTo>
                <a:lnTo>
                  <a:pt x="1668" y="1101"/>
                </a:lnTo>
                <a:lnTo>
                  <a:pt x="1642" y="1115"/>
                </a:lnTo>
                <a:lnTo>
                  <a:pt x="1617" y="1130"/>
                </a:lnTo>
                <a:lnTo>
                  <a:pt x="1592" y="1144"/>
                </a:lnTo>
                <a:lnTo>
                  <a:pt x="1567" y="1158"/>
                </a:lnTo>
                <a:lnTo>
                  <a:pt x="1542" y="1173"/>
                </a:lnTo>
                <a:lnTo>
                  <a:pt x="1516" y="1187"/>
                </a:lnTo>
                <a:lnTo>
                  <a:pt x="1492" y="1202"/>
                </a:lnTo>
                <a:lnTo>
                  <a:pt x="1466" y="1216"/>
                </a:lnTo>
                <a:lnTo>
                  <a:pt x="1440" y="1230"/>
                </a:lnTo>
                <a:lnTo>
                  <a:pt x="1416" y="1244"/>
                </a:lnTo>
                <a:lnTo>
                  <a:pt x="1390" y="1257"/>
                </a:lnTo>
                <a:lnTo>
                  <a:pt x="1365" y="1271"/>
                </a:lnTo>
                <a:lnTo>
                  <a:pt x="1340" y="1284"/>
                </a:lnTo>
                <a:lnTo>
                  <a:pt x="1315" y="1298"/>
                </a:lnTo>
                <a:lnTo>
                  <a:pt x="1289" y="1311"/>
                </a:lnTo>
                <a:lnTo>
                  <a:pt x="1265" y="1325"/>
                </a:lnTo>
                <a:lnTo>
                  <a:pt x="1239" y="1337"/>
                </a:lnTo>
                <a:lnTo>
                  <a:pt x="1214" y="1350"/>
                </a:lnTo>
                <a:lnTo>
                  <a:pt x="1190" y="1363"/>
                </a:lnTo>
                <a:lnTo>
                  <a:pt x="1164" y="1376"/>
                </a:lnTo>
                <a:lnTo>
                  <a:pt x="1140" y="1388"/>
                </a:lnTo>
                <a:lnTo>
                  <a:pt x="1115" y="1400"/>
                </a:lnTo>
                <a:lnTo>
                  <a:pt x="1091" y="1412"/>
                </a:lnTo>
                <a:lnTo>
                  <a:pt x="1066" y="1424"/>
                </a:lnTo>
                <a:lnTo>
                  <a:pt x="1042" y="1436"/>
                </a:lnTo>
                <a:lnTo>
                  <a:pt x="1018" y="1447"/>
                </a:lnTo>
                <a:lnTo>
                  <a:pt x="994" y="1459"/>
                </a:lnTo>
                <a:lnTo>
                  <a:pt x="969" y="1470"/>
                </a:lnTo>
                <a:lnTo>
                  <a:pt x="946" y="1481"/>
                </a:lnTo>
                <a:lnTo>
                  <a:pt x="922" y="1492"/>
                </a:lnTo>
                <a:lnTo>
                  <a:pt x="899" y="1503"/>
                </a:lnTo>
                <a:lnTo>
                  <a:pt x="875" y="1513"/>
                </a:lnTo>
                <a:lnTo>
                  <a:pt x="852" y="1523"/>
                </a:lnTo>
                <a:lnTo>
                  <a:pt x="829" y="1534"/>
                </a:lnTo>
                <a:lnTo>
                  <a:pt x="807" y="1543"/>
                </a:lnTo>
                <a:lnTo>
                  <a:pt x="784" y="1553"/>
                </a:lnTo>
                <a:lnTo>
                  <a:pt x="761" y="1562"/>
                </a:lnTo>
                <a:lnTo>
                  <a:pt x="740" y="1572"/>
                </a:lnTo>
                <a:lnTo>
                  <a:pt x="718" y="1581"/>
                </a:lnTo>
                <a:lnTo>
                  <a:pt x="696" y="1589"/>
                </a:lnTo>
                <a:lnTo>
                  <a:pt x="674" y="1598"/>
                </a:lnTo>
                <a:lnTo>
                  <a:pt x="654" y="1606"/>
                </a:lnTo>
                <a:lnTo>
                  <a:pt x="632" y="1615"/>
                </a:lnTo>
                <a:lnTo>
                  <a:pt x="611" y="1622"/>
                </a:lnTo>
                <a:lnTo>
                  <a:pt x="591" y="1630"/>
                </a:lnTo>
                <a:lnTo>
                  <a:pt x="570" y="1637"/>
                </a:lnTo>
                <a:lnTo>
                  <a:pt x="550" y="1645"/>
                </a:lnTo>
                <a:lnTo>
                  <a:pt x="531" y="1652"/>
                </a:lnTo>
                <a:lnTo>
                  <a:pt x="512" y="1658"/>
                </a:lnTo>
                <a:lnTo>
                  <a:pt x="493" y="1665"/>
                </a:lnTo>
                <a:lnTo>
                  <a:pt x="473" y="1671"/>
                </a:lnTo>
                <a:lnTo>
                  <a:pt x="455" y="1678"/>
                </a:lnTo>
                <a:lnTo>
                  <a:pt x="436" y="1683"/>
                </a:lnTo>
                <a:lnTo>
                  <a:pt x="419" y="1688"/>
                </a:lnTo>
                <a:lnTo>
                  <a:pt x="401" y="1694"/>
                </a:lnTo>
                <a:lnTo>
                  <a:pt x="384" y="1699"/>
                </a:lnTo>
                <a:lnTo>
                  <a:pt x="367" y="1703"/>
                </a:lnTo>
                <a:lnTo>
                  <a:pt x="350" y="1709"/>
                </a:lnTo>
                <a:lnTo>
                  <a:pt x="334" y="1713"/>
                </a:lnTo>
                <a:lnTo>
                  <a:pt x="318" y="1716"/>
                </a:lnTo>
                <a:lnTo>
                  <a:pt x="302" y="1720"/>
                </a:lnTo>
                <a:lnTo>
                  <a:pt x="287" y="1724"/>
                </a:lnTo>
                <a:lnTo>
                  <a:pt x="272" y="1727"/>
                </a:lnTo>
                <a:lnTo>
                  <a:pt x="257" y="1730"/>
                </a:lnTo>
                <a:lnTo>
                  <a:pt x="243" y="1733"/>
                </a:lnTo>
                <a:lnTo>
                  <a:pt x="229" y="1735"/>
                </a:lnTo>
                <a:lnTo>
                  <a:pt x="215" y="1737"/>
                </a:lnTo>
                <a:lnTo>
                  <a:pt x="203" y="1740"/>
                </a:lnTo>
                <a:lnTo>
                  <a:pt x="190" y="1741"/>
                </a:lnTo>
                <a:lnTo>
                  <a:pt x="178" y="1743"/>
                </a:lnTo>
                <a:lnTo>
                  <a:pt x="165" y="1744"/>
                </a:lnTo>
                <a:lnTo>
                  <a:pt x="155" y="1744"/>
                </a:lnTo>
                <a:lnTo>
                  <a:pt x="143" y="1745"/>
                </a:lnTo>
                <a:lnTo>
                  <a:pt x="132" y="1745"/>
                </a:lnTo>
                <a:lnTo>
                  <a:pt x="121" y="1745"/>
                </a:lnTo>
                <a:lnTo>
                  <a:pt x="112" y="1745"/>
                </a:lnTo>
                <a:lnTo>
                  <a:pt x="102" y="1745"/>
                </a:lnTo>
                <a:lnTo>
                  <a:pt x="93" y="1744"/>
                </a:lnTo>
                <a:lnTo>
                  <a:pt x="84" y="1743"/>
                </a:lnTo>
                <a:lnTo>
                  <a:pt x="76" y="1742"/>
                </a:lnTo>
                <a:lnTo>
                  <a:pt x="68" y="1740"/>
                </a:lnTo>
                <a:lnTo>
                  <a:pt x="61" y="1738"/>
                </a:lnTo>
                <a:lnTo>
                  <a:pt x="53" y="1736"/>
                </a:lnTo>
                <a:lnTo>
                  <a:pt x="47" y="1733"/>
                </a:lnTo>
                <a:lnTo>
                  <a:pt x="40" y="1731"/>
                </a:lnTo>
                <a:lnTo>
                  <a:pt x="35" y="1728"/>
                </a:lnTo>
                <a:lnTo>
                  <a:pt x="30" y="1725"/>
                </a:lnTo>
                <a:lnTo>
                  <a:pt x="24" y="1721"/>
                </a:lnTo>
                <a:lnTo>
                  <a:pt x="20" y="1718"/>
                </a:lnTo>
                <a:lnTo>
                  <a:pt x="16" y="1714"/>
                </a:lnTo>
                <a:lnTo>
                  <a:pt x="13" y="1710"/>
                </a:lnTo>
                <a:lnTo>
                  <a:pt x="10" y="1705"/>
                </a:lnTo>
                <a:lnTo>
                  <a:pt x="7" y="1700"/>
                </a:lnTo>
                <a:lnTo>
                  <a:pt x="4" y="1696"/>
                </a:lnTo>
                <a:lnTo>
                  <a:pt x="3" y="1690"/>
                </a:lnTo>
                <a:lnTo>
                  <a:pt x="1" y="1685"/>
                </a:lnTo>
                <a:lnTo>
                  <a:pt x="1" y="1680"/>
                </a:lnTo>
                <a:lnTo>
                  <a:pt x="0" y="1673"/>
                </a:lnTo>
                <a:lnTo>
                  <a:pt x="0" y="1667"/>
                </a:lnTo>
                <a:lnTo>
                  <a:pt x="0" y="1661"/>
                </a:lnTo>
                <a:lnTo>
                  <a:pt x="1" y="1654"/>
                </a:lnTo>
                <a:lnTo>
                  <a:pt x="2" y="1647"/>
                </a:lnTo>
                <a:lnTo>
                  <a:pt x="4" y="1640"/>
                </a:lnTo>
                <a:lnTo>
                  <a:pt x="6" y="1633"/>
                </a:lnTo>
                <a:lnTo>
                  <a:pt x="8" y="1625"/>
                </a:lnTo>
                <a:lnTo>
                  <a:pt x="12" y="1617"/>
                </a:lnTo>
                <a:lnTo>
                  <a:pt x="16" y="1609"/>
                </a:lnTo>
                <a:lnTo>
                  <a:pt x="19" y="1601"/>
                </a:lnTo>
                <a:lnTo>
                  <a:pt x="23" y="1592"/>
                </a:lnTo>
                <a:lnTo>
                  <a:pt x="29" y="1584"/>
                </a:lnTo>
                <a:lnTo>
                  <a:pt x="34" y="1574"/>
                </a:lnTo>
                <a:lnTo>
                  <a:pt x="39" y="1566"/>
                </a:lnTo>
                <a:lnTo>
                  <a:pt x="46" y="1556"/>
                </a:lnTo>
                <a:lnTo>
                  <a:pt x="52" y="1547"/>
                </a:lnTo>
                <a:lnTo>
                  <a:pt x="59" y="1537"/>
                </a:lnTo>
                <a:lnTo>
                  <a:pt x="66" y="1526"/>
                </a:lnTo>
                <a:lnTo>
                  <a:pt x="73" y="1517"/>
                </a:lnTo>
                <a:lnTo>
                  <a:pt x="82" y="1506"/>
                </a:lnTo>
                <a:lnTo>
                  <a:pt x="91" y="1495"/>
                </a:lnTo>
                <a:lnTo>
                  <a:pt x="100" y="1485"/>
                </a:lnTo>
                <a:lnTo>
                  <a:pt x="109" y="1474"/>
                </a:lnTo>
                <a:lnTo>
                  <a:pt x="119" y="1462"/>
                </a:lnTo>
                <a:lnTo>
                  <a:pt x="129" y="1451"/>
                </a:lnTo>
                <a:lnTo>
                  <a:pt x="140" y="1440"/>
                </a:lnTo>
                <a:lnTo>
                  <a:pt x="151" y="1428"/>
                </a:lnTo>
                <a:lnTo>
                  <a:pt x="162" y="1416"/>
                </a:lnTo>
                <a:lnTo>
                  <a:pt x="174" y="1404"/>
                </a:lnTo>
                <a:lnTo>
                  <a:pt x="187" y="1392"/>
                </a:lnTo>
                <a:lnTo>
                  <a:pt x="199" y="1379"/>
                </a:lnTo>
                <a:lnTo>
                  <a:pt x="212" y="1367"/>
                </a:lnTo>
                <a:lnTo>
                  <a:pt x="225" y="1355"/>
                </a:lnTo>
                <a:lnTo>
                  <a:pt x="239" y="1342"/>
                </a:lnTo>
                <a:lnTo>
                  <a:pt x="254" y="1329"/>
                </a:lnTo>
                <a:lnTo>
                  <a:pt x="268" y="1315"/>
                </a:lnTo>
                <a:lnTo>
                  <a:pt x="282" y="1302"/>
                </a:lnTo>
                <a:lnTo>
                  <a:pt x="297" y="1288"/>
                </a:lnTo>
                <a:lnTo>
                  <a:pt x="313" y="1276"/>
                </a:lnTo>
                <a:lnTo>
                  <a:pt x="329" y="1262"/>
                </a:lnTo>
                <a:lnTo>
                  <a:pt x="345" y="1248"/>
                </a:lnTo>
                <a:lnTo>
                  <a:pt x="362" y="1234"/>
                </a:lnTo>
                <a:lnTo>
                  <a:pt x="378" y="1220"/>
                </a:lnTo>
                <a:lnTo>
                  <a:pt x="397" y="1206"/>
                </a:lnTo>
                <a:lnTo>
                  <a:pt x="414" y="1191"/>
                </a:lnTo>
                <a:lnTo>
                  <a:pt x="432" y="1178"/>
                </a:lnTo>
                <a:lnTo>
                  <a:pt x="450" y="1164"/>
                </a:lnTo>
                <a:lnTo>
                  <a:pt x="468" y="1149"/>
                </a:lnTo>
                <a:lnTo>
                  <a:pt x="487" y="1134"/>
                </a:lnTo>
                <a:lnTo>
                  <a:pt x="506" y="1120"/>
                </a:lnTo>
                <a:lnTo>
                  <a:pt x="526" y="1105"/>
                </a:lnTo>
                <a:lnTo>
                  <a:pt x="545" y="1090"/>
                </a:lnTo>
                <a:lnTo>
                  <a:pt x="565" y="1075"/>
                </a:lnTo>
                <a:lnTo>
                  <a:pt x="585" y="1060"/>
                </a:lnTo>
                <a:lnTo>
                  <a:pt x="606" y="1045"/>
                </a:lnTo>
                <a:lnTo>
                  <a:pt x="626" y="1030"/>
                </a:lnTo>
                <a:lnTo>
                  <a:pt x="647" y="1015"/>
                </a:lnTo>
                <a:lnTo>
                  <a:pt x="668" y="1000"/>
                </a:lnTo>
                <a:lnTo>
                  <a:pt x="690" y="986"/>
                </a:lnTo>
                <a:lnTo>
                  <a:pt x="711" y="971"/>
                </a:lnTo>
                <a:lnTo>
                  <a:pt x="734" y="955"/>
                </a:lnTo>
                <a:lnTo>
                  <a:pt x="756" y="940"/>
                </a:lnTo>
                <a:lnTo>
                  <a:pt x="778" y="925"/>
                </a:lnTo>
                <a:lnTo>
                  <a:pt x="801" y="909"/>
                </a:lnTo>
                <a:lnTo>
                  <a:pt x="823" y="894"/>
                </a:lnTo>
                <a:lnTo>
                  <a:pt x="847" y="879"/>
                </a:lnTo>
                <a:lnTo>
                  <a:pt x="869" y="864"/>
                </a:lnTo>
                <a:lnTo>
                  <a:pt x="892" y="848"/>
                </a:lnTo>
                <a:lnTo>
                  <a:pt x="916" y="833"/>
                </a:lnTo>
                <a:lnTo>
                  <a:pt x="939" y="818"/>
                </a:lnTo>
                <a:lnTo>
                  <a:pt x="963" y="802"/>
                </a:lnTo>
                <a:lnTo>
                  <a:pt x="987" y="787"/>
                </a:lnTo>
                <a:lnTo>
                  <a:pt x="1011" y="772"/>
                </a:lnTo>
                <a:lnTo>
                  <a:pt x="1035" y="757"/>
                </a:lnTo>
                <a:lnTo>
                  <a:pt x="1060" y="741"/>
                </a:lnTo>
                <a:lnTo>
                  <a:pt x="1084" y="726"/>
                </a:lnTo>
                <a:lnTo>
                  <a:pt x="1109" y="711"/>
                </a:lnTo>
                <a:lnTo>
                  <a:pt x="1133" y="697"/>
                </a:lnTo>
                <a:lnTo>
                  <a:pt x="1158" y="682"/>
                </a:lnTo>
                <a:lnTo>
                  <a:pt x="1182" y="667"/>
                </a:lnTo>
                <a:lnTo>
                  <a:pt x="1208" y="652"/>
                </a:lnTo>
                <a:lnTo>
                  <a:pt x="1233" y="637"/>
                </a:lnTo>
                <a:lnTo>
                  <a:pt x="1258" y="623"/>
                </a:lnTo>
                <a:lnTo>
                  <a:pt x="1283" y="608"/>
                </a:lnTo>
                <a:lnTo>
                  <a:pt x="1308" y="593"/>
                </a:lnTo>
                <a:lnTo>
                  <a:pt x="1333" y="579"/>
                </a:lnTo>
                <a:lnTo>
                  <a:pt x="1358" y="564"/>
                </a:lnTo>
                <a:lnTo>
                  <a:pt x="1384" y="550"/>
                </a:lnTo>
                <a:lnTo>
                  <a:pt x="1408" y="537"/>
                </a:lnTo>
                <a:lnTo>
                  <a:pt x="1434" y="523"/>
                </a:lnTo>
                <a:lnTo>
                  <a:pt x="1460" y="509"/>
                </a:lnTo>
                <a:lnTo>
                  <a:pt x="1484" y="495"/>
                </a:lnTo>
                <a:lnTo>
                  <a:pt x="1510" y="481"/>
                </a:lnTo>
                <a:lnTo>
                  <a:pt x="1535" y="467"/>
                </a:lnTo>
                <a:lnTo>
                  <a:pt x="1560" y="453"/>
                </a:lnTo>
                <a:lnTo>
                  <a:pt x="1585" y="441"/>
                </a:lnTo>
                <a:lnTo>
                  <a:pt x="1610" y="428"/>
                </a:lnTo>
                <a:lnTo>
                  <a:pt x="1636" y="414"/>
                </a:lnTo>
                <a:lnTo>
                  <a:pt x="1660" y="401"/>
                </a:lnTo>
                <a:lnTo>
                  <a:pt x="1686" y="388"/>
                </a:lnTo>
                <a:lnTo>
                  <a:pt x="1710" y="376"/>
                </a:lnTo>
                <a:lnTo>
                  <a:pt x="1735" y="364"/>
                </a:lnTo>
                <a:lnTo>
                  <a:pt x="1760" y="351"/>
                </a:lnTo>
                <a:lnTo>
                  <a:pt x="1785" y="339"/>
                </a:lnTo>
                <a:lnTo>
                  <a:pt x="1809" y="326"/>
                </a:lnTo>
                <a:lnTo>
                  <a:pt x="1833" y="315"/>
                </a:lnTo>
                <a:lnTo>
                  <a:pt x="1857" y="303"/>
                </a:lnTo>
                <a:lnTo>
                  <a:pt x="1882" y="292"/>
                </a:lnTo>
                <a:lnTo>
                  <a:pt x="1905" y="281"/>
                </a:lnTo>
                <a:lnTo>
                  <a:pt x="1930" y="270"/>
                </a:lnTo>
                <a:lnTo>
                  <a:pt x="1953" y="258"/>
                </a:lnTo>
                <a:lnTo>
                  <a:pt x="1977" y="248"/>
                </a:lnTo>
                <a:lnTo>
                  <a:pt x="2000" y="237"/>
                </a:lnTo>
                <a:lnTo>
                  <a:pt x="2024" y="227"/>
                </a:lnTo>
                <a:lnTo>
                  <a:pt x="2046" y="217"/>
                </a:lnTo>
                <a:lnTo>
                  <a:pt x="2070" y="207"/>
                </a:lnTo>
                <a:lnTo>
                  <a:pt x="2092" y="196"/>
                </a:lnTo>
                <a:lnTo>
                  <a:pt x="2114" y="188"/>
                </a:lnTo>
                <a:lnTo>
                  <a:pt x="2137" y="178"/>
                </a:lnTo>
                <a:lnTo>
                  <a:pt x="2159" y="169"/>
                </a:lnTo>
                <a:lnTo>
                  <a:pt x="2180" y="160"/>
                </a:lnTo>
                <a:lnTo>
                  <a:pt x="2203" y="152"/>
                </a:lnTo>
                <a:lnTo>
                  <a:pt x="2224" y="143"/>
                </a:lnTo>
                <a:lnTo>
                  <a:pt x="2244" y="134"/>
                </a:lnTo>
                <a:lnTo>
                  <a:pt x="2266" y="126"/>
                </a:lnTo>
                <a:lnTo>
                  <a:pt x="2286" y="118"/>
                </a:lnTo>
                <a:lnTo>
                  <a:pt x="2307" y="111"/>
                </a:lnTo>
                <a:lnTo>
                  <a:pt x="2327" y="104"/>
                </a:lnTo>
                <a:lnTo>
                  <a:pt x="2347" y="96"/>
                </a:lnTo>
                <a:lnTo>
                  <a:pt x="2366" y="90"/>
                </a:lnTo>
                <a:lnTo>
                  <a:pt x="2386" y="83"/>
                </a:lnTo>
                <a:lnTo>
                  <a:pt x="2404" y="77"/>
                </a:lnTo>
                <a:lnTo>
                  <a:pt x="2424" y="71"/>
                </a:lnTo>
                <a:lnTo>
                  <a:pt x="2442" y="64"/>
                </a:lnTo>
                <a:lnTo>
                  <a:pt x="2460" y="59"/>
                </a:lnTo>
                <a:lnTo>
                  <a:pt x="2478" y="53"/>
                </a:lnTo>
                <a:lnTo>
                  <a:pt x="2495" y="48"/>
                </a:lnTo>
                <a:lnTo>
                  <a:pt x="2512" y="44"/>
                </a:lnTo>
                <a:lnTo>
                  <a:pt x="2529" y="39"/>
                </a:lnTo>
                <a:lnTo>
                  <a:pt x="2546" y="34"/>
                </a:lnTo>
                <a:lnTo>
                  <a:pt x="2562" y="30"/>
                </a:lnTo>
                <a:lnTo>
                  <a:pt x="2578" y="27"/>
                </a:lnTo>
                <a:lnTo>
                  <a:pt x="2593" y="23"/>
                </a:lnTo>
                <a:lnTo>
                  <a:pt x="2608" y="19"/>
                </a:lnTo>
                <a:lnTo>
                  <a:pt x="2623" y="16"/>
                </a:lnTo>
                <a:lnTo>
                  <a:pt x="2638" y="14"/>
                </a:lnTo>
                <a:lnTo>
                  <a:pt x="2652" y="11"/>
                </a:lnTo>
                <a:lnTo>
                  <a:pt x="2666" y="9"/>
                </a:lnTo>
                <a:lnTo>
                  <a:pt x="2678" y="7"/>
                </a:lnTo>
                <a:lnTo>
                  <a:pt x="2691" y="4"/>
                </a:lnTo>
                <a:lnTo>
                  <a:pt x="2704" y="3"/>
                </a:lnTo>
                <a:lnTo>
                  <a:pt x="2716" y="2"/>
                </a:lnTo>
                <a:lnTo>
                  <a:pt x="2727" y="1"/>
                </a:lnTo>
                <a:lnTo>
                  <a:pt x="2739" y="0"/>
                </a:lnTo>
                <a:lnTo>
                  <a:pt x="2750" y="0"/>
                </a:lnTo>
                <a:lnTo>
                  <a:pt x="2761" y="0"/>
                </a:lnTo>
                <a:lnTo>
                  <a:pt x="2771" y="0"/>
                </a:lnTo>
                <a:lnTo>
                  <a:pt x="2781" y="0"/>
                </a:lnTo>
                <a:lnTo>
                  <a:pt x="2790" y="1"/>
                </a:lnTo>
                <a:lnTo>
                  <a:pt x="2799" y="2"/>
                </a:lnTo>
                <a:lnTo>
                  <a:pt x="2807" y="3"/>
                </a:lnTo>
                <a:lnTo>
                  <a:pt x="2815" y="4"/>
                </a:lnTo>
                <a:lnTo>
                  <a:pt x="2823" y="7"/>
                </a:lnTo>
                <a:lnTo>
                  <a:pt x="2830" y="8"/>
                </a:lnTo>
                <a:lnTo>
                  <a:pt x="2837" y="10"/>
                </a:lnTo>
                <a:lnTo>
                  <a:pt x="2844" y="13"/>
                </a:lnTo>
                <a:lnTo>
                  <a:pt x="2849" y="15"/>
                </a:lnTo>
                <a:lnTo>
                  <a:pt x="2855" y="18"/>
                </a:lnTo>
                <a:lnTo>
                  <a:pt x="2860" y="21"/>
                </a:lnTo>
                <a:lnTo>
                  <a:pt x="2865" y="26"/>
                </a:lnTo>
                <a:lnTo>
                  <a:pt x="2869" y="29"/>
                </a:lnTo>
                <a:lnTo>
                  <a:pt x="2873" y="33"/>
                </a:lnTo>
                <a:lnTo>
                  <a:pt x="2877" y="37"/>
                </a:lnTo>
                <a:lnTo>
                  <a:pt x="2879" y="42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3600" y="1762200"/>
            <a:ext cx="1440" cy="2874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280" y="1712880"/>
            <a:ext cx="44640" cy="88920"/>
          </a:xfrm>
          <a:custGeom>
            <a:avLst/>
            <a:gdLst/>
            <a:ahLst/>
            <a:rect l="l" t="t" r="r" b="b"/>
            <a:pathLst>
              <a:path w="165" h="332">
                <a:moveTo>
                  <a:pt x="0" y="332"/>
                </a:moveTo>
                <a:lnTo>
                  <a:pt x="82" y="0"/>
                </a:lnTo>
                <a:lnTo>
                  <a:pt x="165" y="332"/>
                </a:lnTo>
                <a:lnTo>
                  <a:pt x="82" y="266"/>
                </a:lnTo>
                <a:lnTo>
                  <a:pt x="0" y="332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1280" y="4597560"/>
            <a:ext cx="44640" cy="88920"/>
          </a:xfrm>
          <a:custGeom>
            <a:avLst/>
            <a:gdLst/>
            <a:ahLst/>
            <a:rect l="l" t="t" r="r" b="b"/>
            <a:pathLst>
              <a:path w="165" h="332">
                <a:moveTo>
                  <a:pt x="165" y="0"/>
                </a:moveTo>
                <a:lnTo>
                  <a:pt x="82" y="332"/>
                </a:lnTo>
                <a:lnTo>
                  <a:pt x="0" y="0"/>
                </a:lnTo>
                <a:lnTo>
                  <a:pt x="82" y="66"/>
                </a:lnTo>
                <a:lnTo>
                  <a:pt x="165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707000"/>
            <a:ext cx="559080" cy="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16200" y="4691160"/>
            <a:ext cx="55440" cy="33120"/>
          </a:xfrm>
          <a:custGeom>
            <a:avLst/>
            <a:gdLst/>
            <a:ahLst/>
            <a:rect l="l" t="t" r="r" b="b"/>
            <a:pathLst>
              <a:path w="206" h="124">
                <a:moveTo>
                  <a:pt x="0" y="0"/>
                </a:moveTo>
                <a:lnTo>
                  <a:pt x="206" y="62"/>
                </a:lnTo>
                <a:lnTo>
                  <a:pt x="0" y="124"/>
                </a:lnTo>
                <a:lnTo>
                  <a:pt x="41" y="6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790720" y="4041720"/>
            <a:ext cx="484200" cy="279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33880" y="4033800"/>
            <a:ext cx="55440" cy="41400"/>
          </a:xfrm>
          <a:custGeom>
            <a:avLst/>
            <a:gdLst/>
            <a:ahLst/>
            <a:rect l="l" t="t" r="r" b="b"/>
            <a:pathLst>
              <a:path w="211" h="157">
                <a:moveTo>
                  <a:pt x="0" y="49"/>
                </a:moveTo>
                <a:lnTo>
                  <a:pt x="211" y="0"/>
                </a:lnTo>
                <a:lnTo>
                  <a:pt x="62" y="157"/>
                </a:lnTo>
                <a:lnTo>
                  <a:pt x="67" y="82"/>
                </a:lnTo>
                <a:lnTo>
                  <a:pt x="0" y="49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9960" y="1631880"/>
            <a:ext cx="581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C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680" y="3011400"/>
            <a:ext cx="21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15240" y="5315040"/>
            <a:ext cx="476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(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81320" y="3573360"/>
            <a:ext cx="900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(t+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664000" y="1346040"/>
                <a:ext cx="62877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θ</m:t>
                              </m:r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616280" y="2743200"/>
                <a:ext cx="3918240" cy="35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5A9-CE5F-42E9-9F79-5D968DFD3D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501840"/>
            <a:ext cx="8425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Differential Drive: Forward Kinematics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1252440"/>
            <a:ext cx="1800" cy="4606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30400" y="1417680"/>
            <a:ext cx="2251080" cy="3913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3840" y="2381400"/>
            <a:ext cx="301680" cy="107640"/>
          </a:xfrm>
          <a:custGeom>
            <a:avLst/>
            <a:gdLst/>
            <a:ahLst/>
            <a:rect l="l" t="t" r="r" b="b"/>
            <a:pathLst>
              <a:path w="1142" h="402">
                <a:moveTo>
                  <a:pt x="0" y="402"/>
                </a:moveTo>
                <a:lnTo>
                  <a:pt x="32" y="402"/>
                </a:lnTo>
                <a:lnTo>
                  <a:pt x="63" y="401"/>
                </a:lnTo>
                <a:lnTo>
                  <a:pt x="95" y="400"/>
                </a:lnTo>
                <a:lnTo>
                  <a:pt x="127" y="398"/>
                </a:lnTo>
                <a:lnTo>
                  <a:pt x="157" y="396"/>
                </a:lnTo>
                <a:lnTo>
                  <a:pt x="189" y="392"/>
                </a:lnTo>
                <a:lnTo>
                  <a:pt x="220" y="389"/>
                </a:lnTo>
                <a:lnTo>
                  <a:pt x="252" y="385"/>
                </a:lnTo>
                <a:lnTo>
                  <a:pt x="283" y="381"/>
                </a:lnTo>
                <a:lnTo>
                  <a:pt x="314" y="375"/>
                </a:lnTo>
                <a:lnTo>
                  <a:pt x="346" y="369"/>
                </a:lnTo>
                <a:lnTo>
                  <a:pt x="377" y="364"/>
                </a:lnTo>
                <a:lnTo>
                  <a:pt x="408" y="356"/>
                </a:lnTo>
                <a:lnTo>
                  <a:pt x="439" y="349"/>
                </a:lnTo>
                <a:lnTo>
                  <a:pt x="469" y="341"/>
                </a:lnTo>
                <a:lnTo>
                  <a:pt x="500" y="333"/>
                </a:lnTo>
                <a:lnTo>
                  <a:pt x="530" y="324"/>
                </a:lnTo>
                <a:lnTo>
                  <a:pt x="561" y="315"/>
                </a:lnTo>
                <a:lnTo>
                  <a:pt x="590" y="304"/>
                </a:lnTo>
                <a:lnTo>
                  <a:pt x="620" y="294"/>
                </a:lnTo>
                <a:lnTo>
                  <a:pt x="650" y="283"/>
                </a:lnTo>
                <a:lnTo>
                  <a:pt x="680" y="271"/>
                </a:lnTo>
                <a:lnTo>
                  <a:pt x="709" y="259"/>
                </a:lnTo>
                <a:lnTo>
                  <a:pt x="738" y="246"/>
                </a:lnTo>
                <a:lnTo>
                  <a:pt x="766" y="234"/>
                </a:lnTo>
                <a:lnTo>
                  <a:pt x="795" y="220"/>
                </a:lnTo>
                <a:lnTo>
                  <a:pt x="824" y="206"/>
                </a:lnTo>
                <a:lnTo>
                  <a:pt x="852" y="192"/>
                </a:lnTo>
                <a:lnTo>
                  <a:pt x="879" y="176"/>
                </a:lnTo>
                <a:lnTo>
                  <a:pt x="907" y="161"/>
                </a:lnTo>
                <a:lnTo>
                  <a:pt x="935" y="145"/>
                </a:lnTo>
                <a:lnTo>
                  <a:pt x="961" y="128"/>
                </a:lnTo>
                <a:lnTo>
                  <a:pt x="988" y="111"/>
                </a:lnTo>
                <a:lnTo>
                  <a:pt x="1015" y="94"/>
                </a:lnTo>
                <a:lnTo>
                  <a:pt x="1040" y="76"/>
                </a:lnTo>
                <a:lnTo>
                  <a:pt x="1067" y="58"/>
                </a:lnTo>
                <a:lnTo>
                  <a:pt x="1093" y="38"/>
                </a:lnTo>
                <a:lnTo>
                  <a:pt x="1117" y="19"/>
                </a:lnTo>
                <a:lnTo>
                  <a:pt x="114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79680" y="2360520"/>
            <a:ext cx="39600" cy="38160"/>
          </a:xfrm>
          <a:custGeom>
            <a:avLst/>
            <a:gdLst/>
            <a:ahLst/>
            <a:rect l="l" t="t" r="r" b="b"/>
            <a:pathLst>
              <a:path w="150" h="143">
                <a:moveTo>
                  <a:pt x="0" y="80"/>
                </a:moveTo>
                <a:lnTo>
                  <a:pt x="150" y="0"/>
                </a:lnTo>
                <a:lnTo>
                  <a:pt x="55" y="143"/>
                </a:lnTo>
                <a:lnTo>
                  <a:pt x="52" y="89"/>
                </a:lnTo>
                <a:lnTo>
                  <a:pt x="0" y="8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7160" y="5037120"/>
            <a:ext cx="876240" cy="163440"/>
          </a:xfrm>
          <a:custGeom>
            <a:avLst/>
            <a:gdLst/>
            <a:ahLst/>
            <a:rect l="l" t="t" r="r" b="b"/>
            <a:pathLst>
              <a:path w="3315" h="622">
                <a:moveTo>
                  <a:pt x="3315" y="312"/>
                </a:moveTo>
                <a:lnTo>
                  <a:pt x="3315" y="317"/>
                </a:lnTo>
                <a:lnTo>
                  <a:pt x="3314" y="322"/>
                </a:lnTo>
                <a:lnTo>
                  <a:pt x="3313" y="328"/>
                </a:lnTo>
                <a:lnTo>
                  <a:pt x="3311" y="333"/>
                </a:lnTo>
                <a:lnTo>
                  <a:pt x="3309" y="338"/>
                </a:lnTo>
                <a:lnTo>
                  <a:pt x="3307" y="344"/>
                </a:lnTo>
                <a:lnTo>
                  <a:pt x="3303" y="349"/>
                </a:lnTo>
                <a:lnTo>
                  <a:pt x="3299" y="354"/>
                </a:lnTo>
                <a:lnTo>
                  <a:pt x="3295" y="360"/>
                </a:lnTo>
                <a:lnTo>
                  <a:pt x="3290" y="365"/>
                </a:lnTo>
                <a:lnTo>
                  <a:pt x="3284" y="370"/>
                </a:lnTo>
                <a:lnTo>
                  <a:pt x="3279" y="376"/>
                </a:lnTo>
                <a:lnTo>
                  <a:pt x="3273" y="381"/>
                </a:lnTo>
                <a:lnTo>
                  <a:pt x="3266" y="386"/>
                </a:lnTo>
                <a:lnTo>
                  <a:pt x="3259" y="392"/>
                </a:lnTo>
                <a:lnTo>
                  <a:pt x="3251" y="397"/>
                </a:lnTo>
                <a:lnTo>
                  <a:pt x="3243" y="402"/>
                </a:lnTo>
                <a:lnTo>
                  <a:pt x="3234" y="408"/>
                </a:lnTo>
                <a:lnTo>
                  <a:pt x="3225" y="413"/>
                </a:lnTo>
                <a:lnTo>
                  <a:pt x="3215" y="418"/>
                </a:lnTo>
                <a:lnTo>
                  <a:pt x="3204" y="423"/>
                </a:lnTo>
                <a:lnTo>
                  <a:pt x="3194" y="428"/>
                </a:lnTo>
                <a:lnTo>
                  <a:pt x="3183" y="433"/>
                </a:lnTo>
                <a:lnTo>
                  <a:pt x="3171" y="439"/>
                </a:lnTo>
                <a:lnTo>
                  <a:pt x="3159" y="443"/>
                </a:lnTo>
                <a:lnTo>
                  <a:pt x="3147" y="448"/>
                </a:lnTo>
                <a:lnTo>
                  <a:pt x="3134" y="452"/>
                </a:lnTo>
                <a:lnTo>
                  <a:pt x="3120" y="458"/>
                </a:lnTo>
                <a:lnTo>
                  <a:pt x="3106" y="462"/>
                </a:lnTo>
                <a:lnTo>
                  <a:pt x="3092" y="467"/>
                </a:lnTo>
                <a:lnTo>
                  <a:pt x="3077" y="472"/>
                </a:lnTo>
                <a:lnTo>
                  <a:pt x="3062" y="477"/>
                </a:lnTo>
                <a:lnTo>
                  <a:pt x="3046" y="481"/>
                </a:lnTo>
                <a:lnTo>
                  <a:pt x="3030" y="486"/>
                </a:lnTo>
                <a:lnTo>
                  <a:pt x="3013" y="490"/>
                </a:lnTo>
                <a:lnTo>
                  <a:pt x="2997" y="494"/>
                </a:lnTo>
                <a:lnTo>
                  <a:pt x="2979" y="499"/>
                </a:lnTo>
                <a:lnTo>
                  <a:pt x="2962" y="504"/>
                </a:lnTo>
                <a:lnTo>
                  <a:pt x="2944" y="508"/>
                </a:lnTo>
                <a:lnTo>
                  <a:pt x="2925" y="512"/>
                </a:lnTo>
                <a:lnTo>
                  <a:pt x="2907" y="515"/>
                </a:lnTo>
                <a:lnTo>
                  <a:pt x="2888" y="520"/>
                </a:lnTo>
                <a:lnTo>
                  <a:pt x="2867" y="524"/>
                </a:lnTo>
                <a:lnTo>
                  <a:pt x="2847" y="528"/>
                </a:lnTo>
                <a:lnTo>
                  <a:pt x="2827" y="531"/>
                </a:lnTo>
                <a:lnTo>
                  <a:pt x="2807" y="536"/>
                </a:lnTo>
                <a:lnTo>
                  <a:pt x="2785" y="539"/>
                </a:lnTo>
                <a:lnTo>
                  <a:pt x="2764" y="543"/>
                </a:lnTo>
                <a:lnTo>
                  <a:pt x="2743" y="546"/>
                </a:lnTo>
                <a:lnTo>
                  <a:pt x="2720" y="550"/>
                </a:lnTo>
                <a:lnTo>
                  <a:pt x="2698" y="554"/>
                </a:lnTo>
                <a:lnTo>
                  <a:pt x="2674" y="557"/>
                </a:lnTo>
                <a:lnTo>
                  <a:pt x="2652" y="560"/>
                </a:lnTo>
                <a:lnTo>
                  <a:pt x="2628" y="563"/>
                </a:lnTo>
                <a:lnTo>
                  <a:pt x="2605" y="567"/>
                </a:lnTo>
                <a:lnTo>
                  <a:pt x="2580" y="570"/>
                </a:lnTo>
                <a:lnTo>
                  <a:pt x="2557" y="573"/>
                </a:lnTo>
                <a:lnTo>
                  <a:pt x="2532" y="575"/>
                </a:lnTo>
                <a:lnTo>
                  <a:pt x="2507" y="578"/>
                </a:lnTo>
                <a:lnTo>
                  <a:pt x="2482" y="582"/>
                </a:lnTo>
                <a:lnTo>
                  <a:pt x="2457" y="584"/>
                </a:lnTo>
                <a:lnTo>
                  <a:pt x="2431" y="586"/>
                </a:lnTo>
                <a:lnTo>
                  <a:pt x="2406" y="589"/>
                </a:lnTo>
                <a:lnTo>
                  <a:pt x="2380" y="591"/>
                </a:lnTo>
                <a:lnTo>
                  <a:pt x="2353" y="593"/>
                </a:lnTo>
                <a:lnTo>
                  <a:pt x="2327" y="595"/>
                </a:lnTo>
                <a:lnTo>
                  <a:pt x="2300" y="598"/>
                </a:lnTo>
                <a:lnTo>
                  <a:pt x="2273" y="600"/>
                </a:lnTo>
                <a:lnTo>
                  <a:pt x="2247" y="602"/>
                </a:lnTo>
                <a:lnTo>
                  <a:pt x="2219" y="604"/>
                </a:lnTo>
                <a:lnTo>
                  <a:pt x="2191" y="606"/>
                </a:lnTo>
                <a:lnTo>
                  <a:pt x="2165" y="607"/>
                </a:lnTo>
                <a:lnTo>
                  <a:pt x="2137" y="609"/>
                </a:lnTo>
                <a:lnTo>
                  <a:pt x="2109" y="610"/>
                </a:lnTo>
                <a:lnTo>
                  <a:pt x="2080" y="612"/>
                </a:lnTo>
                <a:lnTo>
                  <a:pt x="2053" y="614"/>
                </a:lnTo>
                <a:lnTo>
                  <a:pt x="2024" y="615"/>
                </a:lnTo>
                <a:lnTo>
                  <a:pt x="1996" y="616"/>
                </a:lnTo>
                <a:lnTo>
                  <a:pt x="1967" y="617"/>
                </a:lnTo>
                <a:lnTo>
                  <a:pt x="1939" y="618"/>
                </a:lnTo>
                <a:lnTo>
                  <a:pt x="1911" y="619"/>
                </a:lnTo>
                <a:lnTo>
                  <a:pt x="1882" y="620"/>
                </a:lnTo>
                <a:lnTo>
                  <a:pt x="1853" y="620"/>
                </a:lnTo>
                <a:lnTo>
                  <a:pt x="1824" y="621"/>
                </a:lnTo>
                <a:lnTo>
                  <a:pt x="1795" y="621"/>
                </a:lnTo>
                <a:lnTo>
                  <a:pt x="1766" y="622"/>
                </a:lnTo>
                <a:lnTo>
                  <a:pt x="1737" y="622"/>
                </a:lnTo>
                <a:lnTo>
                  <a:pt x="1708" y="622"/>
                </a:lnTo>
                <a:lnTo>
                  <a:pt x="1679" y="622"/>
                </a:lnTo>
                <a:lnTo>
                  <a:pt x="1651" y="622"/>
                </a:lnTo>
                <a:lnTo>
                  <a:pt x="1621" y="622"/>
                </a:lnTo>
                <a:lnTo>
                  <a:pt x="1592" y="622"/>
                </a:lnTo>
                <a:lnTo>
                  <a:pt x="1563" y="622"/>
                </a:lnTo>
                <a:lnTo>
                  <a:pt x="1534" y="621"/>
                </a:lnTo>
                <a:lnTo>
                  <a:pt x="1506" y="621"/>
                </a:lnTo>
                <a:lnTo>
                  <a:pt x="1477" y="620"/>
                </a:lnTo>
                <a:lnTo>
                  <a:pt x="1448" y="620"/>
                </a:lnTo>
                <a:lnTo>
                  <a:pt x="1419" y="619"/>
                </a:lnTo>
                <a:lnTo>
                  <a:pt x="1390" y="618"/>
                </a:lnTo>
                <a:lnTo>
                  <a:pt x="1362" y="618"/>
                </a:lnTo>
                <a:lnTo>
                  <a:pt x="1333" y="617"/>
                </a:lnTo>
                <a:lnTo>
                  <a:pt x="1305" y="616"/>
                </a:lnTo>
                <a:lnTo>
                  <a:pt x="1276" y="614"/>
                </a:lnTo>
                <a:lnTo>
                  <a:pt x="1249" y="612"/>
                </a:lnTo>
                <a:lnTo>
                  <a:pt x="1220" y="611"/>
                </a:lnTo>
                <a:lnTo>
                  <a:pt x="1192" y="609"/>
                </a:lnTo>
                <a:lnTo>
                  <a:pt x="1164" y="608"/>
                </a:lnTo>
                <a:lnTo>
                  <a:pt x="1137" y="606"/>
                </a:lnTo>
                <a:lnTo>
                  <a:pt x="1109" y="605"/>
                </a:lnTo>
                <a:lnTo>
                  <a:pt x="1082" y="603"/>
                </a:lnTo>
                <a:lnTo>
                  <a:pt x="1055" y="601"/>
                </a:lnTo>
                <a:lnTo>
                  <a:pt x="1028" y="599"/>
                </a:lnTo>
                <a:lnTo>
                  <a:pt x="1001" y="596"/>
                </a:lnTo>
                <a:lnTo>
                  <a:pt x="975" y="594"/>
                </a:lnTo>
                <a:lnTo>
                  <a:pt x="948" y="592"/>
                </a:lnTo>
                <a:lnTo>
                  <a:pt x="922" y="590"/>
                </a:lnTo>
                <a:lnTo>
                  <a:pt x="897" y="588"/>
                </a:lnTo>
                <a:lnTo>
                  <a:pt x="871" y="585"/>
                </a:lnTo>
                <a:lnTo>
                  <a:pt x="846" y="583"/>
                </a:lnTo>
                <a:lnTo>
                  <a:pt x="820" y="579"/>
                </a:lnTo>
                <a:lnTo>
                  <a:pt x="796" y="577"/>
                </a:lnTo>
                <a:lnTo>
                  <a:pt x="771" y="574"/>
                </a:lnTo>
                <a:lnTo>
                  <a:pt x="746" y="571"/>
                </a:lnTo>
                <a:lnTo>
                  <a:pt x="722" y="568"/>
                </a:lnTo>
                <a:lnTo>
                  <a:pt x="698" y="564"/>
                </a:lnTo>
                <a:lnTo>
                  <a:pt x="675" y="561"/>
                </a:lnTo>
                <a:lnTo>
                  <a:pt x="652" y="558"/>
                </a:lnTo>
                <a:lnTo>
                  <a:pt x="628" y="555"/>
                </a:lnTo>
                <a:lnTo>
                  <a:pt x="606" y="552"/>
                </a:lnTo>
                <a:lnTo>
                  <a:pt x="583" y="548"/>
                </a:lnTo>
                <a:lnTo>
                  <a:pt x="562" y="544"/>
                </a:lnTo>
                <a:lnTo>
                  <a:pt x="541" y="541"/>
                </a:lnTo>
                <a:lnTo>
                  <a:pt x="519" y="538"/>
                </a:lnTo>
                <a:lnTo>
                  <a:pt x="498" y="534"/>
                </a:lnTo>
                <a:lnTo>
                  <a:pt x="478" y="529"/>
                </a:lnTo>
                <a:lnTo>
                  <a:pt x="457" y="526"/>
                </a:lnTo>
                <a:lnTo>
                  <a:pt x="437" y="522"/>
                </a:lnTo>
                <a:lnTo>
                  <a:pt x="418" y="518"/>
                </a:lnTo>
                <a:lnTo>
                  <a:pt x="399" y="513"/>
                </a:lnTo>
                <a:lnTo>
                  <a:pt x="380" y="510"/>
                </a:lnTo>
                <a:lnTo>
                  <a:pt x="362" y="506"/>
                </a:lnTo>
                <a:lnTo>
                  <a:pt x="344" y="502"/>
                </a:lnTo>
                <a:lnTo>
                  <a:pt x="326" y="497"/>
                </a:lnTo>
                <a:lnTo>
                  <a:pt x="309" y="492"/>
                </a:lnTo>
                <a:lnTo>
                  <a:pt x="292" y="488"/>
                </a:lnTo>
                <a:lnTo>
                  <a:pt x="276" y="483"/>
                </a:lnTo>
                <a:lnTo>
                  <a:pt x="260" y="479"/>
                </a:lnTo>
                <a:lnTo>
                  <a:pt x="245" y="474"/>
                </a:lnTo>
                <a:lnTo>
                  <a:pt x="230" y="470"/>
                </a:lnTo>
                <a:lnTo>
                  <a:pt x="215" y="465"/>
                </a:lnTo>
                <a:lnTo>
                  <a:pt x="202" y="460"/>
                </a:lnTo>
                <a:lnTo>
                  <a:pt x="188" y="456"/>
                </a:lnTo>
                <a:lnTo>
                  <a:pt x="175" y="450"/>
                </a:lnTo>
                <a:lnTo>
                  <a:pt x="162" y="446"/>
                </a:lnTo>
                <a:lnTo>
                  <a:pt x="149" y="441"/>
                </a:lnTo>
                <a:lnTo>
                  <a:pt x="138" y="435"/>
                </a:lnTo>
                <a:lnTo>
                  <a:pt x="126" y="431"/>
                </a:lnTo>
                <a:lnTo>
                  <a:pt x="115" y="426"/>
                </a:lnTo>
                <a:lnTo>
                  <a:pt x="105" y="420"/>
                </a:lnTo>
                <a:lnTo>
                  <a:pt x="95" y="415"/>
                </a:lnTo>
                <a:lnTo>
                  <a:pt x="85" y="410"/>
                </a:lnTo>
                <a:lnTo>
                  <a:pt x="77" y="406"/>
                </a:lnTo>
                <a:lnTo>
                  <a:pt x="68" y="400"/>
                </a:lnTo>
                <a:lnTo>
                  <a:pt x="60" y="395"/>
                </a:lnTo>
                <a:lnTo>
                  <a:pt x="52" y="390"/>
                </a:lnTo>
                <a:lnTo>
                  <a:pt x="46" y="384"/>
                </a:lnTo>
                <a:lnTo>
                  <a:pt x="39" y="379"/>
                </a:lnTo>
                <a:lnTo>
                  <a:pt x="33" y="374"/>
                </a:lnTo>
                <a:lnTo>
                  <a:pt x="28" y="368"/>
                </a:lnTo>
                <a:lnTo>
                  <a:pt x="22" y="363"/>
                </a:lnTo>
                <a:lnTo>
                  <a:pt x="18" y="358"/>
                </a:lnTo>
                <a:lnTo>
                  <a:pt x="14" y="352"/>
                </a:lnTo>
                <a:lnTo>
                  <a:pt x="11" y="347"/>
                </a:lnTo>
                <a:lnTo>
                  <a:pt x="8" y="342"/>
                </a:lnTo>
                <a:lnTo>
                  <a:pt x="4" y="336"/>
                </a:lnTo>
                <a:lnTo>
                  <a:pt x="2" y="331"/>
                </a:lnTo>
                <a:lnTo>
                  <a:pt x="1" y="325"/>
                </a:lnTo>
                <a:lnTo>
                  <a:pt x="0" y="319"/>
                </a:lnTo>
                <a:lnTo>
                  <a:pt x="0" y="314"/>
                </a:lnTo>
                <a:lnTo>
                  <a:pt x="0" y="309"/>
                </a:lnTo>
                <a:lnTo>
                  <a:pt x="0" y="303"/>
                </a:lnTo>
                <a:lnTo>
                  <a:pt x="1" y="298"/>
                </a:lnTo>
                <a:lnTo>
                  <a:pt x="2" y="293"/>
                </a:lnTo>
                <a:lnTo>
                  <a:pt x="4" y="287"/>
                </a:lnTo>
                <a:lnTo>
                  <a:pt x="8" y="282"/>
                </a:lnTo>
                <a:lnTo>
                  <a:pt x="11" y="277"/>
                </a:lnTo>
                <a:lnTo>
                  <a:pt x="14" y="271"/>
                </a:lnTo>
                <a:lnTo>
                  <a:pt x="18" y="265"/>
                </a:lnTo>
                <a:lnTo>
                  <a:pt x="22" y="259"/>
                </a:lnTo>
                <a:lnTo>
                  <a:pt x="28" y="254"/>
                </a:lnTo>
                <a:lnTo>
                  <a:pt x="33" y="249"/>
                </a:lnTo>
                <a:lnTo>
                  <a:pt x="39" y="243"/>
                </a:lnTo>
                <a:lnTo>
                  <a:pt x="46" y="238"/>
                </a:lnTo>
                <a:lnTo>
                  <a:pt x="52" y="233"/>
                </a:lnTo>
                <a:lnTo>
                  <a:pt x="60" y="229"/>
                </a:lnTo>
                <a:lnTo>
                  <a:pt x="68" y="223"/>
                </a:lnTo>
                <a:lnTo>
                  <a:pt x="77" y="218"/>
                </a:lnTo>
                <a:lnTo>
                  <a:pt x="85" y="213"/>
                </a:lnTo>
                <a:lnTo>
                  <a:pt x="95" y="207"/>
                </a:lnTo>
                <a:lnTo>
                  <a:pt x="105" y="202"/>
                </a:lnTo>
                <a:lnTo>
                  <a:pt x="115" y="198"/>
                </a:lnTo>
                <a:lnTo>
                  <a:pt x="126" y="192"/>
                </a:lnTo>
                <a:lnTo>
                  <a:pt x="138" y="187"/>
                </a:lnTo>
                <a:lnTo>
                  <a:pt x="149" y="182"/>
                </a:lnTo>
                <a:lnTo>
                  <a:pt x="162" y="177"/>
                </a:lnTo>
                <a:lnTo>
                  <a:pt x="175" y="172"/>
                </a:lnTo>
                <a:lnTo>
                  <a:pt x="188" y="168"/>
                </a:lnTo>
                <a:lnTo>
                  <a:pt x="202" y="162"/>
                </a:lnTo>
                <a:lnTo>
                  <a:pt x="215" y="158"/>
                </a:lnTo>
                <a:lnTo>
                  <a:pt x="230" y="153"/>
                </a:lnTo>
                <a:lnTo>
                  <a:pt x="245" y="149"/>
                </a:lnTo>
                <a:lnTo>
                  <a:pt x="260" y="144"/>
                </a:lnTo>
                <a:lnTo>
                  <a:pt x="276" y="139"/>
                </a:lnTo>
                <a:lnTo>
                  <a:pt x="292" y="135"/>
                </a:lnTo>
                <a:lnTo>
                  <a:pt x="309" y="130"/>
                </a:lnTo>
                <a:lnTo>
                  <a:pt x="326" y="126"/>
                </a:lnTo>
                <a:lnTo>
                  <a:pt x="343" y="122"/>
                </a:lnTo>
                <a:lnTo>
                  <a:pt x="362" y="118"/>
                </a:lnTo>
                <a:lnTo>
                  <a:pt x="380" y="113"/>
                </a:lnTo>
                <a:lnTo>
                  <a:pt x="399" y="109"/>
                </a:lnTo>
                <a:lnTo>
                  <a:pt x="418" y="105"/>
                </a:lnTo>
                <a:lnTo>
                  <a:pt x="437" y="101"/>
                </a:lnTo>
                <a:lnTo>
                  <a:pt x="457" y="97"/>
                </a:lnTo>
                <a:lnTo>
                  <a:pt x="478" y="93"/>
                </a:lnTo>
                <a:lnTo>
                  <a:pt x="498" y="89"/>
                </a:lnTo>
                <a:lnTo>
                  <a:pt x="519" y="86"/>
                </a:lnTo>
                <a:lnTo>
                  <a:pt x="541" y="81"/>
                </a:lnTo>
                <a:lnTo>
                  <a:pt x="562" y="78"/>
                </a:lnTo>
                <a:lnTo>
                  <a:pt x="583" y="75"/>
                </a:lnTo>
                <a:lnTo>
                  <a:pt x="606" y="71"/>
                </a:lnTo>
                <a:lnTo>
                  <a:pt x="628" y="67"/>
                </a:lnTo>
                <a:lnTo>
                  <a:pt x="652" y="64"/>
                </a:lnTo>
                <a:lnTo>
                  <a:pt x="675" y="61"/>
                </a:lnTo>
                <a:lnTo>
                  <a:pt x="698" y="58"/>
                </a:lnTo>
                <a:lnTo>
                  <a:pt x="722" y="55"/>
                </a:lnTo>
                <a:lnTo>
                  <a:pt x="746" y="51"/>
                </a:lnTo>
                <a:lnTo>
                  <a:pt x="771" y="48"/>
                </a:lnTo>
                <a:lnTo>
                  <a:pt x="796" y="46"/>
                </a:lnTo>
                <a:lnTo>
                  <a:pt x="820" y="43"/>
                </a:lnTo>
                <a:lnTo>
                  <a:pt x="846" y="41"/>
                </a:lnTo>
                <a:lnTo>
                  <a:pt x="870" y="38"/>
                </a:lnTo>
                <a:lnTo>
                  <a:pt x="897" y="36"/>
                </a:lnTo>
                <a:lnTo>
                  <a:pt x="922" y="32"/>
                </a:lnTo>
                <a:lnTo>
                  <a:pt x="948" y="30"/>
                </a:lnTo>
                <a:lnTo>
                  <a:pt x="975" y="28"/>
                </a:lnTo>
                <a:lnTo>
                  <a:pt x="1001" y="26"/>
                </a:lnTo>
                <a:lnTo>
                  <a:pt x="1028" y="24"/>
                </a:lnTo>
                <a:lnTo>
                  <a:pt x="1055" y="22"/>
                </a:lnTo>
                <a:lnTo>
                  <a:pt x="1082" y="20"/>
                </a:lnTo>
                <a:lnTo>
                  <a:pt x="1109" y="18"/>
                </a:lnTo>
                <a:lnTo>
                  <a:pt x="1137" y="16"/>
                </a:lnTo>
                <a:lnTo>
                  <a:pt x="1164" y="14"/>
                </a:lnTo>
                <a:lnTo>
                  <a:pt x="1192" y="13"/>
                </a:lnTo>
                <a:lnTo>
                  <a:pt x="1220" y="11"/>
                </a:lnTo>
                <a:lnTo>
                  <a:pt x="1249" y="10"/>
                </a:lnTo>
                <a:lnTo>
                  <a:pt x="1276" y="9"/>
                </a:lnTo>
                <a:lnTo>
                  <a:pt x="1304" y="8"/>
                </a:lnTo>
                <a:lnTo>
                  <a:pt x="1333" y="7"/>
                </a:lnTo>
                <a:lnTo>
                  <a:pt x="1362" y="6"/>
                </a:lnTo>
                <a:lnTo>
                  <a:pt x="1390" y="5"/>
                </a:lnTo>
                <a:lnTo>
                  <a:pt x="1419" y="4"/>
                </a:lnTo>
                <a:lnTo>
                  <a:pt x="1448" y="2"/>
                </a:lnTo>
                <a:lnTo>
                  <a:pt x="1477" y="2"/>
                </a:lnTo>
                <a:lnTo>
                  <a:pt x="1506" y="1"/>
                </a:lnTo>
                <a:lnTo>
                  <a:pt x="1534" y="1"/>
                </a:lnTo>
                <a:lnTo>
                  <a:pt x="1563" y="1"/>
                </a:lnTo>
                <a:lnTo>
                  <a:pt x="1592" y="0"/>
                </a:lnTo>
                <a:lnTo>
                  <a:pt x="1621" y="0"/>
                </a:lnTo>
                <a:lnTo>
                  <a:pt x="1650" y="0"/>
                </a:lnTo>
                <a:lnTo>
                  <a:pt x="1679" y="0"/>
                </a:lnTo>
                <a:lnTo>
                  <a:pt x="1708" y="0"/>
                </a:lnTo>
                <a:lnTo>
                  <a:pt x="1737" y="0"/>
                </a:lnTo>
                <a:lnTo>
                  <a:pt x="1766" y="1"/>
                </a:lnTo>
                <a:lnTo>
                  <a:pt x="1795" y="1"/>
                </a:lnTo>
                <a:lnTo>
                  <a:pt x="1823" y="2"/>
                </a:lnTo>
                <a:lnTo>
                  <a:pt x="1853" y="2"/>
                </a:lnTo>
                <a:lnTo>
                  <a:pt x="1882" y="4"/>
                </a:lnTo>
                <a:lnTo>
                  <a:pt x="1910" y="5"/>
                </a:lnTo>
                <a:lnTo>
                  <a:pt x="1939" y="5"/>
                </a:lnTo>
                <a:lnTo>
                  <a:pt x="1967" y="6"/>
                </a:lnTo>
                <a:lnTo>
                  <a:pt x="1996" y="7"/>
                </a:lnTo>
                <a:lnTo>
                  <a:pt x="2024" y="8"/>
                </a:lnTo>
                <a:lnTo>
                  <a:pt x="2053" y="10"/>
                </a:lnTo>
                <a:lnTo>
                  <a:pt x="2080" y="11"/>
                </a:lnTo>
                <a:lnTo>
                  <a:pt x="2108" y="12"/>
                </a:lnTo>
                <a:lnTo>
                  <a:pt x="2137" y="14"/>
                </a:lnTo>
                <a:lnTo>
                  <a:pt x="2165" y="15"/>
                </a:lnTo>
                <a:lnTo>
                  <a:pt x="2191" y="17"/>
                </a:lnTo>
                <a:lnTo>
                  <a:pt x="2219" y="18"/>
                </a:lnTo>
                <a:lnTo>
                  <a:pt x="2247" y="21"/>
                </a:lnTo>
                <a:lnTo>
                  <a:pt x="2273" y="23"/>
                </a:lnTo>
                <a:lnTo>
                  <a:pt x="2300" y="25"/>
                </a:lnTo>
                <a:lnTo>
                  <a:pt x="2327" y="27"/>
                </a:lnTo>
                <a:lnTo>
                  <a:pt x="2353" y="29"/>
                </a:lnTo>
                <a:lnTo>
                  <a:pt x="2380" y="31"/>
                </a:lnTo>
                <a:lnTo>
                  <a:pt x="2406" y="34"/>
                </a:lnTo>
                <a:lnTo>
                  <a:pt x="2431" y="37"/>
                </a:lnTo>
                <a:lnTo>
                  <a:pt x="2457" y="39"/>
                </a:lnTo>
                <a:lnTo>
                  <a:pt x="2482" y="42"/>
                </a:lnTo>
                <a:lnTo>
                  <a:pt x="2507" y="44"/>
                </a:lnTo>
                <a:lnTo>
                  <a:pt x="2532" y="47"/>
                </a:lnTo>
                <a:lnTo>
                  <a:pt x="2557" y="50"/>
                </a:lnTo>
                <a:lnTo>
                  <a:pt x="2580" y="54"/>
                </a:lnTo>
                <a:lnTo>
                  <a:pt x="2605" y="56"/>
                </a:lnTo>
                <a:lnTo>
                  <a:pt x="2628" y="59"/>
                </a:lnTo>
                <a:lnTo>
                  <a:pt x="2652" y="62"/>
                </a:lnTo>
                <a:lnTo>
                  <a:pt x="2674" y="65"/>
                </a:lnTo>
                <a:lnTo>
                  <a:pt x="2698" y="70"/>
                </a:lnTo>
                <a:lnTo>
                  <a:pt x="2720" y="73"/>
                </a:lnTo>
                <a:lnTo>
                  <a:pt x="2743" y="76"/>
                </a:lnTo>
                <a:lnTo>
                  <a:pt x="2764" y="80"/>
                </a:lnTo>
                <a:lnTo>
                  <a:pt x="2785" y="83"/>
                </a:lnTo>
                <a:lnTo>
                  <a:pt x="2807" y="88"/>
                </a:lnTo>
                <a:lnTo>
                  <a:pt x="2827" y="91"/>
                </a:lnTo>
                <a:lnTo>
                  <a:pt x="2847" y="95"/>
                </a:lnTo>
                <a:lnTo>
                  <a:pt x="2867" y="98"/>
                </a:lnTo>
                <a:lnTo>
                  <a:pt x="2888" y="103"/>
                </a:lnTo>
                <a:lnTo>
                  <a:pt x="2907" y="107"/>
                </a:lnTo>
                <a:lnTo>
                  <a:pt x="2925" y="111"/>
                </a:lnTo>
                <a:lnTo>
                  <a:pt x="2944" y="115"/>
                </a:lnTo>
                <a:lnTo>
                  <a:pt x="2962" y="120"/>
                </a:lnTo>
                <a:lnTo>
                  <a:pt x="2979" y="124"/>
                </a:lnTo>
                <a:lnTo>
                  <a:pt x="2997" y="128"/>
                </a:lnTo>
                <a:lnTo>
                  <a:pt x="3013" y="133"/>
                </a:lnTo>
                <a:lnTo>
                  <a:pt x="3030" y="137"/>
                </a:lnTo>
                <a:lnTo>
                  <a:pt x="3046" y="141"/>
                </a:lnTo>
                <a:lnTo>
                  <a:pt x="3062" y="146"/>
                </a:lnTo>
                <a:lnTo>
                  <a:pt x="3077" y="151"/>
                </a:lnTo>
                <a:lnTo>
                  <a:pt x="3092" y="156"/>
                </a:lnTo>
                <a:lnTo>
                  <a:pt x="3106" y="160"/>
                </a:lnTo>
                <a:lnTo>
                  <a:pt x="3120" y="165"/>
                </a:lnTo>
                <a:lnTo>
                  <a:pt x="3134" y="170"/>
                </a:lnTo>
                <a:lnTo>
                  <a:pt x="3147" y="175"/>
                </a:lnTo>
                <a:lnTo>
                  <a:pt x="3159" y="179"/>
                </a:lnTo>
                <a:lnTo>
                  <a:pt x="3171" y="185"/>
                </a:lnTo>
                <a:lnTo>
                  <a:pt x="3183" y="189"/>
                </a:lnTo>
                <a:lnTo>
                  <a:pt x="3194" y="194"/>
                </a:lnTo>
                <a:lnTo>
                  <a:pt x="3204" y="200"/>
                </a:lnTo>
                <a:lnTo>
                  <a:pt x="3215" y="205"/>
                </a:lnTo>
                <a:lnTo>
                  <a:pt x="3225" y="209"/>
                </a:lnTo>
                <a:lnTo>
                  <a:pt x="3234" y="215"/>
                </a:lnTo>
                <a:lnTo>
                  <a:pt x="3243" y="220"/>
                </a:lnTo>
                <a:lnTo>
                  <a:pt x="3251" y="225"/>
                </a:lnTo>
                <a:lnTo>
                  <a:pt x="3259" y="231"/>
                </a:lnTo>
                <a:lnTo>
                  <a:pt x="3266" y="236"/>
                </a:lnTo>
                <a:lnTo>
                  <a:pt x="3273" y="241"/>
                </a:lnTo>
                <a:lnTo>
                  <a:pt x="3279" y="247"/>
                </a:lnTo>
                <a:lnTo>
                  <a:pt x="3284" y="252"/>
                </a:lnTo>
                <a:lnTo>
                  <a:pt x="3290" y="257"/>
                </a:lnTo>
                <a:lnTo>
                  <a:pt x="3295" y="263"/>
                </a:lnTo>
                <a:lnTo>
                  <a:pt x="3299" y="268"/>
                </a:lnTo>
                <a:lnTo>
                  <a:pt x="3303" y="273"/>
                </a:lnTo>
                <a:lnTo>
                  <a:pt x="3307" y="279"/>
                </a:lnTo>
                <a:lnTo>
                  <a:pt x="3309" y="284"/>
                </a:lnTo>
                <a:lnTo>
                  <a:pt x="3311" y="289"/>
                </a:lnTo>
                <a:lnTo>
                  <a:pt x="3313" y="295"/>
                </a:lnTo>
                <a:lnTo>
                  <a:pt x="3314" y="300"/>
                </a:lnTo>
                <a:lnTo>
                  <a:pt x="3315" y="306"/>
                </a:lnTo>
                <a:lnTo>
                  <a:pt x="3315" y="312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7160" y="4241880"/>
            <a:ext cx="876240" cy="163440"/>
          </a:xfrm>
          <a:custGeom>
            <a:avLst/>
            <a:gdLst/>
            <a:ahLst/>
            <a:rect l="l" t="t" r="r" b="b"/>
            <a:pathLst>
              <a:path w="3315" h="622">
                <a:moveTo>
                  <a:pt x="3315" y="310"/>
                </a:moveTo>
                <a:lnTo>
                  <a:pt x="3315" y="317"/>
                </a:lnTo>
                <a:lnTo>
                  <a:pt x="3314" y="322"/>
                </a:lnTo>
                <a:lnTo>
                  <a:pt x="3313" y="327"/>
                </a:lnTo>
                <a:lnTo>
                  <a:pt x="3311" y="333"/>
                </a:lnTo>
                <a:lnTo>
                  <a:pt x="3309" y="338"/>
                </a:lnTo>
                <a:lnTo>
                  <a:pt x="3307" y="343"/>
                </a:lnTo>
                <a:lnTo>
                  <a:pt x="3303" y="349"/>
                </a:lnTo>
                <a:lnTo>
                  <a:pt x="3299" y="354"/>
                </a:lnTo>
                <a:lnTo>
                  <a:pt x="3295" y="359"/>
                </a:lnTo>
                <a:lnTo>
                  <a:pt x="3290" y="365"/>
                </a:lnTo>
                <a:lnTo>
                  <a:pt x="3284" y="370"/>
                </a:lnTo>
                <a:lnTo>
                  <a:pt x="3279" y="375"/>
                </a:lnTo>
                <a:lnTo>
                  <a:pt x="3273" y="381"/>
                </a:lnTo>
                <a:lnTo>
                  <a:pt x="3266" y="386"/>
                </a:lnTo>
                <a:lnTo>
                  <a:pt x="3259" y="391"/>
                </a:lnTo>
                <a:lnTo>
                  <a:pt x="3251" y="397"/>
                </a:lnTo>
                <a:lnTo>
                  <a:pt x="3243" y="402"/>
                </a:lnTo>
                <a:lnTo>
                  <a:pt x="3234" y="407"/>
                </a:lnTo>
                <a:lnTo>
                  <a:pt x="3225" y="413"/>
                </a:lnTo>
                <a:lnTo>
                  <a:pt x="3215" y="417"/>
                </a:lnTo>
                <a:lnTo>
                  <a:pt x="3204" y="422"/>
                </a:lnTo>
                <a:lnTo>
                  <a:pt x="3194" y="428"/>
                </a:lnTo>
                <a:lnTo>
                  <a:pt x="3183" y="433"/>
                </a:lnTo>
                <a:lnTo>
                  <a:pt x="3171" y="437"/>
                </a:lnTo>
                <a:lnTo>
                  <a:pt x="3159" y="443"/>
                </a:lnTo>
                <a:lnTo>
                  <a:pt x="3147" y="448"/>
                </a:lnTo>
                <a:lnTo>
                  <a:pt x="3134" y="452"/>
                </a:lnTo>
                <a:lnTo>
                  <a:pt x="3120" y="458"/>
                </a:lnTo>
                <a:lnTo>
                  <a:pt x="3106" y="462"/>
                </a:lnTo>
                <a:lnTo>
                  <a:pt x="3092" y="467"/>
                </a:lnTo>
                <a:lnTo>
                  <a:pt x="3077" y="471"/>
                </a:lnTo>
                <a:lnTo>
                  <a:pt x="3062" y="476"/>
                </a:lnTo>
                <a:lnTo>
                  <a:pt x="3046" y="481"/>
                </a:lnTo>
                <a:lnTo>
                  <a:pt x="3030" y="485"/>
                </a:lnTo>
                <a:lnTo>
                  <a:pt x="3013" y="490"/>
                </a:lnTo>
                <a:lnTo>
                  <a:pt x="2997" y="494"/>
                </a:lnTo>
                <a:lnTo>
                  <a:pt x="2979" y="498"/>
                </a:lnTo>
                <a:lnTo>
                  <a:pt x="2962" y="502"/>
                </a:lnTo>
                <a:lnTo>
                  <a:pt x="2944" y="507"/>
                </a:lnTo>
                <a:lnTo>
                  <a:pt x="2925" y="511"/>
                </a:lnTo>
                <a:lnTo>
                  <a:pt x="2907" y="515"/>
                </a:lnTo>
                <a:lnTo>
                  <a:pt x="2888" y="519"/>
                </a:lnTo>
                <a:lnTo>
                  <a:pt x="2867" y="524"/>
                </a:lnTo>
                <a:lnTo>
                  <a:pt x="2847" y="527"/>
                </a:lnTo>
                <a:lnTo>
                  <a:pt x="2827" y="531"/>
                </a:lnTo>
                <a:lnTo>
                  <a:pt x="2807" y="535"/>
                </a:lnTo>
                <a:lnTo>
                  <a:pt x="2785" y="539"/>
                </a:lnTo>
                <a:lnTo>
                  <a:pt x="2764" y="543"/>
                </a:lnTo>
                <a:lnTo>
                  <a:pt x="2743" y="546"/>
                </a:lnTo>
                <a:lnTo>
                  <a:pt x="2720" y="549"/>
                </a:lnTo>
                <a:lnTo>
                  <a:pt x="2698" y="553"/>
                </a:lnTo>
                <a:lnTo>
                  <a:pt x="2674" y="557"/>
                </a:lnTo>
                <a:lnTo>
                  <a:pt x="2652" y="560"/>
                </a:lnTo>
                <a:lnTo>
                  <a:pt x="2628" y="563"/>
                </a:lnTo>
                <a:lnTo>
                  <a:pt x="2605" y="566"/>
                </a:lnTo>
                <a:lnTo>
                  <a:pt x="2580" y="569"/>
                </a:lnTo>
                <a:lnTo>
                  <a:pt x="2557" y="572"/>
                </a:lnTo>
                <a:lnTo>
                  <a:pt x="2532" y="575"/>
                </a:lnTo>
                <a:lnTo>
                  <a:pt x="2507" y="578"/>
                </a:lnTo>
                <a:lnTo>
                  <a:pt x="2482" y="580"/>
                </a:lnTo>
                <a:lnTo>
                  <a:pt x="2457" y="583"/>
                </a:lnTo>
                <a:lnTo>
                  <a:pt x="2431" y="585"/>
                </a:lnTo>
                <a:lnTo>
                  <a:pt x="2406" y="589"/>
                </a:lnTo>
                <a:lnTo>
                  <a:pt x="2380" y="591"/>
                </a:lnTo>
                <a:lnTo>
                  <a:pt x="2353" y="593"/>
                </a:lnTo>
                <a:lnTo>
                  <a:pt x="2327" y="595"/>
                </a:lnTo>
                <a:lnTo>
                  <a:pt x="2300" y="597"/>
                </a:lnTo>
                <a:lnTo>
                  <a:pt x="2273" y="599"/>
                </a:lnTo>
                <a:lnTo>
                  <a:pt x="2247" y="601"/>
                </a:lnTo>
                <a:lnTo>
                  <a:pt x="2219" y="604"/>
                </a:lnTo>
                <a:lnTo>
                  <a:pt x="2191" y="605"/>
                </a:lnTo>
                <a:lnTo>
                  <a:pt x="2165" y="607"/>
                </a:lnTo>
                <a:lnTo>
                  <a:pt x="2137" y="609"/>
                </a:lnTo>
                <a:lnTo>
                  <a:pt x="2109" y="610"/>
                </a:lnTo>
                <a:lnTo>
                  <a:pt x="2080" y="611"/>
                </a:lnTo>
                <a:lnTo>
                  <a:pt x="2053" y="613"/>
                </a:lnTo>
                <a:lnTo>
                  <a:pt x="2024" y="614"/>
                </a:lnTo>
                <a:lnTo>
                  <a:pt x="1996" y="615"/>
                </a:lnTo>
                <a:lnTo>
                  <a:pt x="1967" y="616"/>
                </a:lnTo>
                <a:lnTo>
                  <a:pt x="1939" y="617"/>
                </a:lnTo>
                <a:lnTo>
                  <a:pt x="1911" y="619"/>
                </a:lnTo>
                <a:lnTo>
                  <a:pt x="1882" y="619"/>
                </a:lnTo>
                <a:lnTo>
                  <a:pt x="1853" y="620"/>
                </a:lnTo>
                <a:lnTo>
                  <a:pt x="1824" y="621"/>
                </a:lnTo>
                <a:lnTo>
                  <a:pt x="1795" y="621"/>
                </a:lnTo>
                <a:lnTo>
                  <a:pt x="1766" y="621"/>
                </a:lnTo>
                <a:lnTo>
                  <a:pt x="1737" y="622"/>
                </a:lnTo>
                <a:lnTo>
                  <a:pt x="1708" y="622"/>
                </a:lnTo>
                <a:lnTo>
                  <a:pt x="1679" y="622"/>
                </a:lnTo>
                <a:lnTo>
                  <a:pt x="1651" y="622"/>
                </a:lnTo>
                <a:lnTo>
                  <a:pt x="1621" y="622"/>
                </a:lnTo>
                <a:lnTo>
                  <a:pt x="1592" y="622"/>
                </a:lnTo>
                <a:lnTo>
                  <a:pt x="1563" y="622"/>
                </a:lnTo>
                <a:lnTo>
                  <a:pt x="1534" y="621"/>
                </a:lnTo>
                <a:lnTo>
                  <a:pt x="1506" y="621"/>
                </a:lnTo>
                <a:lnTo>
                  <a:pt x="1477" y="620"/>
                </a:lnTo>
                <a:lnTo>
                  <a:pt x="1448" y="620"/>
                </a:lnTo>
                <a:lnTo>
                  <a:pt x="1419" y="619"/>
                </a:lnTo>
                <a:lnTo>
                  <a:pt x="1390" y="617"/>
                </a:lnTo>
                <a:lnTo>
                  <a:pt x="1362" y="616"/>
                </a:lnTo>
                <a:lnTo>
                  <a:pt x="1333" y="615"/>
                </a:lnTo>
                <a:lnTo>
                  <a:pt x="1305" y="614"/>
                </a:lnTo>
                <a:lnTo>
                  <a:pt x="1276" y="613"/>
                </a:lnTo>
                <a:lnTo>
                  <a:pt x="1249" y="612"/>
                </a:lnTo>
                <a:lnTo>
                  <a:pt x="1220" y="611"/>
                </a:lnTo>
                <a:lnTo>
                  <a:pt x="1192" y="609"/>
                </a:lnTo>
                <a:lnTo>
                  <a:pt x="1164" y="608"/>
                </a:lnTo>
                <a:lnTo>
                  <a:pt x="1137" y="606"/>
                </a:lnTo>
                <a:lnTo>
                  <a:pt x="1109" y="605"/>
                </a:lnTo>
                <a:lnTo>
                  <a:pt x="1082" y="603"/>
                </a:lnTo>
                <a:lnTo>
                  <a:pt x="1055" y="600"/>
                </a:lnTo>
                <a:lnTo>
                  <a:pt x="1028" y="598"/>
                </a:lnTo>
                <a:lnTo>
                  <a:pt x="1001" y="596"/>
                </a:lnTo>
                <a:lnTo>
                  <a:pt x="975" y="594"/>
                </a:lnTo>
                <a:lnTo>
                  <a:pt x="948" y="592"/>
                </a:lnTo>
                <a:lnTo>
                  <a:pt x="922" y="590"/>
                </a:lnTo>
                <a:lnTo>
                  <a:pt x="897" y="588"/>
                </a:lnTo>
                <a:lnTo>
                  <a:pt x="871" y="584"/>
                </a:lnTo>
                <a:lnTo>
                  <a:pt x="846" y="582"/>
                </a:lnTo>
                <a:lnTo>
                  <a:pt x="820" y="579"/>
                </a:lnTo>
                <a:lnTo>
                  <a:pt x="796" y="577"/>
                </a:lnTo>
                <a:lnTo>
                  <a:pt x="771" y="574"/>
                </a:lnTo>
                <a:lnTo>
                  <a:pt x="746" y="571"/>
                </a:lnTo>
                <a:lnTo>
                  <a:pt x="722" y="567"/>
                </a:lnTo>
                <a:lnTo>
                  <a:pt x="698" y="564"/>
                </a:lnTo>
                <a:lnTo>
                  <a:pt x="675" y="561"/>
                </a:lnTo>
                <a:lnTo>
                  <a:pt x="652" y="558"/>
                </a:lnTo>
                <a:lnTo>
                  <a:pt x="628" y="555"/>
                </a:lnTo>
                <a:lnTo>
                  <a:pt x="606" y="551"/>
                </a:lnTo>
                <a:lnTo>
                  <a:pt x="583" y="548"/>
                </a:lnTo>
                <a:lnTo>
                  <a:pt x="562" y="544"/>
                </a:lnTo>
                <a:lnTo>
                  <a:pt x="541" y="541"/>
                </a:lnTo>
                <a:lnTo>
                  <a:pt x="519" y="536"/>
                </a:lnTo>
                <a:lnTo>
                  <a:pt x="498" y="533"/>
                </a:lnTo>
                <a:lnTo>
                  <a:pt x="478" y="529"/>
                </a:lnTo>
                <a:lnTo>
                  <a:pt x="457" y="526"/>
                </a:lnTo>
                <a:lnTo>
                  <a:pt x="437" y="521"/>
                </a:lnTo>
                <a:lnTo>
                  <a:pt x="418" y="517"/>
                </a:lnTo>
                <a:lnTo>
                  <a:pt x="399" y="513"/>
                </a:lnTo>
                <a:lnTo>
                  <a:pt x="380" y="509"/>
                </a:lnTo>
                <a:lnTo>
                  <a:pt x="362" y="504"/>
                </a:lnTo>
                <a:lnTo>
                  <a:pt x="344" y="500"/>
                </a:lnTo>
                <a:lnTo>
                  <a:pt x="326" y="496"/>
                </a:lnTo>
                <a:lnTo>
                  <a:pt x="309" y="492"/>
                </a:lnTo>
                <a:lnTo>
                  <a:pt x="292" y="487"/>
                </a:lnTo>
                <a:lnTo>
                  <a:pt x="276" y="483"/>
                </a:lnTo>
                <a:lnTo>
                  <a:pt x="260" y="479"/>
                </a:lnTo>
                <a:lnTo>
                  <a:pt x="245" y="474"/>
                </a:lnTo>
                <a:lnTo>
                  <a:pt x="230" y="469"/>
                </a:lnTo>
                <a:lnTo>
                  <a:pt x="215" y="464"/>
                </a:lnTo>
                <a:lnTo>
                  <a:pt x="202" y="460"/>
                </a:lnTo>
                <a:lnTo>
                  <a:pt x="188" y="454"/>
                </a:lnTo>
                <a:lnTo>
                  <a:pt x="175" y="450"/>
                </a:lnTo>
                <a:lnTo>
                  <a:pt x="162" y="445"/>
                </a:lnTo>
                <a:lnTo>
                  <a:pt x="149" y="440"/>
                </a:lnTo>
                <a:lnTo>
                  <a:pt x="138" y="435"/>
                </a:lnTo>
                <a:lnTo>
                  <a:pt x="126" y="430"/>
                </a:lnTo>
                <a:lnTo>
                  <a:pt x="115" y="426"/>
                </a:lnTo>
                <a:lnTo>
                  <a:pt x="105" y="420"/>
                </a:lnTo>
                <a:lnTo>
                  <a:pt x="95" y="415"/>
                </a:lnTo>
                <a:lnTo>
                  <a:pt x="85" y="410"/>
                </a:lnTo>
                <a:lnTo>
                  <a:pt x="77" y="404"/>
                </a:lnTo>
                <a:lnTo>
                  <a:pt x="68" y="400"/>
                </a:lnTo>
                <a:lnTo>
                  <a:pt x="60" y="395"/>
                </a:lnTo>
                <a:lnTo>
                  <a:pt x="52" y="389"/>
                </a:lnTo>
                <a:lnTo>
                  <a:pt x="46" y="384"/>
                </a:lnTo>
                <a:lnTo>
                  <a:pt x="39" y="379"/>
                </a:lnTo>
                <a:lnTo>
                  <a:pt x="33" y="373"/>
                </a:lnTo>
                <a:lnTo>
                  <a:pt x="28" y="368"/>
                </a:lnTo>
                <a:lnTo>
                  <a:pt x="22" y="363"/>
                </a:lnTo>
                <a:lnTo>
                  <a:pt x="18" y="357"/>
                </a:lnTo>
                <a:lnTo>
                  <a:pt x="14" y="352"/>
                </a:lnTo>
                <a:lnTo>
                  <a:pt x="11" y="347"/>
                </a:lnTo>
                <a:lnTo>
                  <a:pt x="8" y="341"/>
                </a:lnTo>
                <a:lnTo>
                  <a:pt x="4" y="335"/>
                </a:lnTo>
                <a:lnTo>
                  <a:pt x="2" y="330"/>
                </a:lnTo>
                <a:lnTo>
                  <a:pt x="1" y="324"/>
                </a:lnTo>
                <a:lnTo>
                  <a:pt x="0" y="319"/>
                </a:lnTo>
                <a:lnTo>
                  <a:pt x="0" y="314"/>
                </a:lnTo>
                <a:lnTo>
                  <a:pt x="0" y="308"/>
                </a:lnTo>
                <a:lnTo>
                  <a:pt x="0" y="303"/>
                </a:lnTo>
                <a:lnTo>
                  <a:pt x="1" y="298"/>
                </a:lnTo>
                <a:lnTo>
                  <a:pt x="2" y="292"/>
                </a:lnTo>
                <a:lnTo>
                  <a:pt x="4" y="287"/>
                </a:lnTo>
                <a:lnTo>
                  <a:pt x="8" y="280"/>
                </a:lnTo>
                <a:lnTo>
                  <a:pt x="11" y="275"/>
                </a:lnTo>
                <a:lnTo>
                  <a:pt x="14" y="270"/>
                </a:lnTo>
                <a:lnTo>
                  <a:pt x="18" y="264"/>
                </a:lnTo>
                <a:lnTo>
                  <a:pt x="22" y="259"/>
                </a:lnTo>
                <a:lnTo>
                  <a:pt x="28" y="254"/>
                </a:lnTo>
                <a:lnTo>
                  <a:pt x="33" y="248"/>
                </a:lnTo>
                <a:lnTo>
                  <a:pt x="39" y="243"/>
                </a:lnTo>
                <a:lnTo>
                  <a:pt x="46" y="238"/>
                </a:lnTo>
                <a:lnTo>
                  <a:pt x="52" y="232"/>
                </a:lnTo>
                <a:lnTo>
                  <a:pt x="60" y="227"/>
                </a:lnTo>
                <a:lnTo>
                  <a:pt x="68" y="222"/>
                </a:lnTo>
                <a:lnTo>
                  <a:pt x="77" y="218"/>
                </a:lnTo>
                <a:lnTo>
                  <a:pt x="85" y="212"/>
                </a:lnTo>
                <a:lnTo>
                  <a:pt x="95" y="207"/>
                </a:lnTo>
                <a:lnTo>
                  <a:pt x="105" y="202"/>
                </a:lnTo>
                <a:lnTo>
                  <a:pt x="115" y="196"/>
                </a:lnTo>
                <a:lnTo>
                  <a:pt x="126" y="192"/>
                </a:lnTo>
                <a:lnTo>
                  <a:pt x="138" y="187"/>
                </a:lnTo>
                <a:lnTo>
                  <a:pt x="149" y="181"/>
                </a:lnTo>
                <a:lnTo>
                  <a:pt x="162" y="177"/>
                </a:lnTo>
                <a:lnTo>
                  <a:pt x="175" y="172"/>
                </a:lnTo>
                <a:lnTo>
                  <a:pt x="188" y="167"/>
                </a:lnTo>
                <a:lnTo>
                  <a:pt x="202" y="162"/>
                </a:lnTo>
                <a:lnTo>
                  <a:pt x="215" y="158"/>
                </a:lnTo>
                <a:lnTo>
                  <a:pt x="230" y="152"/>
                </a:lnTo>
                <a:lnTo>
                  <a:pt x="245" y="148"/>
                </a:lnTo>
                <a:lnTo>
                  <a:pt x="260" y="143"/>
                </a:lnTo>
                <a:lnTo>
                  <a:pt x="276" y="139"/>
                </a:lnTo>
                <a:lnTo>
                  <a:pt x="292" y="134"/>
                </a:lnTo>
                <a:lnTo>
                  <a:pt x="309" y="130"/>
                </a:lnTo>
                <a:lnTo>
                  <a:pt x="326" y="126"/>
                </a:lnTo>
                <a:lnTo>
                  <a:pt x="343" y="122"/>
                </a:lnTo>
                <a:lnTo>
                  <a:pt x="362" y="117"/>
                </a:lnTo>
                <a:lnTo>
                  <a:pt x="380" y="113"/>
                </a:lnTo>
                <a:lnTo>
                  <a:pt x="399" y="109"/>
                </a:lnTo>
                <a:lnTo>
                  <a:pt x="418" y="105"/>
                </a:lnTo>
                <a:lnTo>
                  <a:pt x="437" y="100"/>
                </a:lnTo>
                <a:lnTo>
                  <a:pt x="457" y="96"/>
                </a:lnTo>
                <a:lnTo>
                  <a:pt x="478" y="93"/>
                </a:lnTo>
                <a:lnTo>
                  <a:pt x="498" y="89"/>
                </a:lnTo>
                <a:lnTo>
                  <a:pt x="519" y="85"/>
                </a:lnTo>
                <a:lnTo>
                  <a:pt x="541" y="81"/>
                </a:lnTo>
                <a:lnTo>
                  <a:pt x="562" y="78"/>
                </a:lnTo>
                <a:lnTo>
                  <a:pt x="583" y="74"/>
                </a:lnTo>
                <a:lnTo>
                  <a:pt x="606" y="70"/>
                </a:lnTo>
                <a:lnTo>
                  <a:pt x="628" y="67"/>
                </a:lnTo>
                <a:lnTo>
                  <a:pt x="652" y="64"/>
                </a:lnTo>
                <a:lnTo>
                  <a:pt x="675" y="61"/>
                </a:lnTo>
                <a:lnTo>
                  <a:pt x="698" y="58"/>
                </a:lnTo>
                <a:lnTo>
                  <a:pt x="722" y="54"/>
                </a:lnTo>
                <a:lnTo>
                  <a:pt x="746" y="51"/>
                </a:lnTo>
                <a:lnTo>
                  <a:pt x="771" y="48"/>
                </a:lnTo>
                <a:lnTo>
                  <a:pt x="796" y="45"/>
                </a:lnTo>
                <a:lnTo>
                  <a:pt x="820" y="43"/>
                </a:lnTo>
                <a:lnTo>
                  <a:pt x="846" y="39"/>
                </a:lnTo>
                <a:lnTo>
                  <a:pt x="870" y="37"/>
                </a:lnTo>
                <a:lnTo>
                  <a:pt x="897" y="34"/>
                </a:lnTo>
                <a:lnTo>
                  <a:pt x="922" y="32"/>
                </a:lnTo>
                <a:lnTo>
                  <a:pt x="948" y="30"/>
                </a:lnTo>
                <a:lnTo>
                  <a:pt x="975" y="28"/>
                </a:lnTo>
                <a:lnTo>
                  <a:pt x="1001" y="26"/>
                </a:lnTo>
                <a:lnTo>
                  <a:pt x="1028" y="23"/>
                </a:lnTo>
                <a:lnTo>
                  <a:pt x="1055" y="21"/>
                </a:lnTo>
                <a:lnTo>
                  <a:pt x="1082" y="19"/>
                </a:lnTo>
                <a:lnTo>
                  <a:pt x="1109" y="17"/>
                </a:lnTo>
                <a:lnTo>
                  <a:pt x="1137" y="16"/>
                </a:lnTo>
                <a:lnTo>
                  <a:pt x="1164" y="14"/>
                </a:lnTo>
                <a:lnTo>
                  <a:pt x="1192" y="13"/>
                </a:lnTo>
                <a:lnTo>
                  <a:pt x="1220" y="11"/>
                </a:lnTo>
                <a:lnTo>
                  <a:pt x="1249" y="10"/>
                </a:lnTo>
                <a:lnTo>
                  <a:pt x="1276" y="9"/>
                </a:lnTo>
                <a:lnTo>
                  <a:pt x="1304" y="7"/>
                </a:lnTo>
                <a:lnTo>
                  <a:pt x="1333" y="6"/>
                </a:lnTo>
                <a:lnTo>
                  <a:pt x="1362" y="5"/>
                </a:lnTo>
                <a:lnTo>
                  <a:pt x="1390" y="4"/>
                </a:lnTo>
                <a:lnTo>
                  <a:pt x="1419" y="3"/>
                </a:lnTo>
                <a:lnTo>
                  <a:pt x="1448" y="2"/>
                </a:lnTo>
                <a:lnTo>
                  <a:pt x="1477" y="2"/>
                </a:lnTo>
                <a:lnTo>
                  <a:pt x="1506" y="1"/>
                </a:lnTo>
                <a:lnTo>
                  <a:pt x="1534" y="1"/>
                </a:lnTo>
                <a:lnTo>
                  <a:pt x="1563" y="0"/>
                </a:lnTo>
                <a:lnTo>
                  <a:pt x="1592" y="0"/>
                </a:lnTo>
                <a:lnTo>
                  <a:pt x="1621" y="0"/>
                </a:lnTo>
                <a:lnTo>
                  <a:pt x="1650" y="0"/>
                </a:lnTo>
                <a:lnTo>
                  <a:pt x="1679" y="0"/>
                </a:lnTo>
                <a:lnTo>
                  <a:pt x="1708" y="0"/>
                </a:lnTo>
                <a:lnTo>
                  <a:pt x="1737" y="0"/>
                </a:lnTo>
                <a:lnTo>
                  <a:pt x="1766" y="1"/>
                </a:lnTo>
                <a:lnTo>
                  <a:pt x="1795" y="1"/>
                </a:lnTo>
                <a:lnTo>
                  <a:pt x="1823" y="1"/>
                </a:lnTo>
                <a:lnTo>
                  <a:pt x="1853" y="2"/>
                </a:lnTo>
                <a:lnTo>
                  <a:pt x="1882" y="3"/>
                </a:lnTo>
                <a:lnTo>
                  <a:pt x="1910" y="3"/>
                </a:lnTo>
                <a:lnTo>
                  <a:pt x="1939" y="4"/>
                </a:lnTo>
                <a:lnTo>
                  <a:pt x="1967" y="5"/>
                </a:lnTo>
                <a:lnTo>
                  <a:pt x="1996" y="6"/>
                </a:lnTo>
                <a:lnTo>
                  <a:pt x="2024" y="7"/>
                </a:lnTo>
                <a:lnTo>
                  <a:pt x="2053" y="9"/>
                </a:lnTo>
                <a:lnTo>
                  <a:pt x="2080" y="11"/>
                </a:lnTo>
                <a:lnTo>
                  <a:pt x="2108" y="12"/>
                </a:lnTo>
                <a:lnTo>
                  <a:pt x="2137" y="13"/>
                </a:lnTo>
                <a:lnTo>
                  <a:pt x="2165" y="15"/>
                </a:lnTo>
                <a:lnTo>
                  <a:pt x="2191" y="17"/>
                </a:lnTo>
                <a:lnTo>
                  <a:pt x="2219" y="18"/>
                </a:lnTo>
                <a:lnTo>
                  <a:pt x="2247" y="20"/>
                </a:lnTo>
                <a:lnTo>
                  <a:pt x="2273" y="22"/>
                </a:lnTo>
                <a:lnTo>
                  <a:pt x="2300" y="25"/>
                </a:lnTo>
                <a:lnTo>
                  <a:pt x="2327" y="27"/>
                </a:lnTo>
                <a:lnTo>
                  <a:pt x="2353" y="29"/>
                </a:lnTo>
                <a:lnTo>
                  <a:pt x="2380" y="31"/>
                </a:lnTo>
                <a:lnTo>
                  <a:pt x="2406" y="33"/>
                </a:lnTo>
                <a:lnTo>
                  <a:pt x="2431" y="36"/>
                </a:lnTo>
                <a:lnTo>
                  <a:pt x="2457" y="38"/>
                </a:lnTo>
                <a:lnTo>
                  <a:pt x="2482" y="42"/>
                </a:lnTo>
                <a:lnTo>
                  <a:pt x="2507" y="44"/>
                </a:lnTo>
                <a:lnTo>
                  <a:pt x="2532" y="47"/>
                </a:lnTo>
                <a:lnTo>
                  <a:pt x="2557" y="50"/>
                </a:lnTo>
                <a:lnTo>
                  <a:pt x="2580" y="52"/>
                </a:lnTo>
                <a:lnTo>
                  <a:pt x="2605" y="55"/>
                </a:lnTo>
                <a:lnTo>
                  <a:pt x="2628" y="59"/>
                </a:lnTo>
                <a:lnTo>
                  <a:pt x="2652" y="62"/>
                </a:lnTo>
                <a:lnTo>
                  <a:pt x="2674" y="65"/>
                </a:lnTo>
                <a:lnTo>
                  <a:pt x="2698" y="68"/>
                </a:lnTo>
                <a:lnTo>
                  <a:pt x="2720" y="73"/>
                </a:lnTo>
                <a:lnTo>
                  <a:pt x="2743" y="76"/>
                </a:lnTo>
                <a:lnTo>
                  <a:pt x="2764" y="79"/>
                </a:lnTo>
                <a:lnTo>
                  <a:pt x="2785" y="83"/>
                </a:lnTo>
                <a:lnTo>
                  <a:pt x="2807" y="86"/>
                </a:lnTo>
                <a:lnTo>
                  <a:pt x="2827" y="91"/>
                </a:lnTo>
                <a:lnTo>
                  <a:pt x="2847" y="95"/>
                </a:lnTo>
                <a:lnTo>
                  <a:pt x="2867" y="98"/>
                </a:lnTo>
                <a:lnTo>
                  <a:pt x="2888" y="102"/>
                </a:lnTo>
                <a:lnTo>
                  <a:pt x="2907" y="107"/>
                </a:lnTo>
                <a:lnTo>
                  <a:pt x="2925" y="111"/>
                </a:lnTo>
                <a:lnTo>
                  <a:pt x="2944" y="115"/>
                </a:lnTo>
                <a:lnTo>
                  <a:pt x="2962" y="119"/>
                </a:lnTo>
                <a:lnTo>
                  <a:pt x="2979" y="124"/>
                </a:lnTo>
                <a:lnTo>
                  <a:pt x="2997" y="128"/>
                </a:lnTo>
                <a:lnTo>
                  <a:pt x="3013" y="132"/>
                </a:lnTo>
                <a:lnTo>
                  <a:pt x="3030" y="137"/>
                </a:lnTo>
                <a:lnTo>
                  <a:pt x="3046" y="141"/>
                </a:lnTo>
                <a:lnTo>
                  <a:pt x="3062" y="146"/>
                </a:lnTo>
                <a:lnTo>
                  <a:pt x="3077" y="150"/>
                </a:lnTo>
                <a:lnTo>
                  <a:pt x="3092" y="155"/>
                </a:lnTo>
                <a:lnTo>
                  <a:pt x="3106" y="160"/>
                </a:lnTo>
                <a:lnTo>
                  <a:pt x="3120" y="164"/>
                </a:lnTo>
                <a:lnTo>
                  <a:pt x="3134" y="170"/>
                </a:lnTo>
                <a:lnTo>
                  <a:pt x="3147" y="174"/>
                </a:lnTo>
                <a:lnTo>
                  <a:pt x="3159" y="179"/>
                </a:lnTo>
                <a:lnTo>
                  <a:pt x="3171" y="184"/>
                </a:lnTo>
                <a:lnTo>
                  <a:pt x="3183" y="189"/>
                </a:lnTo>
                <a:lnTo>
                  <a:pt x="3194" y="194"/>
                </a:lnTo>
                <a:lnTo>
                  <a:pt x="3204" y="199"/>
                </a:lnTo>
                <a:lnTo>
                  <a:pt x="3215" y="205"/>
                </a:lnTo>
                <a:lnTo>
                  <a:pt x="3225" y="209"/>
                </a:lnTo>
                <a:lnTo>
                  <a:pt x="3234" y="214"/>
                </a:lnTo>
                <a:lnTo>
                  <a:pt x="3243" y="220"/>
                </a:lnTo>
                <a:lnTo>
                  <a:pt x="3251" y="225"/>
                </a:lnTo>
                <a:lnTo>
                  <a:pt x="3259" y="230"/>
                </a:lnTo>
                <a:lnTo>
                  <a:pt x="3266" y="236"/>
                </a:lnTo>
                <a:lnTo>
                  <a:pt x="3273" y="241"/>
                </a:lnTo>
                <a:lnTo>
                  <a:pt x="3279" y="246"/>
                </a:lnTo>
                <a:lnTo>
                  <a:pt x="3284" y="252"/>
                </a:lnTo>
                <a:lnTo>
                  <a:pt x="3290" y="257"/>
                </a:lnTo>
                <a:lnTo>
                  <a:pt x="3295" y="262"/>
                </a:lnTo>
                <a:lnTo>
                  <a:pt x="3299" y="268"/>
                </a:lnTo>
                <a:lnTo>
                  <a:pt x="3303" y="273"/>
                </a:lnTo>
                <a:lnTo>
                  <a:pt x="3307" y="278"/>
                </a:lnTo>
                <a:lnTo>
                  <a:pt x="3309" y="284"/>
                </a:lnTo>
                <a:lnTo>
                  <a:pt x="3311" y="289"/>
                </a:lnTo>
                <a:lnTo>
                  <a:pt x="3313" y="294"/>
                </a:lnTo>
                <a:lnTo>
                  <a:pt x="3314" y="300"/>
                </a:lnTo>
                <a:lnTo>
                  <a:pt x="3315" y="305"/>
                </a:lnTo>
                <a:lnTo>
                  <a:pt x="3315" y="310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4459320"/>
            <a:ext cx="765360" cy="461880"/>
          </a:xfrm>
          <a:custGeom>
            <a:avLst/>
            <a:gdLst/>
            <a:ahLst/>
            <a:rect l="l" t="t" r="r" b="b"/>
            <a:pathLst>
              <a:path w="2888" h="1746">
                <a:moveTo>
                  <a:pt x="2879" y="43"/>
                </a:moveTo>
                <a:lnTo>
                  <a:pt x="2882" y="47"/>
                </a:lnTo>
                <a:lnTo>
                  <a:pt x="2885" y="52"/>
                </a:lnTo>
                <a:lnTo>
                  <a:pt x="2886" y="58"/>
                </a:lnTo>
                <a:lnTo>
                  <a:pt x="2887" y="63"/>
                </a:lnTo>
                <a:lnTo>
                  <a:pt x="2888" y="69"/>
                </a:lnTo>
                <a:lnTo>
                  <a:pt x="2888" y="75"/>
                </a:lnTo>
                <a:lnTo>
                  <a:pt x="2888" y="81"/>
                </a:lnTo>
                <a:lnTo>
                  <a:pt x="2888" y="88"/>
                </a:lnTo>
                <a:lnTo>
                  <a:pt x="2887" y="95"/>
                </a:lnTo>
                <a:lnTo>
                  <a:pt x="2885" y="101"/>
                </a:lnTo>
                <a:lnTo>
                  <a:pt x="2882" y="109"/>
                </a:lnTo>
                <a:lnTo>
                  <a:pt x="2880" y="116"/>
                </a:lnTo>
                <a:lnTo>
                  <a:pt x="2877" y="125"/>
                </a:lnTo>
                <a:lnTo>
                  <a:pt x="2874" y="132"/>
                </a:lnTo>
                <a:lnTo>
                  <a:pt x="2871" y="141"/>
                </a:lnTo>
                <a:lnTo>
                  <a:pt x="2866" y="149"/>
                </a:lnTo>
                <a:lnTo>
                  <a:pt x="2862" y="158"/>
                </a:lnTo>
                <a:lnTo>
                  <a:pt x="2857" y="167"/>
                </a:lnTo>
                <a:lnTo>
                  <a:pt x="2851" y="175"/>
                </a:lnTo>
                <a:lnTo>
                  <a:pt x="2846" y="185"/>
                </a:lnTo>
                <a:lnTo>
                  <a:pt x="2840" y="194"/>
                </a:lnTo>
                <a:lnTo>
                  <a:pt x="2832" y="204"/>
                </a:lnTo>
                <a:lnTo>
                  <a:pt x="2826" y="215"/>
                </a:lnTo>
                <a:lnTo>
                  <a:pt x="2818" y="224"/>
                </a:lnTo>
                <a:lnTo>
                  <a:pt x="2810" y="235"/>
                </a:lnTo>
                <a:lnTo>
                  <a:pt x="2801" y="245"/>
                </a:lnTo>
                <a:lnTo>
                  <a:pt x="2793" y="256"/>
                </a:lnTo>
                <a:lnTo>
                  <a:pt x="2783" y="267"/>
                </a:lnTo>
                <a:lnTo>
                  <a:pt x="2774" y="277"/>
                </a:lnTo>
                <a:lnTo>
                  <a:pt x="2764" y="289"/>
                </a:lnTo>
                <a:lnTo>
                  <a:pt x="2753" y="300"/>
                </a:lnTo>
                <a:lnTo>
                  <a:pt x="2743" y="312"/>
                </a:lnTo>
                <a:lnTo>
                  <a:pt x="2731" y="323"/>
                </a:lnTo>
                <a:lnTo>
                  <a:pt x="2719" y="336"/>
                </a:lnTo>
                <a:lnTo>
                  <a:pt x="2708" y="348"/>
                </a:lnTo>
                <a:lnTo>
                  <a:pt x="2695" y="360"/>
                </a:lnTo>
                <a:lnTo>
                  <a:pt x="2682" y="372"/>
                </a:lnTo>
                <a:lnTo>
                  <a:pt x="2669" y="385"/>
                </a:lnTo>
                <a:lnTo>
                  <a:pt x="2655" y="398"/>
                </a:lnTo>
                <a:lnTo>
                  <a:pt x="2641" y="411"/>
                </a:lnTo>
                <a:lnTo>
                  <a:pt x="2628" y="424"/>
                </a:lnTo>
                <a:lnTo>
                  <a:pt x="2613" y="436"/>
                </a:lnTo>
                <a:lnTo>
                  <a:pt x="2598" y="450"/>
                </a:lnTo>
                <a:lnTo>
                  <a:pt x="2583" y="463"/>
                </a:lnTo>
                <a:lnTo>
                  <a:pt x="2567" y="477"/>
                </a:lnTo>
                <a:lnTo>
                  <a:pt x="2551" y="491"/>
                </a:lnTo>
                <a:lnTo>
                  <a:pt x="2534" y="505"/>
                </a:lnTo>
                <a:lnTo>
                  <a:pt x="2518" y="518"/>
                </a:lnTo>
                <a:lnTo>
                  <a:pt x="2501" y="532"/>
                </a:lnTo>
                <a:lnTo>
                  <a:pt x="2483" y="546"/>
                </a:lnTo>
                <a:lnTo>
                  <a:pt x="2465" y="561"/>
                </a:lnTo>
                <a:lnTo>
                  <a:pt x="2447" y="575"/>
                </a:lnTo>
                <a:lnTo>
                  <a:pt x="2429" y="590"/>
                </a:lnTo>
                <a:lnTo>
                  <a:pt x="2410" y="604"/>
                </a:lnTo>
                <a:lnTo>
                  <a:pt x="2392" y="619"/>
                </a:lnTo>
                <a:lnTo>
                  <a:pt x="2373" y="634"/>
                </a:lnTo>
                <a:lnTo>
                  <a:pt x="2352" y="648"/>
                </a:lnTo>
                <a:lnTo>
                  <a:pt x="2333" y="662"/>
                </a:lnTo>
                <a:lnTo>
                  <a:pt x="2313" y="677"/>
                </a:lnTo>
                <a:lnTo>
                  <a:pt x="2293" y="692"/>
                </a:lnTo>
                <a:lnTo>
                  <a:pt x="2272" y="707"/>
                </a:lnTo>
                <a:lnTo>
                  <a:pt x="2251" y="722"/>
                </a:lnTo>
                <a:lnTo>
                  <a:pt x="2230" y="737"/>
                </a:lnTo>
                <a:lnTo>
                  <a:pt x="2208" y="753"/>
                </a:lnTo>
                <a:lnTo>
                  <a:pt x="2187" y="768"/>
                </a:lnTo>
                <a:lnTo>
                  <a:pt x="2166" y="783"/>
                </a:lnTo>
                <a:lnTo>
                  <a:pt x="2143" y="798"/>
                </a:lnTo>
                <a:lnTo>
                  <a:pt x="2121" y="814"/>
                </a:lnTo>
                <a:lnTo>
                  <a:pt x="2099" y="829"/>
                </a:lnTo>
                <a:lnTo>
                  <a:pt x="2076" y="844"/>
                </a:lnTo>
                <a:lnTo>
                  <a:pt x="2053" y="859"/>
                </a:lnTo>
                <a:lnTo>
                  <a:pt x="2030" y="875"/>
                </a:lnTo>
                <a:lnTo>
                  <a:pt x="2007" y="890"/>
                </a:lnTo>
                <a:lnTo>
                  <a:pt x="1983" y="905"/>
                </a:lnTo>
                <a:lnTo>
                  <a:pt x="1960" y="921"/>
                </a:lnTo>
                <a:lnTo>
                  <a:pt x="1937" y="935"/>
                </a:lnTo>
                <a:lnTo>
                  <a:pt x="1913" y="950"/>
                </a:lnTo>
                <a:lnTo>
                  <a:pt x="1889" y="966"/>
                </a:lnTo>
                <a:lnTo>
                  <a:pt x="1865" y="981"/>
                </a:lnTo>
                <a:lnTo>
                  <a:pt x="1841" y="996"/>
                </a:lnTo>
                <a:lnTo>
                  <a:pt x="1816" y="1011"/>
                </a:lnTo>
                <a:lnTo>
                  <a:pt x="1792" y="1026"/>
                </a:lnTo>
                <a:lnTo>
                  <a:pt x="1767" y="1041"/>
                </a:lnTo>
                <a:lnTo>
                  <a:pt x="1743" y="1056"/>
                </a:lnTo>
                <a:lnTo>
                  <a:pt x="1718" y="1071"/>
                </a:lnTo>
                <a:lnTo>
                  <a:pt x="1692" y="1086"/>
                </a:lnTo>
                <a:lnTo>
                  <a:pt x="1668" y="1101"/>
                </a:lnTo>
                <a:lnTo>
                  <a:pt x="1643" y="1116"/>
                </a:lnTo>
                <a:lnTo>
                  <a:pt x="1618" y="1131"/>
                </a:lnTo>
                <a:lnTo>
                  <a:pt x="1592" y="1144"/>
                </a:lnTo>
                <a:lnTo>
                  <a:pt x="1568" y="1159"/>
                </a:lnTo>
                <a:lnTo>
                  <a:pt x="1542" y="1173"/>
                </a:lnTo>
                <a:lnTo>
                  <a:pt x="1518" y="1188"/>
                </a:lnTo>
                <a:lnTo>
                  <a:pt x="1492" y="1202"/>
                </a:lnTo>
                <a:lnTo>
                  <a:pt x="1466" y="1216"/>
                </a:lnTo>
                <a:lnTo>
                  <a:pt x="1442" y="1230"/>
                </a:lnTo>
                <a:lnTo>
                  <a:pt x="1416" y="1244"/>
                </a:lnTo>
                <a:lnTo>
                  <a:pt x="1391" y="1258"/>
                </a:lnTo>
                <a:lnTo>
                  <a:pt x="1365" y="1271"/>
                </a:lnTo>
                <a:lnTo>
                  <a:pt x="1341" y="1285"/>
                </a:lnTo>
                <a:lnTo>
                  <a:pt x="1315" y="1298"/>
                </a:lnTo>
                <a:lnTo>
                  <a:pt x="1290" y="1312"/>
                </a:lnTo>
                <a:lnTo>
                  <a:pt x="1265" y="1325"/>
                </a:lnTo>
                <a:lnTo>
                  <a:pt x="1240" y="1338"/>
                </a:lnTo>
                <a:lnTo>
                  <a:pt x="1215" y="1350"/>
                </a:lnTo>
                <a:lnTo>
                  <a:pt x="1190" y="1363"/>
                </a:lnTo>
                <a:lnTo>
                  <a:pt x="1165" y="1376"/>
                </a:lnTo>
                <a:lnTo>
                  <a:pt x="1140" y="1389"/>
                </a:lnTo>
                <a:lnTo>
                  <a:pt x="1116" y="1400"/>
                </a:lnTo>
                <a:lnTo>
                  <a:pt x="1091" y="1412"/>
                </a:lnTo>
                <a:lnTo>
                  <a:pt x="1066" y="1425"/>
                </a:lnTo>
                <a:lnTo>
                  <a:pt x="1042" y="1437"/>
                </a:lnTo>
                <a:lnTo>
                  <a:pt x="1018" y="1448"/>
                </a:lnTo>
                <a:lnTo>
                  <a:pt x="994" y="1459"/>
                </a:lnTo>
                <a:lnTo>
                  <a:pt x="971" y="1471"/>
                </a:lnTo>
                <a:lnTo>
                  <a:pt x="946" y="1482"/>
                </a:lnTo>
                <a:lnTo>
                  <a:pt x="923" y="1492"/>
                </a:lnTo>
                <a:lnTo>
                  <a:pt x="899" y="1503"/>
                </a:lnTo>
                <a:lnTo>
                  <a:pt x="876" y="1513"/>
                </a:lnTo>
                <a:lnTo>
                  <a:pt x="853" y="1524"/>
                </a:lnTo>
                <a:lnTo>
                  <a:pt x="830" y="1534"/>
                </a:lnTo>
                <a:lnTo>
                  <a:pt x="807" y="1543"/>
                </a:lnTo>
                <a:lnTo>
                  <a:pt x="785" y="1554"/>
                </a:lnTo>
                <a:lnTo>
                  <a:pt x="763" y="1563"/>
                </a:lnTo>
                <a:lnTo>
                  <a:pt x="740" y="1572"/>
                </a:lnTo>
                <a:lnTo>
                  <a:pt x="718" y="1582"/>
                </a:lnTo>
                <a:lnTo>
                  <a:pt x="696" y="1590"/>
                </a:lnTo>
                <a:lnTo>
                  <a:pt x="675" y="1599"/>
                </a:lnTo>
                <a:lnTo>
                  <a:pt x="654" y="1607"/>
                </a:lnTo>
                <a:lnTo>
                  <a:pt x="632" y="1615"/>
                </a:lnTo>
                <a:lnTo>
                  <a:pt x="611" y="1623"/>
                </a:lnTo>
                <a:lnTo>
                  <a:pt x="591" y="1631"/>
                </a:lnTo>
                <a:lnTo>
                  <a:pt x="571" y="1638"/>
                </a:lnTo>
                <a:lnTo>
                  <a:pt x="550" y="1646"/>
                </a:lnTo>
                <a:lnTo>
                  <a:pt x="531" y="1652"/>
                </a:lnTo>
                <a:lnTo>
                  <a:pt x="512" y="1660"/>
                </a:lnTo>
                <a:lnTo>
                  <a:pt x="493" y="1666"/>
                </a:lnTo>
                <a:lnTo>
                  <a:pt x="474" y="1672"/>
                </a:lnTo>
                <a:lnTo>
                  <a:pt x="455" y="1678"/>
                </a:lnTo>
                <a:lnTo>
                  <a:pt x="437" y="1684"/>
                </a:lnTo>
                <a:lnTo>
                  <a:pt x="419" y="1689"/>
                </a:lnTo>
                <a:lnTo>
                  <a:pt x="401" y="1695"/>
                </a:lnTo>
                <a:lnTo>
                  <a:pt x="384" y="1700"/>
                </a:lnTo>
                <a:lnTo>
                  <a:pt x="367" y="1704"/>
                </a:lnTo>
                <a:lnTo>
                  <a:pt x="350" y="1709"/>
                </a:lnTo>
                <a:lnTo>
                  <a:pt x="334" y="1713"/>
                </a:lnTo>
                <a:lnTo>
                  <a:pt x="318" y="1717"/>
                </a:lnTo>
                <a:lnTo>
                  <a:pt x="302" y="1721"/>
                </a:lnTo>
                <a:lnTo>
                  <a:pt x="287" y="1725"/>
                </a:lnTo>
                <a:lnTo>
                  <a:pt x="272" y="1728"/>
                </a:lnTo>
                <a:lnTo>
                  <a:pt x="257" y="1731"/>
                </a:lnTo>
                <a:lnTo>
                  <a:pt x="243" y="1733"/>
                </a:lnTo>
                <a:lnTo>
                  <a:pt x="229" y="1735"/>
                </a:lnTo>
                <a:lnTo>
                  <a:pt x="216" y="1737"/>
                </a:lnTo>
                <a:lnTo>
                  <a:pt x="203" y="1740"/>
                </a:lnTo>
                <a:lnTo>
                  <a:pt x="190" y="1742"/>
                </a:lnTo>
                <a:lnTo>
                  <a:pt x="178" y="1743"/>
                </a:lnTo>
                <a:lnTo>
                  <a:pt x="165" y="1744"/>
                </a:lnTo>
                <a:lnTo>
                  <a:pt x="155" y="1745"/>
                </a:lnTo>
                <a:lnTo>
                  <a:pt x="143" y="1745"/>
                </a:lnTo>
                <a:lnTo>
                  <a:pt x="132" y="1746"/>
                </a:lnTo>
                <a:lnTo>
                  <a:pt x="122" y="1746"/>
                </a:lnTo>
                <a:lnTo>
                  <a:pt x="112" y="1746"/>
                </a:lnTo>
                <a:lnTo>
                  <a:pt x="103" y="1745"/>
                </a:lnTo>
                <a:lnTo>
                  <a:pt x="94" y="1744"/>
                </a:lnTo>
                <a:lnTo>
                  <a:pt x="84" y="1743"/>
                </a:lnTo>
                <a:lnTo>
                  <a:pt x="77" y="1742"/>
                </a:lnTo>
                <a:lnTo>
                  <a:pt x="68" y="1741"/>
                </a:lnTo>
                <a:lnTo>
                  <a:pt x="61" y="1739"/>
                </a:lnTo>
                <a:lnTo>
                  <a:pt x="55" y="1736"/>
                </a:lnTo>
                <a:lnTo>
                  <a:pt x="47" y="1734"/>
                </a:lnTo>
                <a:lnTo>
                  <a:pt x="42" y="1731"/>
                </a:lnTo>
                <a:lnTo>
                  <a:pt x="35" y="1729"/>
                </a:lnTo>
                <a:lnTo>
                  <a:pt x="30" y="1726"/>
                </a:lnTo>
                <a:lnTo>
                  <a:pt x="26" y="1723"/>
                </a:lnTo>
                <a:lnTo>
                  <a:pt x="20" y="1718"/>
                </a:lnTo>
                <a:lnTo>
                  <a:pt x="17" y="1714"/>
                </a:lnTo>
                <a:lnTo>
                  <a:pt x="13" y="1711"/>
                </a:lnTo>
                <a:lnTo>
                  <a:pt x="10" y="1705"/>
                </a:lnTo>
                <a:lnTo>
                  <a:pt x="8" y="1701"/>
                </a:lnTo>
                <a:lnTo>
                  <a:pt x="6" y="1696"/>
                </a:lnTo>
                <a:lnTo>
                  <a:pt x="3" y="1691"/>
                </a:lnTo>
                <a:lnTo>
                  <a:pt x="2" y="1685"/>
                </a:lnTo>
                <a:lnTo>
                  <a:pt x="1" y="1680"/>
                </a:lnTo>
                <a:lnTo>
                  <a:pt x="0" y="1673"/>
                </a:lnTo>
                <a:lnTo>
                  <a:pt x="0" y="1668"/>
                </a:lnTo>
                <a:lnTo>
                  <a:pt x="1" y="1662"/>
                </a:lnTo>
                <a:lnTo>
                  <a:pt x="1" y="1654"/>
                </a:lnTo>
                <a:lnTo>
                  <a:pt x="3" y="1648"/>
                </a:lnTo>
                <a:lnTo>
                  <a:pt x="4" y="1640"/>
                </a:lnTo>
                <a:lnTo>
                  <a:pt x="7" y="1633"/>
                </a:lnTo>
                <a:lnTo>
                  <a:pt x="10" y="1625"/>
                </a:lnTo>
                <a:lnTo>
                  <a:pt x="12" y="1618"/>
                </a:lnTo>
                <a:lnTo>
                  <a:pt x="16" y="1609"/>
                </a:lnTo>
                <a:lnTo>
                  <a:pt x="19" y="1601"/>
                </a:lnTo>
                <a:lnTo>
                  <a:pt x="24" y="1592"/>
                </a:lnTo>
                <a:lnTo>
                  <a:pt x="29" y="1584"/>
                </a:lnTo>
                <a:lnTo>
                  <a:pt x="34" y="1575"/>
                </a:lnTo>
                <a:lnTo>
                  <a:pt x="40" y="1566"/>
                </a:lnTo>
                <a:lnTo>
                  <a:pt x="46" y="1556"/>
                </a:lnTo>
                <a:lnTo>
                  <a:pt x="52" y="1547"/>
                </a:lnTo>
                <a:lnTo>
                  <a:pt x="59" y="1537"/>
                </a:lnTo>
                <a:lnTo>
                  <a:pt x="66" y="1527"/>
                </a:lnTo>
                <a:lnTo>
                  <a:pt x="75" y="1517"/>
                </a:lnTo>
                <a:lnTo>
                  <a:pt x="82" y="1506"/>
                </a:lnTo>
                <a:lnTo>
                  <a:pt x="91" y="1496"/>
                </a:lnTo>
                <a:lnTo>
                  <a:pt x="100" y="1485"/>
                </a:lnTo>
                <a:lnTo>
                  <a:pt x="110" y="1474"/>
                </a:lnTo>
                <a:lnTo>
                  <a:pt x="120" y="1463"/>
                </a:lnTo>
                <a:lnTo>
                  <a:pt x="129" y="1452"/>
                </a:lnTo>
                <a:lnTo>
                  <a:pt x="140" y="1440"/>
                </a:lnTo>
                <a:lnTo>
                  <a:pt x="152" y="1428"/>
                </a:lnTo>
                <a:lnTo>
                  <a:pt x="163" y="1416"/>
                </a:lnTo>
                <a:lnTo>
                  <a:pt x="175" y="1405"/>
                </a:lnTo>
                <a:lnTo>
                  <a:pt x="187" y="1392"/>
                </a:lnTo>
                <a:lnTo>
                  <a:pt x="200" y="1380"/>
                </a:lnTo>
                <a:lnTo>
                  <a:pt x="212" y="1367"/>
                </a:lnTo>
                <a:lnTo>
                  <a:pt x="226" y="1355"/>
                </a:lnTo>
                <a:lnTo>
                  <a:pt x="240" y="1342"/>
                </a:lnTo>
                <a:lnTo>
                  <a:pt x="254" y="1329"/>
                </a:lnTo>
                <a:lnTo>
                  <a:pt x="268" y="1316"/>
                </a:lnTo>
                <a:lnTo>
                  <a:pt x="283" y="1302"/>
                </a:lnTo>
                <a:lnTo>
                  <a:pt x="299" y="1290"/>
                </a:lnTo>
                <a:lnTo>
                  <a:pt x="314" y="1276"/>
                </a:lnTo>
                <a:lnTo>
                  <a:pt x="330" y="1262"/>
                </a:lnTo>
                <a:lnTo>
                  <a:pt x="346" y="1249"/>
                </a:lnTo>
                <a:lnTo>
                  <a:pt x="363" y="1235"/>
                </a:lnTo>
                <a:lnTo>
                  <a:pt x="380" y="1220"/>
                </a:lnTo>
                <a:lnTo>
                  <a:pt x="397" y="1206"/>
                </a:lnTo>
                <a:lnTo>
                  <a:pt x="414" y="1192"/>
                </a:lnTo>
                <a:lnTo>
                  <a:pt x="432" y="1179"/>
                </a:lnTo>
                <a:lnTo>
                  <a:pt x="450" y="1164"/>
                </a:lnTo>
                <a:lnTo>
                  <a:pt x="468" y="1150"/>
                </a:lnTo>
                <a:lnTo>
                  <a:pt x="487" y="1135"/>
                </a:lnTo>
                <a:lnTo>
                  <a:pt x="507" y="1120"/>
                </a:lnTo>
                <a:lnTo>
                  <a:pt x="526" y="1106"/>
                </a:lnTo>
                <a:lnTo>
                  <a:pt x="545" y="1091"/>
                </a:lnTo>
                <a:lnTo>
                  <a:pt x="565" y="1076"/>
                </a:lnTo>
                <a:lnTo>
                  <a:pt x="586" y="1061"/>
                </a:lnTo>
                <a:lnTo>
                  <a:pt x="606" y="1046"/>
                </a:lnTo>
                <a:lnTo>
                  <a:pt x="627" y="1031"/>
                </a:lnTo>
                <a:lnTo>
                  <a:pt x="647" y="1017"/>
                </a:lnTo>
                <a:lnTo>
                  <a:pt x="669" y="1002"/>
                </a:lnTo>
                <a:lnTo>
                  <a:pt x="690" y="986"/>
                </a:lnTo>
                <a:lnTo>
                  <a:pt x="712" y="971"/>
                </a:lnTo>
                <a:lnTo>
                  <a:pt x="734" y="956"/>
                </a:lnTo>
                <a:lnTo>
                  <a:pt x="756" y="941"/>
                </a:lnTo>
                <a:lnTo>
                  <a:pt x="779" y="925"/>
                </a:lnTo>
                <a:lnTo>
                  <a:pt x="801" y="910"/>
                </a:lnTo>
                <a:lnTo>
                  <a:pt x="823" y="895"/>
                </a:lnTo>
                <a:lnTo>
                  <a:pt x="847" y="879"/>
                </a:lnTo>
                <a:lnTo>
                  <a:pt x="869" y="864"/>
                </a:lnTo>
                <a:lnTo>
                  <a:pt x="893" y="849"/>
                </a:lnTo>
                <a:lnTo>
                  <a:pt x="916" y="833"/>
                </a:lnTo>
                <a:lnTo>
                  <a:pt x="940" y="818"/>
                </a:lnTo>
                <a:lnTo>
                  <a:pt x="964" y="803"/>
                </a:lnTo>
                <a:lnTo>
                  <a:pt x="988" y="788"/>
                </a:lnTo>
                <a:lnTo>
                  <a:pt x="1012" y="772"/>
                </a:lnTo>
                <a:lnTo>
                  <a:pt x="1036" y="757"/>
                </a:lnTo>
                <a:lnTo>
                  <a:pt x="1060" y="742"/>
                </a:lnTo>
                <a:lnTo>
                  <a:pt x="1085" y="728"/>
                </a:lnTo>
                <a:lnTo>
                  <a:pt x="1109" y="713"/>
                </a:lnTo>
                <a:lnTo>
                  <a:pt x="1134" y="698"/>
                </a:lnTo>
                <a:lnTo>
                  <a:pt x="1158" y="683"/>
                </a:lnTo>
                <a:lnTo>
                  <a:pt x="1183" y="668"/>
                </a:lnTo>
                <a:lnTo>
                  <a:pt x="1208" y="653"/>
                </a:lnTo>
                <a:lnTo>
                  <a:pt x="1233" y="638"/>
                </a:lnTo>
                <a:lnTo>
                  <a:pt x="1258" y="623"/>
                </a:lnTo>
                <a:lnTo>
                  <a:pt x="1283" y="609"/>
                </a:lnTo>
                <a:lnTo>
                  <a:pt x="1309" y="594"/>
                </a:lnTo>
                <a:lnTo>
                  <a:pt x="1333" y="579"/>
                </a:lnTo>
                <a:lnTo>
                  <a:pt x="1359" y="565"/>
                </a:lnTo>
                <a:lnTo>
                  <a:pt x="1384" y="552"/>
                </a:lnTo>
                <a:lnTo>
                  <a:pt x="1409" y="537"/>
                </a:lnTo>
                <a:lnTo>
                  <a:pt x="1434" y="523"/>
                </a:lnTo>
                <a:lnTo>
                  <a:pt x="1460" y="509"/>
                </a:lnTo>
                <a:lnTo>
                  <a:pt x="1484" y="495"/>
                </a:lnTo>
                <a:lnTo>
                  <a:pt x="1510" y="481"/>
                </a:lnTo>
                <a:lnTo>
                  <a:pt x="1536" y="468"/>
                </a:lnTo>
                <a:lnTo>
                  <a:pt x="1560" y="454"/>
                </a:lnTo>
                <a:lnTo>
                  <a:pt x="1586" y="441"/>
                </a:lnTo>
                <a:lnTo>
                  <a:pt x="1611" y="428"/>
                </a:lnTo>
                <a:lnTo>
                  <a:pt x="1636" y="415"/>
                </a:lnTo>
                <a:lnTo>
                  <a:pt x="1661" y="402"/>
                </a:lnTo>
                <a:lnTo>
                  <a:pt x="1686" y="389"/>
                </a:lnTo>
                <a:lnTo>
                  <a:pt x="1711" y="377"/>
                </a:lnTo>
                <a:lnTo>
                  <a:pt x="1736" y="364"/>
                </a:lnTo>
                <a:lnTo>
                  <a:pt x="1761" y="352"/>
                </a:lnTo>
                <a:lnTo>
                  <a:pt x="1785" y="339"/>
                </a:lnTo>
                <a:lnTo>
                  <a:pt x="1810" y="328"/>
                </a:lnTo>
                <a:lnTo>
                  <a:pt x="1834" y="316"/>
                </a:lnTo>
                <a:lnTo>
                  <a:pt x="1858" y="304"/>
                </a:lnTo>
                <a:lnTo>
                  <a:pt x="1882" y="292"/>
                </a:lnTo>
                <a:lnTo>
                  <a:pt x="1907" y="281"/>
                </a:lnTo>
                <a:lnTo>
                  <a:pt x="1930" y="270"/>
                </a:lnTo>
                <a:lnTo>
                  <a:pt x="1954" y="259"/>
                </a:lnTo>
                <a:lnTo>
                  <a:pt x="1977" y="249"/>
                </a:lnTo>
                <a:lnTo>
                  <a:pt x="2001" y="238"/>
                </a:lnTo>
                <a:lnTo>
                  <a:pt x="2024" y="227"/>
                </a:lnTo>
                <a:lnTo>
                  <a:pt x="2047" y="218"/>
                </a:lnTo>
                <a:lnTo>
                  <a:pt x="2070" y="207"/>
                </a:lnTo>
                <a:lnTo>
                  <a:pt x="2092" y="197"/>
                </a:lnTo>
                <a:lnTo>
                  <a:pt x="2115" y="188"/>
                </a:lnTo>
                <a:lnTo>
                  <a:pt x="2137" y="178"/>
                </a:lnTo>
                <a:lnTo>
                  <a:pt x="2159" y="170"/>
                </a:lnTo>
                <a:lnTo>
                  <a:pt x="2181" y="160"/>
                </a:lnTo>
                <a:lnTo>
                  <a:pt x="2203" y="152"/>
                </a:lnTo>
                <a:lnTo>
                  <a:pt x="2224" y="143"/>
                </a:lnTo>
                <a:lnTo>
                  <a:pt x="2246" y="135"/>
                </a:lnTo>
                <a:lnTo>
                  <a:pt x="2266" y="127"/>
                </a:lnTo>
                <a:lnTo>
                  <a:pt x="2287" y="120"/>
                </a:lnTo>
                <a:lnTo>
                  <a:pt x="2308" y="112"/>
                </a:lnTo>
                <a:lnTo>
                  <a:pt x="2328" y="105"/>
                </a:lnTo>
                <a:lnTo>
                  <a:pt x="2347" y="97"/>
                </a:lnTo>
                <a:lnTo>
                  <a:pt x="2367" y="91"/>
                </a:lnTo>
                <a:lnTo>
                  <a:pt x="2387" y="83"/>
                </a:lnTo>
                <a:lnTo>
                  <a:pt x="2405" y="77"/>
                </a:lnTo>
                <a:lnTo>
                  <a:pt x="2424" y="72"/>
                </a:lnTo>
                <a:lnTo>
                  <a:pt x="2442" y="65"/>
                </a:lnTo>
                <a:lnTo>
                  <a:pt x="2460" y="60"/>
                </a:lnTo>
                <a:lnTo>
                  <a:pt x="2478" y="55"/>
                </a:lnTo>
                <a:lnTo>
                  <a:pt x="2495" y="49"/>
                </a:lnTo>
                <a:lnTo>
                  <a:pt x="2512" y="44"/>
                </a:lnTo>
                <a:lnTo>
                  <a:pt x="2529" y="40"/>
                </a:lnTo>
                <a:lnTo>
                  <a:pt x="2546" y="35"/>
                </a:lnTo>
                <a:lnTo>
                  <a:pt x="2562" y="31"/>
                </a:lnTo>
                <a:lnTo>
                  <a:pt x="2578" y="27"/>
                </a:lnTo>
                <a:lnTo>
                  <a:pt x="2593" y="24"/>
                </a:lnTo>
                <a:lnTo>
                  <a:pt x="2608" y="20"/>
                </a:lnTo>
                <a:lnTo>
                  <a:pt x="2623" y="17"/>
                </a:lnTo>
                <a:lnTo>
                  <a:pt x="2638" y="14"/>
                </a:lnTo>
                <a:lnTo>
                  <a:pt x="2652" y="12"/>
                </a:lnTo>
                <a:lnTo>
                  <a:pt x="2666" y="10"/>
                </a:lnTo>
                <a:lnTo>
                  <a:pt x="2679" y="8"/>
                </a:lnTo>
                <a:lnTo>
                  <a:pt x="2692" y="6"/>
                </a:lnTo>
                <a:lnTo>
                  <a:pt x="2704" y="4"/>
                </a:lnTo>
                <a:lnTo>
                  <a:pt x="2716" y="2"/>
                </a:lnTo>
                <a:lnTo>
                  <a:pt x="2728" y="1"/>
                </a:lnTo>
                <a:lnTo>
                  <a:pt x="2739" y="1"/>
                </a:lnTo>
                <a:lnTo>
                  <a:pt x="2750" y="0"/>
                </a:lnTo>
                <a:lnTo>
                  <a:pt x="2761" y="0"/>
                </a:lnTo>
                <a:lnTo>
                  <a:pt x="2771" y="0"/>
                </a:lnTo>
                <a:lnTo>
                  <a:pt x="2781" y="1"/>
                </a:lnTo>
                <a:lnTo>
                  <a:pt x="2791" y="1"/>
                </a:lnTo>
                <a:lnTo>
                  <a:pt x="2799" y="2"/>
                </a:lnTo>
                <a:lnTo>
                  <a:pt x="2808" y="3"/>
                </a:lnTo>
                <a:lnTo>
                  <a:pt x="2816" y="4"/>
                </a:lnTo>
                <a:lnTo>
                  <a:pt x="2824" y="7"/>
                </a:lnTo>
                <a:lnTo>
                  <a:pt x="2831" y="9"/>
                </a:lnTo>
                <a:lnTo>
                  <a:pt x="2838" y="11"/>
                </a:lnTo>
                <a:lnTo>
                  <a:pt x="2844" y="13"/>
                </a:lnTo>
                <a:lnTo>
                  <a:pt x="2850" y="16"/>
                </a:lnTo>
                <a:lnTo>
                  <a:pt x="2856" y="19"/>
                </a:lnTo>
                <a:lnTo>
                  <a:pt x="2861" y="23"/>
                </a:lnTo>
                <a:lnTo>
                  <a:pt x="2865" y="26"/>
                </a:lnTo>
                <a:lnTo>
                  <a:pt x="2870" y="30"/>
                </a:lnTo>
                <a:lnTo>
                  <a:pt x="2874" y="33"/>
                </a:lnTo>
                <a:lnTo>
                  <a:pt x="2877" y="38"/>
                </a:lnTo>
                <a:lnTo>
                  <a:pt x="2879" y="43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30560" y="3770280"/>
            <a:ext cx="765000" cy="461880"/>
          </a:xfrm>
          <a:custGeom>
            <a:avLst/>
            <a:gdLst/>
            <a:ahLst/>
            <a:rect l="l" t="t" r="r" b="b"/>
            <a:pathLst>
              <a:path w="2887" h="1745">
                <a:moveTo>
                  <a:pt x="2879" y="42"/>
                </a:moveTo>
                <a:lnTo>
                  <a:pt x="2882" y="47"/>
                </a:lnTo>
                <a:lnTo>
                  <a:pt x="2884" y="52"/>
                </a:lnTo>
                <a:lnTo>
                  <a:pt x="2885" y="58"/>
                </a:lnTo>
                <a:lnTo>
                  <a:pt x="2886" y="63"/>
                </a:lnTo>
                <a:lnTo>
                  <a:pt x="2887" y="68"/>
                </a:lnTo>
                <a:lnTo>
                  <a:pt x="2887" y="75"/>
                </a:lnTo>
                <a:lnTo>
                  <a:pt x="2887" y="81"/>
                </a:lnTo>
                <a:lnTo>
                  <a:pt x="2886" y="88"/>
                </a:lnTo>
                <a:lnTo>
                  <a:pt x="2885" y="94"/>
                </a:lnTo>
                <a:lnTo>
                  <a:pt x="2884" y="101"/>
                </a:lnTo>
                <a:lnTo>
                  <a:pt x="2882" y="109"/>
                </a:lnTo>
                <a:lnTo>
                  <a:pt x="2880" y="116"/>
                </a:lnTo>
                <a:lnTo>
                  <a:pt x="2877" y="124"/>
                </a:lnTo>
                <a:lnTo>
                  <a:pt x="2874" y="131"/>
                </a:lnTo>
                <a:lnTo>
                  <a:pt x="2870" y="140"/>
                </a:lnTo>
                <a:lnTo>
                  <a:pt x="2866" y="148"/>
                </a:lnTo>
                <a:lnTo>
                  <a:pt x="2862" y="157"/>
                </a:lnTo>
                <a:lnTo>
                  <a:pt x="2857" y="165"/>
                </a:lnTo>
                <a:lnTo>
                  <a:pt x="2851" y="175"/>
                </a:lnTo>
                <a:lnTo>
                  <a:pt x="2845" y="185"/>
                </a:lnTo>
                <a:lnTo>
                  <a:pt x="2839" y="194"/>
                </a:lnTo>
                <a:lnTo>
                  <a:pt x="2832" y="204"/>
                </a:lnTo>
                <a:lnTo>
                  <a:pt x="2826" y="213"/>
                </a:lnTo>
                <a:lnTo>
                  <a:pt x="2817" y="223"/>
                </a:lnTo>
                <a:lnTo>
                  <a:pt x="2810" y="234"/>
                </a:lnTo>
                <a:lnTo>
                  <a:pt x="2801" y="244"/>
                </a:lnTo>
                <a:lnTo>
                  <a:pt x="2793" y="255"/>
                </a:lnTo>
                <a:lnTo>
                  <a:pt x="2783" y="266"/>
                </a:lnTo>
                <a:lnTo>
                  <a:pt x="2773" y="277"/>
                </a:lnTo>
                <a:lnTo>
                  <a:pt x="2764" y="288"/>
                </a:lnTo>
                <a:lnTo>
                  <a:pt x="2753" y="300"/>
                </a:lnTo>
                <a:lnTo>
                  <a:pt x="2742" y="312"/>
                </a:lnTo>
                <a:lnTo>
                  <a:pt x="2731" y="323"/>
                </a:lnTo>
                <a:lnTo>
                  <a:pt x="2719" y="335"/>
                </a:lnTo>
                <a:lnTo>
                  <a:pt x="2707" y="347"/>
                </a:lnTo>
                <a:lnTo>
                  <a:pt x="2694" y="360"/>
                </a:lnTo>
                <a:lnTo>
                  <a:pt x="2682" y="372"/>
                </a:lnTo>
                <a:lnTo>
                  <a:pt x="2669" y="384"/>
                </a:lnTo>
                <a:lnTo>
                  <a:pt x="2655" y="397"/>
                </a:lnTo>
                <a:lnTo>
                  <a:pt x="2641" y="410"/>
                </a:lnTo>
                <a:lnTo>
                  <a:pt x="2627" y="424"/>
                </a:lnTo>
                <a:lnTo>
                  <a:pt x="2612" y="436"/>
                </a:lnTo>
                <a:lnTo>
                  <a:pt x="2597" y="449"/>
                </a:lnTo>
                <a:lnTo>
                  <a:pt x="2582" y="463"/>
                </a:lnTo>
                <a:lnTo>
                  <a:pt x="2566" y="477"/>
                </a:lnTo>
                <a:lnTo>
                  <a:pt x="2550" y="490"/>
                </a:lnTo>
                <a:lnTo>
                  <a:pt x="2533" y="503"/>
                </a:lnTo>
                <a:lnTo>
                  <a:pt x="2517" y="517"/>
                </a:lnTo>
                <a:lnTo>
                  <a:pt x="2500" y="532"/>
                </a:lnTo>
                <a:lnTo>
                  <a:pt x="2482" y="546"/>
                </a:lnTo>
                <a:lnTo>
                  <a:pt x="2465" y="560"/>
                </a:lnTo>
                <a:lnTo>
                  <a:pt x="2447" y="575"/>
                </a:lnTo>
                <a:lnTo>
                  <a:pt x="2429" y="589"/>
                </a:lnTo>
                <a:lnTo>
                  <a:pt x="2410" y="604"/>
                </a:lnTo>
                <a:lnTo>
                  <a:pt x="2391" y="618"/>
                </a:lnTo>
                <a:lnTo>
                  <a:pt x="2371" y="633"/>
                </a:lnTo>
                <a:lnTo>
                  <a:pt x="2352" y="647"/>
                </a:lnTo>
                <a:lnTo>
                  <a:pt x="2333" y="662"/>
                </a:lnTo>
                <a:lnTo>
                  <a:pt x="2313" y="677"/>
                </a:lnTo>
                <a:lnTo>
                  <a:pt x="2292" y="692"/>
                </a:lnTo>
                <a:lnTo>
                  <a:pt x="2271" y="707"/>
                </a:lnTo>
                <a:lnTo>
                  <a:pt x="2251" y="722"/>
                </a:lnTo>
                <a:lnTo>
                  <a:pt x="2230" y="737"/>
                </a:lnTo>
                <a:lnTo>
                  <a:pt x="2208" y="752"/>
                </a:lnTo>
                <a:lnTo>
                  <a:pt x="2187" y="767"/>
                </a:lnTo>
                <a:lnTo>
                  <a:pt x="2164" y="782"/>
                </a:lnTo>
                <a:lnTo>
                  <a:pt x="2143" y="798"/>
                </a:lnTo>
                <a:lnTo>
                  <a:pt x="2121" y="813"/>
                </a:lnTo>
                <a:lnTo>
                  <a:pt x="2098" y="828"/>
                </a:lnTo>
                <a:lnTo>
                  <a:pt x="2076" y="844"/>
                </a:lnTo>
                <a:lnTo>
                  <a:pt x="2053" y="859"/>
                </a:lnTo>
                <a:lnTo>
                  <a:pt x="2030" y="874"/>
                </a:lnTo>
                <a:lnTo>
                  <a:pt x="2007" y="890"/>
                </a:lnTo>
                <a:lnTo>
                  <a:pt x="1983" y="904"/>
                </a:lnTo>
                <a:lnTo>
                  <a:pt x="1960" y="919"/>
                </a:lnTo>
                <a:lnTo>
                  <a:pt x="1936" y="934"/>
                </a:lnTo>
                <a:lnTo>
                  <a:pt x="1913" y="950"/>
                </a:lnTo>
                <a:lnTo>
                  <a:pt x="1888" y="965"/>
                </a:lnTo>
                <a:lnTo>
                  <a:pt x="1864" y="980"/>
                </a:lnTo>
                <a:lnTo>
                  <a:pt x="1840" y="995"/>
                </a:lnTo>
                <a:lnTo>
                  <a:pt x="1816" y="1011"/>
                </a:lnTo>
                <a:lnTo>
                  <a:pt x="1791" y="1026"/>
                </a:lnTo>
                <a:lnTo>
                  <a:pt x="1767" y="1041"/>
                </a:lnTo>
                <a:lnTo>
                  <a:pt x="1742" y="1056"/>
                </a:lnTo>
                <a:lnTo>
                  <a:pt x="1717" y="1071"/>
                </a:lnTo>
                <a:lnTo>
                  <a:pt x="1692" y="1086"/>
                </a:lnTo>
                <a:lnTo>
                  <a:pt x="1668" y="1101"/>
                </a:lnTo>
                <a:lnTo>
                  <a:pt x="1642" y="1115"/>
                </a:lnTo>
                <a:lnTo>
                  <a:pt x="1617" y="1130"/>
                </a:lnTo>
                <a:lnTo>
                  <a:pt x="1592" y="1144"/>
                </a:lnTo>
                <a:lnTo>
                  <a:pt x="1567" y="1158"/>
                </a:lnTo>
                <a:lnTo>
                  <a:pt x="1542" y="1173"/>
                </a:lnTo>
                <a:lnTo>
                  <a:pt x="1516" y="1187"/>
                </a:lnTo>
                <a:lnTo>
                  <a:pt x="1492" y="1202"/>
                </a:lnTo>
                <a:lnTo>
                  <a:pt x="1466" y="1216"/>
                </a:lnTo>
                <a:lnTo>
                  <a:pt x="1440" y="1230"/>
                </a:lnTo>
                <a:lnTo>
                  <a:pt x="1416" y="1244"/>
                </a:lnTo>
                <a:lnTo>
                  <a:pt x="1390" y="1257"/>
                </a:lnTo>
                <a:lnTo>
                  <a:pt x="1365" y="1271"/>
                </a:lnTo>
                <a:lnTo>
                  <a:pt x="1340" y="1284"/>
                </a:lnTo>
                <a:lnTo>
                  <a:pt x="1315" y="1298"/>
                </a:lnTo>
                <a:lnTo>
                  <a:pt x="1289" y="1311"/>
                </a:lnTo>
                <a:lnTo>
                  <a:pt x="1265" y="1325"/>
                </a:lnTo>
                <a:lnTo>
                  <a:pt x="1239" y="1337"/>
                </a:lnTo>
                <a:lnTo>
                  <a:pt x="1214" y="1350"/>
                </a:lnTo>
                <a:lnTo>
                  <a:pt x="1190" y="1363"/>
                </a:lnTo>
                <a:lnTo>
                  <a:pt x="1164" y="1376"/>
                </a:lnTo>
                <a:lnTo>
                  <a:pt x="1140" y="1388"/>
                </a:lnTo>
                <a:lnTo>
                  <a:pt x="1115" y="1400"/>
                </a:lnTo>
                <a:lnTo>
                  <a:pt x="1091" y="1412"/>
                </a:lnTo>
                <a:lnTo>
                  <a:pt x="1066" y="1424"/>
                </a:lnTo>
                <a:lnTo>
                  <a:pt x="1042" y="1436"/>
                </a:lnTo>
                <a:lnTo>
                  <a:pt x="1018" y="1447"/>
                </a:lnTo>
                <a:lnTo>
                  <a:pt x="994" y="1459"/>
                </a:lnTo>
                <a:lnTo>
                  <a:pt x="969" y="1470"/>
                </a:lnTo>
                <a:lnTo>
                  <a:pt x="946" y="1481"/>
                </a:lnTo>
                <a:lnTo>
                  <a:pt x="922" y="1492"/>
                </a:lnTo>
                <a:lnTo>
                  <a:pt x="899" y="1503"/>
                </a:lnTo>
                <a:lnTo>
                  <a:pt x="875" y="1513"/>
                </a:lnTo>
                <a:lnTo>
                  <a:pt x="852" y="1523"/>
                </a:lnTo>
                <a:lnTo>
                  <a:pt x="829" y="1534"/>
                </a:lnTo>
                <a:lnTo>
                  <a:pt x="807" y="1543"/>
                </a:lnTo>
                <a:lnTo>
                  <a:pt x="784" y="1553"/>
                </a:lnTo>
                <a:lnTo>
                  <a:pt x="761" y="1562"/>
                </a:lnTo>
                <a:lnTo>
                  <a:pt x="740" y="1572"/>
                </a:lnTo>
                <a:lnTo>
                  <a:pt x="718" y="1581"/>
                </a:lnTo>
                <a:lnTo>
                  <a:pt x="696" y="1589"/>
                </a:lnTo>
                <a:lnTo>
                  <a:pt x="674" y="1598"/>
                </a:lnTo>
                <a:lnTo>
                  <a:pt x="654" y="1606"/>
                </a:lnTo>
                <a:lnTo>
                  <a:pt x="632" y="1615"/>
                </a:lnTo>
                <a:lnTo>
                  <a:pt x="611" y="1622"/>
                </a:lnTo>
                <a:lnTo>
                  <a:pt x="591" y="1630"/>
                </a:lnTo>
                <a:lnTo>
                  <a:pt x="570" y="1637"/>
                </a:lnTo>
                <a:lnTo>
                  <a:pt x="550" y="1645"/>
                </a:lnTo>
                <a:lnTo>
                  <a:pt x="531" y="1652"/>
                </a:lnTo>
                <a:lnTo>
                  <a:pt x="512" y="1658"/>
                </a:lnTo>
                <a:lnTo>
                  <a:pt x="493" y="1665"/>
                </a:lnTo>
                <a:lnTo>
                  <a:pt x="473" y="1671"/>
                </a:lnTo>
                <a:lnTo>
                  <a:pt x="455" y="1678"/>
                </a:lnTo>
                <a:lnTo>
                  <a:pt x="436" y="1683"/>
                </a:lnTo>
                <a:lnTo>
                  <a:pt x="419" y="1688"/>
                </a:lnTo>
                <a:lnTo>
                  <a:pt x="401" y="1694"/>
                </a:lnTo>
                <a:lnTo>
                  <a:pt x="384" y="1699"/>
                </a:lnTo>
                <a:lnTo>
                  <a:pt x="367" y="1703"/>
                </a:lnTo>
                <a:lnTo>
                  <a:pt x="350" y="1709"/>
                </a:lnTo>
                <a:lnTo>
                  <a:pt x="334" y="1713"/>
                </a:lnTo>
                <a:lnTo>
                  <a:pt x="318" y="1716"/>
                </a:lnTo>
                <a:lnTo>
                  <a:pt x="302" y="1720"/>
                </a:lnTo>
                <a:lnTo>
                  <a:pt x="287" y="1724"/>
                </a:lnTo>
                <a:lnTo>
                  <a:pt x="272" y="1727"/>
                </a:lnTo>
                <a:lnTo>
                  <a:pt x="257" y="1730"/>
                </a:lnTo>
                <a:lnTo>
                  <a:pt x="243" y="1733"/>
                </a:lnTo>
                <a:lnTo>
                  <a:pt x="229" y="1735"/>
                </a:lnTo>
                <a:lnTo>
                  <a:pt x="215" y="1737"/>
                </a:lnTo>
                <a:lnTo>
                  <a:pt x="203" y="1740"/>
                </a:lnTo>
                <a:lnTo>
                  <a:pt x="190" y="1741"/>
                </a:lnTo>
                <a:lnTo>
                  <a:pt x="178" y="1743"/>
                </a:lnTo>
                <a:lnTo>
                  <a:pt x="165" y="1744"/>
                </a:lnTo>
                <a:lnTo>
                  <a:pt x="155" y="1744"/>
                </a:lnTo>
                <a:lnTo>
                  <a:pt x="143" y="1745"/>
                </a:lnTo>
                <a:lnTo>
                  <a:pt x="132" y="1745"/>
                </a:lnTo>
                <a:lnTo>
                  <a:pt x="121" y="1745"/>
                </a:lnTo>
                <a:lnTo>
                  <a:pt x="112" y="1745"/>
                </a:lnTo>
                <a:lnTo>
                  <a:pt x="102" y="1745"/>
                </a:lnTo>
                <a:lnTo>
                  <a:pt x="93" y="1744"/>
                </a:lnTo>
                <a:lnTo>
                  <a:pt x="84" y="1743"/>
                </a:lnTo>
                <a:lnTo>
                  <a:pt x="76" y="1742"/>
                </a:lnTo>
                <a:lnTo>
                  <a:pt x="68" y="1740"/>
                </a:lnTo>
                <a:lnTo>
                  <a:pt x="61" y="1738"/>
                </a:lnTo>
                <a:lnTo>
                  <a:pt x="53" y="1736"/>
                </a:lnTo>
                <a:lnTo>
                  <a:pt x="47" y="1733"/>
                </a:lnTo>
                <a:lnTo>
                  <a:pt x="40" y="1731"/>
                </a:lnTo>
                <a:lnTo>
                  <a:pt x="35" y="1728"/>
                </a:lnTo>
                <a:lnTo>
                  <a:pt x="30" y="1725"/>
                </a:lnTo>
                <a:lnTo>
                  <a:pt x="24" y="1721"/>
                </a:lnTo>
                <a:lnTo>
                  <a:pt x="20" y="1718"/>
                </a:lnTo>
                <a:lnTo>
                  <a:pt x="16" y="1714"/>
                </a:lnTo>
                <a:lnTo>
                  <a:pt x="13" y="1710"/>
                </a:lnTo>
                <a:lnTo>
                  <a:pt x="10" y="1705"/>
                </a:lnTo>
                <a:lnTo>
                  <a:pt x="7" y="1700"/>
                </a:lnTo>
                <a:lnTo>
                  <a:pt x="4" y="1696"/>
                </a:lnTo>
                <a:lnTo>
                  <a:pt x="3" y="1690"/>
                </a:lnTo>
                <a:lnTo>
                  <a:pt x="1" y="1685"/>
                </a:lnTo>
                <a:lnTo>
                  <a:pt x="1" y="1680"/>
                </a:lnTo>
                <a:lnTo>
                  <a:pt x="0" y="1673"/>
                </a:lnTo>
                <a:lnTo>
                  <a:pt x="0" y="1667"/>
                </a:lnTo>
                <a:lnTo>
                  <a:pt x="0" y="1661"/>
                </a:lnTo>
                <a:lnTo>
                  <a:pt x="1" y="1654"/>
                </a:lnTo>
                <a:lnTo>
                  <a:pt x="2" y="1647"/>
                </a:lnTo>
                <a:lnTo>
                  <a:pt x="4" y="1640"/>
                </a:lnTo>
                <a:lnTo>
                  <a:pt x="6" y="1633"/>
                </a:lnTo>
                <a:lnTo>
                  <a:pt x="8" y="1625"/>
                </a:lnTo>
                <a:lnTo>
                  <a:pt x="12" y="1617"/>
                </a:lnTo>
                <a:lnTo>
                  <a:pt x="16" y="1609"/>
                </a:lnTo>
                <a:lnTo>
                  <a:pt x="19" y="1601"/>
                </a:lnTo>
                <a:lnTo>
                  <a:pt x="23" y="1592"/>
                </a:lnTo>
                <a:lnTo>
                  <a:pt x="29" y="1584"/>
                </a:lnTo>
                <a:lnTo>
                  <a:pt x="34" y="1574"/>
                </a:lnTo>
                <a:lnTo>
                  <a:pt x="39" y="1566"/>
                </a:lnTo>
                <a:lnTo>
                  <a:pt x="46" y="1556"/>
                </a:lnTo>
                <a:lnTo>
                  <a:pt x="52" y="1547"/>
                </a:lnTo>
                <a:lnTo>
                  <a:pt x="59" y="1537"/>
                </a:lnTo>
                <a:lnTo>
                  <a:pt x="66" y="1526"/>
                </a:lnTo>
                <a:lnTo>
                  <a:pt x="73" y="1517"/>
                </a:lnTo>
                <a:lnTo>
                  <a:pt x="82" y="1506"/>
                </a:lnTo>
                <a:lnTo>
                  <a:pt x="91" y="1495"/>
                </a:lnTo>
                <a:lnTo>
                  <a:pt x="100" y="1485"/>
                </a:lnTo>
                <a:lnTo>
                  <a:pt x="109" y="1474"/>
                </a:lnTo>
                <a:lnTo>
                  <a:pt x="119" y="1462"/>
                </a:lnTo>
                <a:lnTo>
                  <a:pt x="129" y="1451"/>
                </a:lnTo>
                <a:lnTo>
                  <a:pt x="140" y="1440"/>
                </a:lnTo>
                <a:lnTo>
                  <a:pt x="151" y="1428"/>
                </a:lnTo>
                <a:lnTo>
                  <a:pt x="162" y="1416"/>
                </a:lnTo>
                <a:lnTo>
                  <a:pt x="174" y="1404"/>
                </a:lnTo>
                <a:lnTo>
                  <a:pt x="187" y="1392"/>
                </a:lnTo>
                <a:lnTo>
                  <a:pt x="199" y="1379"/>
                </a:lnTo>
                <a:lnTo>
                  <a:pt x="212" y="1367"/>
                </a:lnTo>
                <a:lnTo>
                  <a:pt x="225" y="1355"/>
                </a:lnTo>
                <a:lnTo>
                  <a:pt x="239" y="1342"/>
                </a:lnTo>
                <a:lnTo>
                  <a:pt x="254" y="1329"/>
                </a:lnTo>
                <a:lnTo>
                  <a:pt x="268" y="1315"/>
                </a:lnTo>
                <a:lnTo>
                  <a:pt x="282" y="1302"/>
                </a:lnTo>
                <a:lnTo>
                  <a:pt x="297" y="1288"/>
                </a:lnTo>
                <a:lnTo>
                  <a:pt x="313" y="1276"/>
                </a:lnTo>
                <a:lnTo>
                  <a:pt x="329" y="1262"/>
                </a:lnTo>
                <a:lnTo>
                  <a:pt x="345" y="1248"/>
                </a:lnTo>
                <a:lnTo>
                  <a:pt x="362" y="1234"/>
                </a:lnTo>
                <a:lnTo>
                  <a:pt x="378" y="1220"/>
                </a:lnTo>
                <a:lnTo>
                  <a:pt x="397" y="1206"/>
                </a:lnTo>
                <a:lnTo>
                  <a:pt x="414" y="1191"/>
                </a:lnTo>
                <a:lnTo>
                  <a:pt x="432" y="1178"/>
                </a:lnTo>
                <a:lnTo>
                  <a:pt x="450" y="1164"/>
                </a:lnTo>
                <a:lnTo>
                  <a:pt x="468" y="1149"/>
                </a:lnTo>
                <a:lnTo>
                  <a:pt x="487" y="1134"/>
                </a:lnTo>
                <a:lnTo>
                  <a:pt x="506" y="1120"/>
                </a:lnTo>
                <a:lnTo>
                  <a:pt x="526" y="1105"/>
                </a:lnTo>
                <a:lnTo>
                  <a:pt x="545" y="1090"/>
                </a:lnTo>
                <a:lnTo>
                  <a:pt x="565" y="1075"/>
                </a:lnTo>
                <a:lnTo>
                  <a:pt x="585" y="1060"/>
                </a:lnTo>
                <a:lnTo>
                  <a:pt x="606" y="1045"/>
                </a:lnTo>
                <a:lnTo>
                  <a:pt x="626" y="1030"/>
                </a:lnTo>
                <a:lnTo>
                  <a:pt x="647" y="1015"/>
                </a:lnTo>
                <a:lnTo>
                  <a:pt x="668" y="1000"/>
                </a:lnTo>
                <a:lnTo>
                  <a:pt x="690" y="986"/>
                </a:lnTo>
                <a:lnTo>
                  <a:pt x="711" y="971"/>
                </a:lnTo>
                <a:lnTo>
                  <a:pt x="734" y="955"/>
                </a:lnTo>
                <a:lnTo>
                  <a:pt x="756" y="940"/>
                </a:lnTo>
                <a:lnTo>
                  <a:pt x="778" y="925"/>
                </a:lnTo>
                <a:lnTo>
                  <a:pt x="801" y="909"/>
                </a:lnTo>
                <a:lnTo>
                  <a:pt x="823" y="894"/>
                </a:lnTo>
                <a:lnTo>
                  <a:pt x="847" y="879"/>
                </a:lnTo>
                <a:lnTo>
                  <a:pt x="869" y="864"/>
                </a:lnTo>
                <a:lnTo>
                  <a:pt x="892" y="848"/>
                </a:lnTo>
                <a:lnTo>
                  <a:pt x="916" y="833"/>
                </a:lnTo>
                <a:lnTo>
                  <a:pt x="939" y="818"/>
                </a:lnTo>
                <a:lnTo>
                  <a:pt x="963" y="802"/>
                </a:lnTo>
                <a:lnTo>
                  <a:pt x="987" y="787"/>
                </a:lnTo>
                <a:lnTo>
                  <a:pt x="1011" y="772"/>
                </a:lnTo>
                <a:lnTo>
                  <a:pt x="1035" y="757"/>
                </a:lnTo>
                <a:lnTo>
                  <a:pt x="1060" y="741"/>
                </a:lnTo>
                <a:lnTo>
                  <a:pt x="1084" y="726"/>
                </a:lnTo>
                <a:lnTo>
                  <a:pt x="1109" y="711"/>
                </a:lnTo>
                <a:lnTo>
                  <a:pt x="1133" y="697"/>
                </a:lnTo>
                <a:lnTo>
                  <a:pt x="1158" y="682"/>
                </a:lnTo>
                <a:lnTo>
                  <a:pt x="1182" y="667"/>
                </a:lnTo>
                <a:lnTo>
                  <a:pt x="1208" y="652"/>
                </a:lnTo>
                <a:lnTo>
                  <a:pt x="1233" y="637"/>
                </a:lnTo>
                <a:lnTo>
                  <a:pt x="1258" y="623"/>
                </a:lnTo>
                <a:lnTo>
                  <a:pt x="1283" y="608"/>
                </a:lnTo>
                <a:lnTo>
                  <a:pt x="1308" y="593"/>
                </a:lnTo>
                <a:lnTo>
                  <a:pt x="1333" y="579"/>
                </a:lnTo>
                <a:lnTo>
                  <a:pt x="1358" y="564"/>
                </a:lnTo>
                <a:lnTo>
                  <a:pt x="1384" y="550"/>
                </a:lnTo>
                <a:lnTo>
                  <a:pt x="1408" y="537"/>
                </a:lnTo>
                <a:lnTo>
                  <a:pt x="1434" y="523"/>
                </a:lnTo>
                <a:lnTo>
                  <a:pt x="1460" y="509"/>
                </a:lnTo>
                <a:lnTo>
                  <a:pt x="1484" y="495"/>
                </a:lnTo>
                <a:lnTo>
                  <a:pt x="1510" y="481"/>
                </a:lnTo>
                <a:lnTo>
                  <a:pt x="1535" y="467"/>
                </a:lnTo>
                <a:lnTo>
                  <a:pt x="1560" y="453"/>
                </a:lnTo>
                <a:lnTo>
                  <a:pt x="1585" y="441"/>
                </a:lnTo>
                <a:lnTo>
                  <a:pt x="1610" y="428"/>
                </a:lnTo>
                <a:lnTo>
                  <a:pt x="1636" y="414"/>
                </a:lnTo>
                <a:lnTo>
                  <a:pt x="1660" y="401"/>
                </a:lnTo>
                <a:lnTo>
                  <a:pt x="1686" y="388"/>
                </a:lnTo>
                <a:lnTo>
                  <a:pt x="1710" y="376"/>
                </a:lnTo>
                <a:lnTo>
                  <a:pt x="1735" y="364"/>
                </a:lnTo>
                <a:lnTo>
                  <a:pt x="1760" y="351"/>
                </a:lnTo>
                <a:lnTo>
                  <a:pt x="1785" y="339"/>
                </a:lnTo>
                <a:lnTo>
                  <a:pt x="1809" y="326"/>
                </a:lnTo>
                <a:lnTo>
                  <a:pt x="1833" y="315"/>
                </a:lnTo>
                <a:lnTo>
                  <a:pt x="1857" y="303"/>
                </a:lnTo>
                <a:lnTo>
                  <a:pt x="1882" y="292"/>
                </a:lnTo>
                <a:lnTo>
                  <a:pt x="1905" y="281"/>
                </a:lnTo>
                <a:lnTo>
                  <a:pt x="1930" y="270"/>
                </a:lnTo>
                <a:lnTo>
                  <a:pt x="1953" y="258"/>
                </a:lnTo>
                <a:lnTo>
                  <a:pt x="1977" y="248"/>
                </a:lnTo>
                <a:lnTo>
                  <a:pt x="2000" y="237"/>
                </a:lnTo>
                <a:lnTo>
                  <a:pt x="2024" y="227"/>
                </a:lnTo>
                <a:lnTo>
                  <a:pt x="2046" y="217"/>
                </a:lnTo>
                <a:lnTo>
                  <a:pt x="2070" y="207"/>
                </a:lnTo>
                <a:lnTo>
                  <a:pt x="2092" y="196"/>
                </a:lnTo>
                <a:lnTo>
                  <a:pt x="2114" y="188"/>
                </a:lnTo>
                <a:lnTo>
                  <a:pt x="2137" y="178"/>
                </a:lnTo>
                <a:lnTo>
                  <a:pt x="2159" y="169"/>
                </a:lnTo>
                <a:lnTo>
                  <a:pt x="2180" y="160"/>
                </a:lnTo>
                <a:lnTo>
                  <a:pt x="2203" y="152"/>
                </a:lnTo>
                <a:lnTo>
                  <a:pt x="2224" y="143"/>
                </a:lnTo>
                <a:lnTo>
                  <a:pt x="2244" y="134"/>
                </a:lnTo>
                <a:lnTo>
                  <a:pt x="2266" y="126"/>
                </a:lnTo>
                <a:lnTo>
                  <a:pt x="2286" y="118"/>
                </a:lnTo>
                <a:lnTo>
                  <a:pt x="2307" y="111"/>
                </a:lnTo>
                <a:lnTo>
                  <a:pt x="2327" y="104"/>
                </a:lnTo>
                <a:lnTo>
                  <a:pt x="2347" y="96"/>
                </a:lnTo>
                <a:lnTo>
                  <a:pt x="2366" y="90"/>
                </a:lnTo>
                <a:lnTo>
                  <a:pt x="2386" y="83"/>
                </a:lnTo>
                <a:lnTo>
                  <a:pt x="2404" y="77"/>
                </a:lnTo>
                <a:lnTo>
                  <a:pt x="2424" y="71"/>
                </a:lnTo>
                <a:lnTo>
                  <a:pt x="2442" y="64"/>
                </a:lnTo>
                <a:lnTo>
                  <a:pt x="2460" y="59"/>
                </a:lnTo>
                <a:lnTo>
                  <a:pt x="2478" y="53"/>
                </a:lnTo>
                <a:lnTo>
                  <a:pt x="2495" y="48"/>
                </a:lnTo>
                <a:lnTo>
                  <a:pt x="2512" y="44"/>
                </a:lnTo>
                <a:lnTo>
                  <a:pt x="2529" y="39"/>
                </a:lnTo>
                <a:lnTo>
                  <a:pt x="2546" y="34"/>
                </a:lnTo>
                <a:lnTo>
                  <a:pt x="2562" y="30"/>
                </a:lnTo>
                <a:lnTo>
                  <a:pt x="2578" y="27"/>
                </a:lnTo>
                <a:lnTo>
                  <a:pt x="2593" y="23"/>
                </a:lnTo>
                <a:lnTo>
                  <a:pt x="2608" y="19"/>
                </a:lnTo>
                <a:lnTo>
                  <a:pt x="2623" y="16"/>
                </a:lnTo>
                <a:lnTo>
                  <a:pt x="2638" y="14"/>
                </a:lnTo>
                <a:lnTo>
                  <a:pt x="2652" y="11"/>
                </a:lnTo>
                <a:lnTo>
                  <a:pt x="2666" y="9"/>
                </a:lnTo>
                <a:lnTo>
                  <a:pt x="2678" y="7"/>
                </a:lnTo>
                <a:lnTo>
                  <a:pt x="2691" y="4"/>
                </a:lnTo>
                <a:lnTo>
                  <a:pt x="2704" y="3"/>
                </a:lnTo>
                <a:lnTo>
                  <a:pt x="2716" y="2"/>
                </a:lnTo>
                <a:lnTo>
                  <a:pt x="2727" y="1"/>
                </a:lnTo>
                <a:lnTo>
                  <a:pt x="2739" y="0"/>
                </a:lnTo>
                <a:lnTo>
                  <a:pt x="2750" y="0"/>
                </a:lnTo>
                <a:lnTo>
                  <a:pt x="2761" y="0"/>
                </a:lnTo>
                <a:lnTo>
                  <a:pt x="2771" y="0"/>
                </a:lnTo>
                <a:lnTo>
                  <a:pt x="2781" y="0"/>
                </a:lnTo>
                <a:lnTo>
                  <a:pt x="2790" y="1"/>
                </a:lnTo>
                <a:lnTo>
                  <a:pt x="2799" y="2"/>
                </a:lnTo>
                <a:lnTo>
                  <a:pt x="2807" y="3"/>
                </a:lnTo>
                <a:lnTo>
                  <a:pt x="2815" y="4"/>
                </a:lnTo>
                <a:lnTo>
                  <a:pt x="2823" y="7"/>
                </a:lnTo>
                <a:lnTo>
                  <a:pt x="2830" y="8"/>
                </a:lnTo>
                <a:lnTo>
                  <a:pt x="2837" y="10"/>
                </a:lnTo>
                <a:lnTo>
                  <a:pt x="2844" y="13"/>
                </a:lnTo>
                <a:lnTo>
                  <a:pt x="2849" y="15"/>
                </a:lnTo>
                <a:lnTo>
                  <a:pt x="2855" y="18"/>
                </a:lnTo>
                <a:lnTo>
                  <a:pt x="2860" y="21"/>
                </a:lnTo>
                <a:lnTo>
                  <a:pt x="2865" y="26"/>
                </a:lnTo>
                <a:lnTo>
                  <a:pt x="2869" y="29"/>
                </a:lnTo>
                <a:lnTo>
                  <a:pt x="2873" y="33"/>
                </a:lnTo>
                <a:lnTo>
                  <a:pt x="2877" y="37"/>
                </a:lnTo>
                <a:lnTo>
                  <a:pt x="2879" y="42"/>
                </a:lnTo>
                <a:close/>
              </a:path>
            </a:pathLst>
          </a:custGeom>
          <a:solidFill>
            <a:srgbClr val="b2b2b2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3600" y="1762200"/>
            <a:ext cx="1440" cy="2874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1280" y="1712880"/>
            <a:ext cx="44640" cy="88920"/>
          </a:xfrm>
          <a:custGeom>
            <a:avLst/>
            <a:gdLst/>
            <a:ahLst/>
            <a:rect l="l" t="t" r="r" b="b"/>
            <a:pathLst>
              <a:path w="165" h="332">
                <a:moveTo>
                  <a:pt x="0" y="332"/>
                </a:moveTo>
                <a:lnTo>
                  <a:pt x="82" y="0"/>
                </a:lnTo>
                <a:lnTo>
                  <a:pt x="165" y="332"/>
                </a:lnTo>
                <a:lnTo>
                  <a:pt x="82" y="266"/>
                </a:lnTo>
                <a:lnTo>
                  <a:pt x="0" y="332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1280" y="4597560"/>
            <a:ext cx="44640" cy="88920"/>
          </a:xfrm>
          <a:custGeom>
            <a:avLst/>
            <a:gdLst/>
            <a:ahLst/>
            <a:rect l="l" t="t" r="r" b="b"/>
            <a:pathLst>
              <a:path w="165" h="332">
                <a:moveTo>
                  <a:pt x="165" y="0"/>
                </a:moveTo>
                <a:lnTo>
                  <a:pt x="82" y="332"/>
                </a:lnTo>
                <a:lnTo>
                  <a:pt x="0" y="0"/>
                </a:lnTo>
                <a:lnTo>
                  <a:pt x="82" y="66"/>
                </a:lnTo>
                <a:lnTo>
                  <a:pt x="165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4707000"/>
            <a:ext cx="559080" cy="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16200" y="4691160"/>
            <a:ext cx="55440" cy="33120"/>
          </a:xfrm>
          <a:custGeom>
            <a:avLst/>
            <a:gdLst/>
            <a:ahLst/>
            <a:rect l="l" t="t" r="r" b="b"/>
            <a:pathLst>
              <a:path w="206" h="124">
                <a:moveTo>
                  <a:pt x="0" y="0"/>
                </a:moveTo>
                <a:lnTo>
                  <a:pt x="206" y="62"/>
                </a:lnTo>
                <a:lnTo>
                  <a:pt x="0" y="124"/>
                </a:lnTo>
                <a:lnTo>
                  <a:pt x="41" y="6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790720" y="4041720"/>
            <a:ext cx="484200" cy="279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33880" y="4033800"/>
            <a:ext cx="55440" cy="41400"/>
          </a:xfrm>
          <a:custGeom>
            <a:avLst/>
            <a:gdLst/>
            <a:ahLst/>
            <a:rect l="l" t="t" r="r" b="b"/>
            <a:pathLst>
              <a:path w="211" h="157">
                <a:moveTo>
                  <a:pt x="0" y="49"/>
                </a:moveTo>
                <a:lnTo>
                  <a:pt x="211" y="0"/>
                </a:lnTo>
                <a:lnTo>
                  <a:pt x="62" y="157"/>
                </a:lnTo>
                <a:lnTo>
                  <a:pt x="67" y="82"/>
                </a:lnTo>
                <a:lnTo>
                  <a:pt x="0" y="49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960" y="1631880"/>
            <a:ext cx="581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C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680" y="3011400"/>
            <a:ext cx="21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15240" y="5315040"/>
            <a:ext cx="476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(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81320" y="3573360"/>
            <a:ext cx="900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(t+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664000" y="1346040"/>
                <a:ext cx="62877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'</m:t>
                              </m:r>
                            </m:e>
                          </m:mr>
                          <m:mr>
                            <m:e>
                              <m:r>
                                <m:t xml:space="preserve">θ</m:t>
                              </m:r>
                              <m:r>
                                <m:t xml:space="preserve">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CC</m:t>
                              </m:r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629240" y="2984400"/>
                <a:ext cx="436860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EEE-E172-4A7A-B64C-8490444502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10200" y="673200"/>
                <a:ext cx="466704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CC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ϕ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206360" y="1854360"/>
            <a:ext cx="321336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9756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Ackermann Drive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1214280" y="1859040"/>
            <a:ext cx="3043440" cy="3620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51320" y="3479760"/>
            <a:ext cx="85680" cy="424080"/>
          </a:xfrm>
          <a:custGeom>
            <a:avLst/>
            <a:gdLst/>
            <a:ahLst/>
            <a:rect l="l" t="t" r="r" b="b"/>
            <a:pathLst>
              <a:path w="266" h="1331">
                <a:moveTo>
                  <a:pt x="260" y="1331"/>
                </a:moveTo>
                <a:lnTo>
                  <a:pt x="262" y="1285"/>
                </a:lnTo>
                <a:lnTo>
                  <a:pt x="264" y="1240"/>
                </a:lnTo>
                <a:lnTo>
                  <a:pt x="266" y="1194"/>
                </a:lnTo>
                <a:lnTo>
                  <a:pt x="266" y="1148"/>
                </a:lnTo>
                <a:lnTo>
                  <a:pt x="266" y="1102"/>
                </a:lnTo>
                <a:lnTo>
                  <a:pt x="264" y="1056"/>
                </a:lnTo>
                <a:lnTo>
                  <a:pt x="262" y="1011"/>
                </a:lnTo>
                <a:lnTo>
                  <a:pt x="259" y="965"/>
                </a:lnTo>
                <a:lnTo>
                  <a:pt x="255" y="920"/>
                </a:lnTo>
                <a:lnTo>
                  <a:pt x="251" y="874"/>
                </a:lnTo>
                <a:lnTo>
                  <a:pt x="246" y="829"/>
                </a:lnTo>
                <a:lnTo>
                  <a:pt x="240" y="784"/>
                </a:lnTo>
                <a:lnTo>
                  <a:pt x="232" y="739"/>
                </a:lnTo>
                <a:lnTo>
                  <a:pt x="225" y="694"/>
                </a:lnTo>
                <a:lnTo>
                  <a:pt x="217" y="648"/>
                </a:lnTo>
                <a:lnTo>
                  <a:pt x="207" y="604"/>
                </a:lnTo>
                <a:lnTo>
                  <a:pt x="198" y="559"/>
                </a:lnTo>
                <a:lnTo>
                  <a:pt x="187" y="515"/>
                </a:lnTo>
                <a:lnTo>
                  <a:pt x="175" y="470"/>
                </a:lnTo>
                <a:lnTo>
                  <a:pt x="163" y="427"/>
                </a:lnTo>
                <a:lnTo>
                  <a:pt x="150" y="382"/>
                </a:lnTo>
                <a:lnTo>
                  <a:pt x="137" y="339"/>
                </a:lnTo>
                <a:lnTo>
                  <a:pt x="123" y="295"/>
                </a:lnTo>
                <a:lnTo>
                  <a:pt x="107" y="253"/>
                </a:lnTo>
                <a:lnTo>
                  <a:pt x="90" y="209"/>
                </a:lnTo>
                <a:lnTo>
                  <a:pt x="74" y="167"/>
                </a:lnTo>
                <a:lnTo>
                  <a:pt x="56" y="126"/>
                </a:lnTo>
                <a:lnTo>
                  <a:pt x="39" y="83"/>
                </a:lnTo>
                <a:lnTo>
                  <a:pt x="20" y="4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2880" y="1724040"/>
            <a:ext cx="86040" cy="395280"/>
          </a:xfrm>
          <a:custGeom>
            <a:avLst/>
            <a:gdLst/>
            <a:ahLst/>
            <a:rect l="l" t="t" r="r" b="b"/>
            <a:pathLst>
              <a:path w="273" h="1244">
                <a:moveTo>
                  <a:pt x="0" y="1244"/>
                </a:moveTo>
                <a:lnTo>
                  <a:pt x="14" y="1224"/>
                </a:lnTo>
                <a:lnTo>
                  <a:pt x="28" y="1205"/>
                </a:lnTo>
                <a:lnTo>
                  <a:pt x="42" y="1185"/>
                </a:lnTo>
                <a:lnTo>
                  <a:pt x="54" y="1164"/>
                </a:lnTo>
                <a:lnTo>
                  <a:pt x="68" y="1144"/>
                </a:lnTo>
                <a:lnTo>
                  <a:pt x="80" y="1123"/>
                </a:lnTo>
                <a:lnTo>
                  <a:pt x="92" y="1102"/>
                </a:lnTo>
                <a:lnTo>
                  <a:pt x="104" y="1080"/>
                </a:lnTo>
                <a:lnTo>
                  <a:pt x="115" y="1060"/>
                </a:lnTo>
                <a:lnTo>
                  <a:pt x="127" y="1038"/>
                </a:lnTo>
                <a:lnTo>
                  <a:pt x="137" y="1016"/>
                </a:lnTo>
                <a:lnTo>
                  <a:pt x="147" y="993"/>
                </a:lnTo>
                <a:lnTo>
                  <a:pt x="157" y="972"/>
                </a:lnTo>
                <a:lnTo>
                  <a:pt x="166" y="949"/>
                </a:lnTo>
                <a:lnTo>
                  <a:pt x="175" y="927"/>
                </a:lnTo>
                <a:lnTo>
                  <a:pt x="185" y="904"/>
                </a:lnTo>
                <a:lnTo>
                  <a:pt x="193" y="882"/>
                </a:lnTo>
                <a:lnTo>
                  <a:pt x="200" y="859"/>
                </a:lnTo>
                <a:lnTo>
                  <a:pt x="207" y="836"/>
                </a:lnTo>
                <a:lnTo>
                  <a:pt x="215" y="812"/>
                </a:lnTo>
                <a:lnTo>
                  <a:pt x="222" y="789"/>
                </a:lnTo>
                <a:lnTo>
                  <a:pt x="228" y="766"/>
                </a:lnTo>
                <a:lnTo>
                  <a:pt x="234" y="742"/>
                </a:lnTo>
                <a:lnTo>
                  <a:pt x="240" y="719"/>
                </a:lnTo>
                <a:lnTo>
                  <a:pt x="245" y="695"/>
                </a:lnTo>
                <a:lnTo>
                  <a:pt x="249" y="671"/>
                </a:lnTo>
                <a:lnTo>
                  <a:pt x="253" y="648"/>
                </a:lnTo>
                <a:lnTo>
                  <a:pt x="257" y="623"/>
                </a:lnTo>
                <a:lnTo>
                  <a:pt x="260" y="599"/>
                </a:lnTo>
                <a:lnTo>
                  <a:pt x="263" y="575"/>
                </a:lnTo>
                <a:lnTo>
                  <a:pt x="266" y="551"/>
                </a:lnTo>
                <a:lnTo>
                  <a:pt x="269" y="526"/>
                </a:lnTo>
                <a:lnTo>
                  <a:pt x="271" y="503"/>
                </a:lnTo>
                <a:lnTo>
                  <a:pt x="272" y="479"/>
                </a:lnTo>
                <a:lnTo>
                  <a:pt x="273" y="454"/>
                </a:lnTo>
                <a:lnTo>
                  <a:pt x="273" y="430"/>
                </a:lnTo>
                <a:lnTo>
                  <a:pt x="273" y="405"/>
                </a:lnTo>
                <a:lnTo>
                  <a:pt x="273" y="382"/>
                </a:lnTo>
                <a:lnTo>
                  <a:pt x="272" y="358"/>
                </a:lnTo>
                <a:lnTo>
                  <a:pt x="271" y="333"/>
                </a:lnTo>
                <a:lnTo>
                  <a:pt x="270" y="309"/>
                </a:lnTo>
                <a:lnTo>
                  <a:pt x="268" y="285"/>
                </a:lnTo>
                <a:lnTo>
                  <a:pt x="264" y="260"/>
                </a:lnTo>
                <a:lnTo>
                  <a:pt x="262" y="237"/>
                </a:lnTo>
                <a:lnTo>
                  <a:pt x="258" y="213"/>
                </a:lnTo>
                <a:lnTo>
                  <a:pt x="255" y="189"/>
                </a:lnTo>
                <a:lnTo>
                  <a:pt x="251" y="165"/>
                </a:lnTo>
                <a:lnTo>
                  <a:pt x="247" y="141"/>
                </a:lnTo>
                <a:lnTo>
                  <a:pt x="242" y="118"/>
                </a:lnTo>
                <a:lnTo>
                  <a:pt x="236" y="94"/>
                </a:lnTo>
                <a:lnTo>
                  <a:pt x="230" y="70"/>
                </a:lnTo>
                <a:lnTo>
                  <a:pt x="224" y="46"/>
                </a:lnTo>
                <a:lnTo>
                  <a:pt x="218" y="23"/>
                </a:lnTo>
                <a:lnTo>
                  <a:pt x="211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92200" y="1682640"/>
            <a:ext cx="41400" cy="68400"/>
          </a:xfrm>
          <a:custGeom>
            <a:avLst/>
            <a:gdLst/>
            <a:ahLst/>
            <a:rect l="l" t="t" r="r" b="b"/>
            <a:pathLst>
              <a:path w="128" h="216">
                <a:moveTo>
                  <a:pt x="29" y="216"/>
                </a:moveTo>
                <a:lnTo>
                  <a:pt x="0" y="0"/>
                </a:lnTo>
                <a:lnTo>
                  <a:pt x="128" y="176"/>
                </a:lnTo>
                <a:lnTo>
                  <a:pt x="63" y="157"/>
                </a:lnTo>
                <a:lnTo>
                  <a:pt x="29" y="216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3240" y="1816200"/>
            <a:ext cx="84240" cy="8388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98600" y="2340000"/>
            <a:ext cx="1573200" cy="1347840"/>
          </a:xfrm>
          <a:custGeom>
            <a:avLst/>
            <a:gdLst/>
            <a:ahLst/>
            <a:rect l="l" t="t" r="r" b="b"/>
            <a:pathLst>
              <a:path w="4953" h="4243">
                <a:moveTo>
                  <a:pt x="4901" y="88"/>
                </a:moveTo>
                <a:lnTo>
                  <a:pt x="4909" y="99"/>
                </a:lnTo>
                <a:lnTo>
                  <a:pt x="4917" y="111"/>
                </a:lnTo>
                <a:lnTo>
                  <a:pt x="4924" y="123"/>
                </a:lnTo>
                <a:lnTo>
                  <a:pt x="4931" y="135"/>
                </a:lnTo>
                <a:lnTo>
                  <a:pt x="4936" y="149"/>
                </a:lnTo>
                <a:lnTo>
                  <a:pt x="4941" y="162"/>
                </a:lnTo>
                <a:lnTo>
                  <a:pt x="4944" y="177"/>
                </a:lnTo>
                <a:lnTo>
                  <a:pt x="4948" y="192"/>
                </a:lnTo>
                <a:lnTo>
                  <a:pt x="4950" y="208"/>
                </a:lnTo>
                <a:lnTo>
                  <a:pt x="4952" y="224"/>
                </a:lnTo>
                <a:lnTo>
                  <a:pt x="4953" y="241"/>
                </a:lnTo>
                <a:lnTo>
                  <a:pt x="4953" y="259"/>
                </a:lnTo>
                <a:lnTo>
                  <a:pt x="4952" y="277"/>
                </a:lnTo>
                <a:lnTo>
                  <a:pt x="4951" y="296"/>
                </a:lnTo>
                <a:lnTo>
                  <a:pt x="4949" y="314"/>
                </a:lnTo>
                <a:lnTo>
                  <a:pt x="4946" y="334"/>
                </a:lnTo>
                <a:lnTo>
                  <a:pt x="4943" y="355"/>
                </a:lnTo>
                <a:lnTo>
                  <a:pt x="4939" y="376"/>
                </a:lnTo>
                <a:lnTo>
                  <a:pt x="4934" y="396"/>
                </a:lnTo>
                <a:lnTo>
                  <a:pt x="4927" y="419"/>
                </a:lnTo>
                <a:lnTo>
                  <a:pt x="4921" y="441"/>
                </a:lnTo>
                <a:lnTo>
                  <a:pt x="4914" y="464"/>
                </a:lnTo>
                <a:lnTo>
                  <a:pt x="4906" y="487"/>
                </a:lnTo>
                <a:lnTo>
                  <a:pt x="4897" y="511"/>
                </a:lnTo>
                <a:lnTo>
                  <a:pt x="4888" y="536"/>
                </a:lnTo>
                <a:lnTo>
                  <a:pt x="4878" y="561"/>
                </a:lnTo>
                <a:lnTo>
                  <a:pt x="4866" y="586"/>
                </a:lnTo>
                <a:lnTo>
                  <a:pt x="4855" y="612"/>
                </a:lnTo>
                <a:lnTo>
                  <a:pt x="4843" y="639"/>
                </a:lnTo>
                <a:lnTo>
                  <a:pt x="4829" y="664"/>
                </a:lnTo>
                <a:lnTo>
                  <a:pt x="4815" y="692"/>
                </a:lnTo>
                <a:lnTo>
                  <a:pt x="4800" y="719"/>
                </a:lnTo>
                <a:lnTo>
                  <a:pt x="4784" y="748"/>
                </a:lnTo>
                <a:lnTo>
                  <a:pt x="4769" y="776"/>
                </a:lnTo>
                <a:lnTo>
                  <a:pt x="4752" y="805"/>
                </a:lnTo>
                <a:lnTo>
                  <a:pt x="4735" y="834"/>
                </a:lnTo>
                <a:lnTo>
                  <a:pt x="4716" y="864"/>
                </a:lnTo>
                <a:lnTo>
                  <a:pt x="4697" y="894"/>
                </a:lnTo>
                <a:lnTo>
                  <a:pt x="4678" y="925"/>
                </a:lnTo>
                <a:lnTo>
                  <a:pt x="4658" y="955"/>
                </a:lnTo>
                <a:lnTo>
                  <a:pt x="4637" y="986"/>
                </a:lnTo>
                <a:lnTo>
                  <a:pt x="4616" y="1019"/>
                </a:lnTo>
                <a:lnTo>
                  <a:pt x="4594" y="1051"/>
                </a:lnTo>
                <a:lnTo>
                  <a:pt x="4571" y="1083"/>
                </a:lnTo>
                <a:lnTo>
                  <a:pt x="4547" y="1115"/>
                </a:lnTo>
                <a:lnTo>
                  <a:pt x="4523" y="1148"/>
                </a:lnTo>
                <a:lnTo>
                  <a:pt x="4499" y="1181"/>
                </a:lnTo>
                <a:lnTo>
                  <a:pt x="4473" y="1214"/>
                </a:lnTo>
                <a:lnTo>
                  <a:pt x="4447" y="1248"/>
                </a:lnTo>
                <a:lnTo>
                  <a:pt x="4421" y="1283"/>
                </a:lnTo>
                <a:lnTo>
                  <a:pt x="4393" y="1317"/>
                </a:lnTo>
                <a:lnTo>
                  <a:pt x="4366" y="1351"/>
                </a:lnTo>
                <a:lnTo>
                  <a:pt x="4337" y="1385"/>
                </a:lnTo>
                <a:lnTo>
                  <a:pt x="4308" y="1420"/>
                </a:lnTo>
                <a:lnTo>
                  <a:pt x="4279" y="1455"/>
                </a:lnTo>
                <a:lnTo>
                  <a:pt x="4249" y="1491"/>
                </a:lnTo>
                <a:lnTo>
                  <a:pt x="4219" y="1527"/>
                </a:lnTo>
                <a:lnTo>
                  <a:pt x="4188" y="1562"/>
                </a:lnTo>
                <a:lnTo>
                  <a:pt x="4156" y="1598"/>
                </a:lnTo>
                <a:lnTo>
                  <a:pt x="4123" y="1635"/>
                </a:lnTo>
                <a:lnTo>
                  <a:pt x="4091" y="1671"/>
                </a:lnTo>
                <a:lnTo>
                  <a:pt x="4058" y="1707"/>
                </a:lnTo>
                <a:lnTo>
                  <a:pt x="4024" y="1743"/>
                </a:lnTo>
                <a:lnTo>
                  <a:pt x="3990" y="1779"/>
                </a:lnTo>
                <a:lnTo>
                  <a:pt x="3956" y="1817"/>
                </a:lnTo>
                <a:lnTo>
                  <a:pt x="3920" y="1853"/>
                </a:lnTo>
                <a:lnTo>
                  <a:pt x="3885" y="1890"/>
                </a:lnTo>
                <a:lnTo>
                  <a:pt x="3849" y="1928"/>
                </a:lnTo>
                <a:lnTo>
                  <a:pt x="3813" y="1964"/>
                </a:lnTo>
                <a:lnTo>
                  <a:pt x="3776" y="2001"/>
                </a:lnTo>
                <a:lnTo>
                  <a:pt x="3739" y="2038"/>
                </a:lnTo>
                <a:lnTo>
                  <a:pt x="3702" y="2076"/>
                </a:lnTo>
                <a:lnTo>
                  <a:pt x="3664" y="2113"/>
                </a:lnTo>
                <a:lnTo>
                  <a:pt x="3626" y="2149"/>
                </a:lnTo>
                <a:lnTo>
                  <a:pt x="3587" y="2186"/>
                </a:lnTo>
                <a:lnTo>
                  <a:pt x="3548" y="2224"/>
                </a:lnTo>
                <a:lnTo>
                  <a:pt x="3509" y="2261"/>
                </a:lnTo>
                <a:lnTo>
                  <a:pt x="3470" y="2298"/>
                </a:lnTo>
                <a:lnTo>
                  <a:pt x="3429" y="2334"/>
                </a:lnTo>
                <a:lnTo>
                  <a:pt x="3390" y="2372"/>
                </a:lnTo>
                <a:lnTo>
                  <a:pt x="3349" y="2409"/>
                </a:lnTo>
                <a:lnTo>
                  <a:pt x="3308" y="2445"/>
                </a:lnTo>
                <a:lnTo>
                  <a:pt x="3268" y="2481"/>
                </a:lnTo>
                <a:lnTo>
                  <a:pt x="3226" y="2519"/>
                </a:lnTo>
                <a:lnTo>
                  <a:pt x="3185" y="2555"/>
                </a:lnTo>
                <a:lnTo>
                  <a:pt x="3143" y="2591"/>
                </a:lnTo>
                <a:lnTo>
                  <a:pt x="3102" y="2627"/>
                </a:lnTo>
                <a:lnTo>
                  <a:pt x="3059" y="2664"/>
                </a:lnTo>
                <a:lnTo>
                  <a:pt x="3017" y="2699"/>
                </a:lnTo>
                <a:lnTo>
                  <a:pt x="2974" y="2735"/>
                </a:lnTo>
                <a:lnTo>
                  <a:pt x="2932" y="2770"/>
                </a:lnTo>
                <a:lnTo>
                  <a:pt x="2889" y="2806"/>
                </a:lnTo>
                <a:lnTo>
                  <a:pt x="2847" y="2841"/>
                </a:lnTo>
                <a:lnTo>
                  <a:pt x="2803" y="2875"/>
                </a:lnTo>
                <a:lnTo>
                  <a:pt x="2761" y="2910"/>
                </a:lnTo>
                <a:lnTo>
                  <a:pt x="2717" y="2944"/>
                </a:lnTo>
                <a:lnTo>
                  <a:pt x="2675" y="2978"/>
                </a:lnTo>
                <a:lnTo>
                  <a:pt x="2631" y="3012"/>
                </a:lnTo>
                <a:lnTo>
                  <a:pt x="2588" y="3046"/>
                </a:lnTo>
                <a:lnTo>
                  <a:pt x="2544" y="3079"/>
                </a:lnTo>
                <a:lnTo>
                  <a:pt x="2502" y="3112"/>
                </a:lnTo>
                <a:lnTo>
                  <a:pt x="2458" y="3144"/>
                </a:lnTo>
                <a:lnTo>
                  <a:pt x="2415" y="3177"/>
                </a:lnTo>
                <a:lnTo>
                  <a:pt x="2371" y="3209"/>
                </a:lnTo>
                <a:lnTo>
                  <a:pt x="2328" y="3240"/>
                </a:lnTo>
                <a:lnTo>
                  <a:pt x="2285" y="3272"/>
                </a:lnTo>
                <a:lnTo>
                  <a:pt x="2242" y="3302"/>
                </a:lnTo>
                <a:lnTo>
                  <a:pt x="2198" y="3334"/>
                </a:lnTo>
                <a:lnTo>
                  <a:pt x="2156" y="3364"/>
                </a:lnTo>
                <a:lnTo>
                  <a:pt x="2112" y="3394"/>
                </a:lnTo>
                <a:lnTo>
                  <a:pt x="2070" y="3424"/>
                </a:lnTo>
                <a:lnTo>
                  <a:pt x="2027" y="3453"/>
                </a:lnTo>
                <a:lnTo>
                  <a:pt x="1985" y="3482"/>
                </a:lnTo>
                <a:lnTo>
                  <a:pt x="1942" y="3510"/>
                </a:lnTo>
                <a:lnTo>
                  <a:pt x="1900" y="3537"/>
                </a:lnTo>
                <a:lnTo>
                  <a:pt x="1858" y="3564"/>
                </a:lnTo>
                <a:lnTo>
                  <a:pt x="1816" y="3591"/>
                </a:lnTo>
                <a:lnTo>
                  <a:pt x="1774" y="3618"/>
                </a:lnTo>
                <a:lnTo>
                  <a:pt x="1733" y="3644"/>
                </a:lnTo>
                <a:lnTo>
                  <a:pt x="1691" y="3670"/>
                </a:lnTo>
                <a:lnTo>
                  <a:pt x="1651" y="3695"/>
                </a:lnTo>
                <a:lnTo>
                  <a:pt x="1610" y="3720"/>
                </a:lnTo>
                <a:lnTo>
                  <a:pt x="1569" y="3744"/>
                </a:lnTo>
                <a:lnTo>
                  <a:pt x="1529" y="3767"/>
                </a:lnTo>
                <a:lnTo>
                  <a:pt x="1489" y="3791"/>
                </a:lnTo>
                <a:lnTo>
                  <a:pt x="1450" y="3813"/>
                </a:lnTo>
                <a:lnTo>
                  <a:pt x="1411" y="3836"/>
                </a:lnTo>
                <a:lnTo>
                  <a:pt x="1371" y="3857"/>
                </a:lnTo>
                <a:lnTo>
                  <a:pt x="1333" y="3878"/>
                </a:lnTo>
                <a:lnTo>
                  <a:pt x="1295" y="3899"/>
                </a:lnTo>
                <a:lnTo>
                  <a:pt x="1257" y="3919"/>
                </a:lnTo>
                <a:lnTo>
                  <a:pt x="1219" y="3938"/>
                </a:lnTo>
                <a:lnTo>
                  <a:pt x="1182" y="3957"/>
                </a:lnTo>
                <a:lnTo>
                  <a:pt x="1145" y="3975"/>
                </a:lnTo>
                <a:lnTo>
                  <a:pt x="1109" y="3993"/>
                </a:lnTo>
                <a:lnTo>
                  <a:pt x="1073" y="4011"/>
                </a:lnTo>
                <a:lnTo>
                  <a:pt x="1038" y="4027"/>
                </a:lnTo>
                <a:lnTo>
                  <a:pt x="1002" y="4043"/>
                </a:lnTo>
                <a:lnTo>
                  <a:pt x="968" y="4058"/>
                </a:lnTo>
                <a:lnTo>
                  <a:pt x="934" y="4073"/>
                </a:lnTo>
                <a:lnTo>
                  <a:pt x="900" y="4087"/>
                </a:lnTo>
                <a:lnTo>
                  <a:pt x="867" y="4101"/>
                </a:lnTo>
                <a:lnTo>
                  <a:pt x="835" y="4114"/>
                </a:lnTo>
                <a:lnTo>
                  <a:pt x="802" y="4127"/>
                </a:lnTo>
                <a:lnTo>
                  <a:pt x="770" y="4138"/>
                </a:lnTo>
                <a:lnTo>
                  <a:pt x="739" y="4149"/>
                </a:lnTo>
                <a:lnTo>
                  <a:pt x="709" y="4160"/>
                </a:lnTo>
                <a:lnTo>
                  <a:pt x="679" y="4170"/>
                </a:lnTo>
                <a:lnTo>
                  <a:pt x="649" y="4179"/>
                </a:lnTo>
                <a:lnTo>
                  <a:pt x="620" y="4188"/>
                </a:lnTo>
                <a:lnTo>
                  <a:pt x="592" y="4196"/>
                </a:lnTo>
                <a:lnTo>
                  <a:pt x="564" y="4203"/>
                </a:lnTo>
                <a:lnTo>
                  <a:pt x="537" y="4210"/>
                </a:lnTo>
                <a:lnTo>
                  <a:pt x="510" y="4217"/>
                </a:lnTo>
                <a:lnTo>
                  <a:pt x="484" y="4222"/>
                </a:lnTo>
                <a:lnTo>
                  <a:pt x="458" y="4227"/>
                </a:lnTo>
                <a:lnTo>
                  <a:pt x="433" y="4231"/>
                </a:lnTo>
                <a:lnTo>
                  <a:pt x="410" y="4234"/>
                </a:lnTo>
                <a:lnTo>
                  <a:pt x="386" y="4237"/>
                </a:lnTo>
                <a:lnTo>
                  <a:pt x="363" y="4239"/>
                </a:lnTo>
                <a:lnTo>
                  <a:pt x="341" y="4242"/>
                </a:lnTo>
                <a:lnTo>
                  <a:pt x="320" y="4243"/>
                </a:lnTo>
                <a:lnTo>
                  <a:pt x="299" y="4243"/>
                </a:lnTo>
                <a:lnTo>
                  <a:pt x="278" y="4243"/>
                </a:lnTo>
                <a:lnTo>
                  <a:pt x="258" y="4242"/>
                </a:lnTo>
                <a:lnTo>
                  <a:pt x="240" y="4239"/>
                </a:lnTo>
                <a:lnTo>
                  <a:pt x="221" y="4237"/>
                </a:lnTo>
                <a:lnTo>
                  <a:pt x="203" y="4234"/>
                </a:lnTo>
                <a:lnTo>
                  <a:pt x="187" y="4231"/>
                </a:lnTo>
                <a:lnTo>
                  <a:pt x="171" y="4227"/>
                </a:lnTo>
                <a:lnTo>
                  <a:pt x="156" y="4222"/>
                </a:lnTo>
                <a:lnTo>
                  <a:pt x="140" y="4216"/>
                </a:lnTo>
                <a:lnTo>
                  <a:pt x="127" y="4210"/>
                </a:lnTo>
                <a:lnTo>
                  <a:pt x="113" y="4203"/>
                </a:lnTo>
                <a:lnTo>
                  <a:pt x="101" y="4196"/>
                </a:lnTo>
                <a:lnTo>
                  <a:pt x="88" y="4188"/>
                </a:lnTo>
                <a:lnTo>
                  <a:pt x="78" y="4179"/>
                </a:lnTo>
                <a:lnTo>
                  <a:pt x="68" y="4170"/>
                </a:lnTo>
                <a:lnTo>
                  <a:pt x="57" y="4160"/>
                </a:lnTo>
                <a:lnTo>
                  <a:pt x="49" y="4149"/>
                </a:lnTo>
                <a:lnTo>
                  <a:pt x="41" y="4138"/>
                </a:lnTo>
                <a:lnTo>
                  <a:pt x="34" y="4127"/>
                </a:lnTo>
                <a:lnTo>
                  <a:pt x="26" y="4114"/>
                </a:lnTo>
                <a:lnTo>
                  <a:pt x="21" y="4101"/>
                </a:lnTo>
                <a:lnTo>
                  <a:pt x="16" y="4087"/>
                </a:lnTo>
                <a:lnTo>
                  <a:pt x="12" y="4073"/>
                </a:lnTo>
                <a:lnTo>
                  <a:pt x="8" y="4058"/>
                </a:lnTo>
                <a:lnTo>
                  <a:pt x="5" y="4043"/>
                </a:lnTo>
                <a:lnTo>
                  <a:pt x="2" y="4026"/>
                </a:lnTo>
                <a:lnTo>
                  <a:pt x="1" y="4010"/>
                </a:lnTo>
                <a:lnTo>
                  <a:pt x="0" y="3993"/>
                </a:lnTo>
                <a:lnTo>
                  <a:pt x="0" y="3974"/>
                </a:lnTo>
                <a:lnTo>
                  <a:pt x="1" y="3957"/>
                </a:lnTo>
                <a:lnTo>
                  <a:pt x="3" y="3937"/>
                </a:lnTo>
                <a:lnTo>
                  <a:pt x="6" y="3919"/>
                </a:lnTo>
                <a:lnTo>
                  <a:pt x="9" y="3898"/>
                </a:lnTo>
                <a:lnTo>
                  <a:pt x="13" y="3878"/>
                </a:lnTo>
                <a:lnTo>
                  <a:pt x="18" y="3856"/>
                </a:lnTo>
                <a:lnTo>
                  <a:pt x="23" y="3835"/>
                </a:lnTo>
                <a:lnTo>
                  <a:pt x="29" y="3813"/>
                </a:lnTo>
                <a:lnTo>
                  <a:pt x="36" y="3790"/>
                </a:lnTo>
                <a:lnTo>
                  <a:pt x="44" y="3767"/>
                </a:lnTo>
                <a:lnTo>
                  <a:pt x="52" y="3744"/>
                </a:lnTo>
                <a:lnTo>
                  <a:pt x="62" y="3719"/>
                </a:lnTo>
                <a:lnTo>
                  <a:pt x="71" y="3695"/>
                </a:lnTo>
                <a:lnTo>
                  <a:pt x="82" y="3669"/>
                </a:lnTo>
                <a:lnTo>
                  <a:pt x="94" y="3644"/>
                </a:lnTo>
                <a:lnTo>
                  <a:pt x="105" y="3617"/>
                </a:lnTo>
                <a:lnTo>
                  <a:pt x="118" y="3591"/>
                </a:lnTo>
                <a:lnTo>
                  <a:pt x="132" y="3564"/>
                </a:lnTo>
                <a:lnTo>
                  <a:pt x="146" y="3536"/>
                </a:lnTo>
                <a:lnTo>
                  <a:pt x="161" y="3509"/>
                </a:lnTo>
                <a:lnTo>
                  <a:pt x="177" y="3481"/>
                </a:lnTo>
                <a:lnTo>
                  <a:pt x="193" y="3452"/>
                </a:lnTo>
                <a:lnTo>
                  <a:pt x="211" y="3423"/>
                </a:lnTo>
                <a:lnTo>
                  <a:pt x="228" y="3394"/>
                </a:lnTo>
                <a:lnTo>
                  <a:pt x="247" y="3364"/>
                </a:lnTo>
                <a:lnTo>
                  <a:pt x="266" y="3333"/>
                </a:lnTo>
                <a:lnTo>
                  <a:pt x="285" y="3302"/>
                </a:lnTo>
                <a:lnTo>
                  <a:pt x="306" y="3271"/>
                </a:lnTo>
                <a:lnTo>
                  <a:pt x="328" y="3240"/>
                </a:lnTo>
                <a:lnTo>
                  <a:pt x="350" y="3208"/>
                </a:lnTo>
                <a:lnTo>
                  <a:pt x="371" y="3176"/>
                </a:lnTo>
                <a:lnTo>
                  <a:pt x="395" y="3144"/>
                </a:lnTo>
                <a:lnTo>
                  <a:pt x="419" y="3111"/>
                </a:lnTo>
                <a:lnTo>
                  <a:pt x="443" y="3078"/>
                </a:lnTo>
                <a:lnTo>
                  <a:pt x="468" y="3045"/>
                </a:lnTo>
                <a:lnTo>
                  <a:pt x="494" y="3012"/>
                </a:lnTo>
                <a:lnTo>
                  <a:pt x="520" y="2977"/>
                </a:lnTo>
                <a:lnTo>
                  <a:pt x="546" y="2943"/>
                </a:lnTo>
                <a:lnTo>
                  <a:pt x="574" y="2909"/>
                </a:lnTo>
                <a:lnTo>
                  <a:pt x="602" y="2875"/>
                </a:lnTo>
                <a:lnTo>
                  <a:pt x="631" y="2840"/>
                </a:lnTo>
                <a:lnTo>
                  <a:pt x="660" y="2804"/>
                </a:lnTo>
                <a:lnTo>
                  <a:pt x="689" y="2769"/>
                </a:lnTo>
                <a:lnTo>
                  <a:pt x="721" y="2734"/>
                </a:lnTo>
                <a:lnTo>
                  <a:pt x="751" y="2698"/>
                </a:lnTo>
                <a:lnTo>
                  <a:pt x="783" y="2663"/>
                </a:lnTo>
                <a:lnTo>
                  <a:pt x="814" y="2626"/>
                </a:lnTo>
                <a:lnTo>
                  <a:pt x="847" y="2590"/>
                </a:lnTo>
                <a:lnTo>
                  <a:pt x="879" y="2554"/>
                </a:lnTo>
                <a:lnTo>
                  <a:pt x="912" y="2518"/>
                </a:lnTo>
                <a:lnTo>
                  <a:pt x="946" y="2481"/>
                </a:lnTo>
                <a:lnTo>
                  <a:pt x="981" y="2444"/>
                </a:lnTo>
                <a:lnTo>
                  <a:pt x="1016" y="2408"/>
                </a:lnTo>
                <a:lnTo>
                  <a:pt x="1051" y="2371"/>
                </a:lnTo>
                <a:lnTo>
                  <a:pt x="1086" y="2334"/>
                </a:lnTo>
                <a:lnTo>
                  <a:pt x="1123" y="2297"/>
                </a:lnTo>
                <a:lnTo>
                  <a:pt x="1159" y="2260"/>
                </a:lnTo>
                <a:lnTo>
                  <a:pt x="1196" y="2223"/>
                </a:lnTo>
                <a:lnTo>
                  <a:pt x="1233" y="2185"/>
                </a:lnTo>
                <a:lnTo>
                  <a:pt x="1271" y="2149"/>
                </a:lnTo>
                <a:lnTo>
                  <a:pt x="1309" y="2112"/>
                </a:lnTo>
                <a:lnTo>
                  <a:pt x="1347" y="2075"/>
                </a:lnTo>
                <a:lnTo>
                  <a:pt x="1386" y="2037"/>
                </a:lnTo>
                <a:lnTo>
                  <a:pt x="1425" y="2000"/>
                </a:lnTo>
                <a:lnTo>
                  <a:pt x="1465" y="1963"/>
                </a:lnTo>
                <a:lnTo>
                  <a:pt x="1504" y="1927"/>
                </a:lnTo>
                <a:lnTo>
                  <a:pt x="1544" y="1889"/>
                </a:lnTo>
                <a:lnTo>
                  <a:pt x="1585" y="1852"/>
                </a:lnTo>
                <a:lnTo>
                  <a:pt x="1625" y="1816"/>
                </a:lnTo>
                <a:lnTo>
                  <a:pt x="1666" y="1778"/>
                </a:lnTo>
                <a:lnTo>
                  <a:pt x="1707" y="1742"/>
                </a:lnTo>
                <a:lnTo>
                  <a:pt x="1748" y="1706"/>
                </a:lnTo>
                <a:lnTo>
                  <a:pt x="1790" y="1670"/>
                </a:lnTo>
                <a:lnTo>
                  <a:pt x="1831" y="1634"/>
                </a:lnTo>
                <a:lnTo>
                  <a:pt x="1874" y="1597"/>
                </a:lnTo>
                <a:lnTo>
                  <a:pt x="1915" y="1561"/>
                </a:lnTo>
                <a:lnTo>
                  <a:pt x="1958" y="1526"/>
                </a:lnTo>
                <a:lnTo>
                  <a:pt x="2000" y="1491"/>
                </a:lnTo>
                <a:lnTo>
                  <a:pt x="2043" y="1454"/>
                </a:lnTo>
                <a:lnTo>
                  <a:pt x="2086" y="1419"/>
                </a:lnTo>
                <a:lnTo>
                  <a:pt x="2129" y="1385"/>
                </a:lnTo>
                <a:lnTo>
                  <a:pt x="2171" y="1350"/>
                </a:lnTo>
                <a:lnTo>
                  <a:pt x="2215" y="1316"/>
                </a:lnTo>
                <a:lnTo>
                  <a:pt x="2258" y="1281"/>
                </a:lnTo>
                <a:lnTo>
                  <a:pt x="2301" y="1247"/>
                </a:lnTo>
                <a:lnTo>
                  <a:pt x="2344" y="1213"/>
                </a:lnTo>
                <a:lnTo>
                  <a:pt x="2388" y="1180"/>
                </a:lnTo>
                <a:lnTo>
                  <a:pt x="2431" y="1147"/>
                </a:lnTo>
                <a:lnTo>
                  <a:pt x="2474" y="1115"/>
                </a:lnTo>
                <a:lnTo>
                  <a:pt x="2517" y="1082"/>
                </a:lnTo>
                <a:lnTo>
                  <a:pt x="2561" y="1050"/>
                </a:lnTo>
                <a:lnTo>
                  <a:pt x="2604" y="1017"/>
                </a:lnTo>
                <a:lnTo>
                  <a:pt x="2648" y="986"/>
                </a:lnTo>
                <a:lnTo>
                  <a:pt x="2690" y="955"/>
                </a:lnTo>
                <a:lnTo>
                  <a:pt x="2734" y="924"/>
                </a:lnTo>
                <a:lnTo>
                  <a:pt x="2776" y="893"/>
                </a:lnTo>
                <a:lnTo>
                  <a:pt x="2820" y="863"/>
                </a:lnTo>
                <a:lnTo>
                  <a:pt x="2862" y="834"/>
                </a:lnTo>
                <a:lnTo>
                  <a:pt x="2906" y="804"/>
                </a:lnTo>
                <a:lnTo>
                  <a:pt x="2948" y="775"/>
                </a:lnTo>
                <a:lnTo>
                  <a:pt x="2991" y="747"/>
                </a:lnTo>
                <a:lnTo>
                  <a:pt x="3033" y="719"/>
                </a:lnTo>
                <a:lnTo>
                  <a:pt x="3075" y="691"/>
                </a:lnTo>
                <a:lnTo>
                  <a:pt x="3117" y="664"/>
                </a:lnTo>
                <a:lnTo>
                  <a:pt x="3159" y="638"/>
                </a:lnTo>
                <a:lnTo>
                  <a:pt x="3200" y="612"/>
                </a:lnTo>
                <a:lnTo>
                  <a:pt x="3242" y="586"/>
                </a:lnTo>
                <a:lnTo>
                  <a:pt x="3283" y="560"/>
                </a:lnTo>
                <a:lnTo>
                  <a:pt x="3323" y="535"/>
                </a:lnTo>
                <a:lnTo>
                  <a:pt x="3364" y="511"/>
                </a:lnTo>
                <a:lnTo>
                  <a:pt x="3404" y="486"/>
                </a:lnTo>
                <a:lnTo>
                  <a:pt x="3445" y="464"/>
                </a:lnTo>
                <a:lnTo>
                  <a:pt x="3484" y="441"/>
                </a:lnTo>
                <a:lnTo>
                  <a:pt x="3523" y="418"/>
                </a:lnTo>
                <a:lnTo>
                  <a:pt x="3563" y="396"/>
                </a:lnTo>
                <a:lnTo>
                  <a:pt x="3601" y="375"/>
                </a:lnTo>
                <a:lnTo>
                  <a:pt x="3641" y="354"/>
                </a:lnTo>
                <a:lnTo>
                  <a:pt x="3678" y="334"/>
                </a:lnTo>
                <a:lnTo>
                  <a:pt x="3716" y="314"/>
                </a:lnTo>
                <a:lnTo>
                  <a:pt x="3753" y="295"/>
                </a:lnTo>
                <a:lnTo>
                  <a:pt x="3790" y="276"/>
                </a:lnTo>
                <a:lnTo>
                  <a:pt x="3827" y="259"/>
                </a:lnTo>
                <a:lnTo>
                  <a:pt x="3863" y="241"/>
                </a:lnTo>
                <a:lnTo>
                  <a:pt x="3899" y="224"/>
                </a:lnTo>
                <a:lnTo>
                  <a:pt x="3934" y="208"/>
                </a:lnTo>
                <a:lnTo>
                  <a:pt x="3969" y="192"/>
                </a:lnTo>
                <a:lnTo>
                  <a:pt x="4003" y="177"/>
                </a:lnTo>
                <a:lnTo>
                  <a:pt x="4036" y="162"/>
                </a:lnTo>
                <a:lnTo>
                  <a:pt x="4071" y="148"/>
                </a:lnTo>
                <a:lnTo>
                  <a:pt x="4104" y="135"/>
                </a:lnTo>
                <a:lnTo>
                  <a:pt x="4136" y="122"/>
                </a:lnTo>
                <a:lnTo>
                  <a:pt x="4168" y="111"/>
                </a:lnTo>
                <a:lnTo>
                  <a:pt x="4199" y="99"/>
                </a:lnTo>
                <a:lnTo>
                  <a:pt x="4230" y="88"/>
                </a:lnTo>
                <a:lnTo>
                  <a:pt x="4260" y="77"/>
                </a:lnTo>
                <a:lnTo>
                  <a:pt x="4290" y="68"/>
                </a:lnTo>
                <a:lnTo>
                  <a:pt x="4319" y="59"/>
                </a:lnTo>
                <a:lnTo>
                  <a:pt x="4348" y="50"/>
                </a:lnTo>
                <a:lnTo>
                  <a:pt x="4376" y="43"/>
                </a:lnTo>
                <a:lnTo>
                  <a:pt x="4403" y="36"/>
                </a:lnTo>
                <a:lnTo>
                  <a:pt x="4430" y="29"/>
                </a:lnTo>
                <a:lnTo>
                  <a:pt x="4457" y="24"/>
                </a:lnTo>
                <a:lnTo>
                  <a:pt x="4483" y="18"/>
                </a:lnTo>
                <a:lnTo>
                  <a:pt x="4508" y="13"/>
                </a:lnTo>
                <a:lnTo>
                  <a:pt x="4532" y="10"/>
                </a:lnTo>
                <a:lnTo>
                  <a:pt x="4557" y="7"/>
                </a:lnTo>
                <a:lnTo>
                  <a:pt x="4579" y="4"/>
                </a:lnTo>
                <a:lnTo>
                  <a:pt x="4602" y="2"/>
                </a:lnTo>
                <a:lnTo>
                  <a:pt x="4624" y="1"/>
                </a:lnTo>
                <a:lnTo>
                  <a:pt x="4645" y="0"/>
                </a:lnTo>
                <a:lnTo>
                  <a:pt x="4665" y="0"/>
                </a:lnTo>
                <a:lnTo>
                  <a:pt x="4686" y="1"/>
                </a:lnTo>
                <a:lnTo>
                  <a:pt x="4705" y="2"/>
                </a:lnTo>
                <a:lnTo>
                  <a:pt x="4723" y="4"/>
                </a:lnTo>
                <a:lnTo>
                  <a:pt x="4741" y="7"/>
                </a:lnTo>
                <a:lnTo>
                  <a:pt x="4759" y="10"/>
                </a:lnTo>
                <a:lnTo>
                  <a:pt x="4775" y="14"/>
                </a:lnTo>
                <a:lnTo>
                  <a:pt x="4791" y="18"/>
                </a:lnTo>
                <a:lnTo>
                  <a:pt x="4806" y="24"/>
                </a:lnTo>
                <a:lnTo>
                  <a:pt x="4821" y="30"/>
                </a:lnTo>
                <a:lnTo>
                  <a:pt x="4834" y="36"/>
                </a:lnTo>
                <a:lnTo>
                  <a:pt x="4847" y="43"/>
                </a:lnTo>
                <a:lnTo>
                  <a:pt x="4859" y="50"/>
                </a:lnTo>
                <a:lnTo>
                  <a:pt x="4870" y="59"/>
                </a:lnTo>
                <a:lnTo>
                  <a:pt x="4881" y="68"/>
                </a:lnTo>
                <a:lnTo>
                  <a:pt x="4891" y="77"/>
                </a:lnTo>
                <a:lnTo>
                  <a:pt x="4901" y="88"/>
                </a:lnTo>
                <a:close/>
              </a:path>
            </a:pathLst>
          </a:custGeom>
          <a:solidFill>
            <a:srgbClr val="b2b2b2"/>
          </a:solidFill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05200" y="4133880"/>
            <a:ext cx="1573200" cy="1346040"/>
          </a:xfrm>
          <a:custGeom>
            <a:avLst/>
            <a:gdLst/>
            <a:ahLst/>
            <a:rect l="l" t="t" r="r" b="b"/>
            <a:pathLst>
              <a:path w="4953" h="4243">
                <a:moveTo>
                  <a:pt x="4900" y="88"/>
                </a:moveTo>
                <a:lnTo>
                  <a:pt x="4909" y="99"/>
                </a:lnTo>
                <a:lnTo>
                  <a:pt x="4917" y="111"/>
                </a:lnTo>
                <a:lnTo>
                  <a:pt x="4923" y="123"/>
                </a:lnTo>
                <a:lnTo>
                  <a:pt x="4929" y="136"/>
                </a:lnTo>
                <a:lnTo>
                  <a:pt x="4935" y="149"/>
                </a:lnTo>
                <a:lnTo>
                  <a:pt x="4940" y="163"/>
                </a:lnTo>
                <a:lnTo>
                  <a:pt x="4944" y="178"/>
                </a:lnTo>
                <a:lnTo>
                  <a:pt x="4947" y="193"/>
                </a:lnTo>
                <a:lnTo>
                  <a:pt x="4950" y="209"/>
                </a:lnTo>
                <a:lnTo>
                  <a:pt x="4951" y="225"/>
                </a:lnTo>
                <a:lnTo>
                  <a:pt x="4952" y="242"/>
                </a:lnTo>
                <a:lnTo>
                  <a:pt x="4953" y="259"/>
                </a:lnTo>
                <a:lnTo>
                  <a:pt x="4952" y="277"/>
                </a:lnTo>
                <a:lnTo>
                  <a:pt x="4951" y="296"/>
                </a:lnTo>
                <a:lnTo>
                  <a:pt x="4949" y="315"/>
                </a:lnTo>
                <a:lnTo>
                  <a:pt x="4946" y="335"/>
                </a:lnTo>
                <a:lnTo>
                  <a:pt x="4943" y="355"/>
                </a:lnTo>
                <a:lnTo>
                  <a:pt x="4939" y="375"/>
                </a:lnTo>
                <a:lnTo>
                  <a:pt x="4933" y="397"/>
                </a:lnTo>
                <a:lnTo>
                  <a:pt x="4927" y="419"/>
                </a:lnTo>
                <a:lnTo>
                  <a:pt x="4921" y="442"/>
                </a:lnTo>
                <a:lnTo>
                  <a:pt x="4914" y="464"/>
                </a:lnTo>
                <a:lnTo>
                  <a:pt x="4905" y="488"/>
                </a:lnTo>
                <a:lnTo>
                  <a:pt x="4897" y="512"/>
                </a:lnTo>
                <a:lnTo>
                  <a:pt x="4887" y="536"/>
                </a:lnTo>
                <a:lnTo>
                  <a:pt x="4876" y="561"/>
                </a:lnTo>
                <a:lnTo>
                  <a:pt x="4866" y="586"/>
                </a:lnTo>
                <a:lnTo>
                  <a:pt x="4854" y="612"/>
                </a:lnTo>
                <a:lnTo>
                  <a:pt x="4841" y="638"/>
                </a:lnTo>
                <a:lnTo>
                  <a:pt x="4829" y="665"/>
                </a:lnTo>
                <a:lnTo>
                  <a:pt x="4814" y="692"/>
                </a:lnTo>
                <a:lnTo>
                  <a:pt x="4800" y="720"/>
                </a:lnTo>
                <a:lnTo>
                  <a:pt x="4784" y="748"/>
                </a:lnTo>
                <a:lnTo>
                  <a:pt x="4769" y="777"/>
                </a:lnTo>
                <a:lnTo>
                  <a:pt x="4752" y="806"/>
                </a:lnTo>
                <a:lnTo>
                  <a:pt x="4734" y="835"/>
                </a:lnTo>
                <a:lnTo>
                  <a:pt x="4716" y="865"/>
                </a:lnTo>
                <a:lnTo>
                  <a:pt x="4697" y="895"/>
                </a:lnTo>
                <a:lnTo>
                  <a:pt x="4677" y="925"/>
                </a:lnTo>
                <a:lnTo>
                  <a:pt x="4658" y="956"/>
                </a:lnTo>
                <a:lnTo>
                  <a:pt x="4637" y="987"/>
                </a:lnTo>
                <a:lnTo>
                  <a:pt x="4615" y="1019"/>
                </a:lnTo>
                <a:lnTo>
                  <a:pt x="4593" y="1050"/>
                </a:lnTo>
                <a:lnTo>
                  <a:pt x="4570" y="1082"/>
                </a:lnTo>
                <a:lnTo>
                  <a:pt x="4547" y="1116"/>
                </a:lnTo>
                <a:lnTo>
                  <a:pt x="4522" y="1149"/>
                </a:lnTo>
                <a:lnTo>
                  <a:pt x="4498" y="1182"/>
                </a:lnTo>
                <a:lnTo>
                  <a:pt x="4472" y="1215"/>
                </a:lnTo>
                <a:lnTo>
                  <a:pt x="4446" y="1248"/>
                </a:lnTo>
                <a:lnTo>
                  <a:pt x="4419" y="1282"/>
                </a:lnTo>
                <a:lnTo>
                  <a:pt x="4393" y="1316"/>
                </a:lnTo>
                <a:lnTo>
                  <a:pt x="4366" y="1352"/>
                </a:lnTo>
                <a:lnTo>
                  <a:pt x="4337" y="1386"/>
                </a:lnTo>
                <a:lnTo>
                  <a:pt x="4308" y="1421"/>
                </a:lnTo>
                <a:lnTo>
                  <a:pt x="4279" y="1456"/>
                </a:lnTo>
                <a:lnTo>
                  <a:pt x="4248" y="1491"/>
                </a:lnTo>
                <a:lnTo>
                  <a:pt x="4217" y="1527"/>
                </a:lnTo>
                <a:lnTo>
                  <a:pt x="4186" y="1563"/>
                </a:lnTo>
                <a:lnTo>
                  <a:pt x="4155" y="1598"/>
                </a:lnTo>
                <a:lnTo>
                  <a:pt x="4123" y="1634"/>
                </a:lnTo>
                <a:lnTo>
                  <a:pt x="4090" y="1671"/>
                </a:lnTo>
                <a:lnTo>
                  <a:pt x="4058" y="1707"/>
                </a:lnTo>
                <a:lnTo>
                  <a:pt x="4024" y="1744"/>
                </a:lnTo>
                <a:lnTo>
                  <a:pt x="3989" y="1780"/>
                </a:lnTo>
                <a:lnTo>
                  <a:pt x="3955" y="1816"/>
                </a:lnTo>
                <a:lnTo>
                  <a:pt x="3920" y="1854"/>
                </a:lnTo>
                <a:lnTo>
                  <a:pt x="3885" y="1890"/>
                </a:lnTo>
                <a:lnTo>
                  <a:pt x="3849" y="1927"/>
                </a:lnTo>
                <a:lnTo>
                  <a:pt x="3812" y="1965"/>
                </a:lnTo>
                <a:lnTo>
                  <a:pt x="3776" y="2002"/>
                </a:lnTo>
                <a:lnTo>
                  <a:pt x="3739" y="2039"/>
                </a:lnTo>
                <a:lnTo>
                  <a:pt x="3701" y="2075"/>
                </a:lnTo>
                <a:lnTo>
                  <a:pt x="3663" y="2113"/>
                </a:lnTo>
                <a:lnTo>
                  <a:pt x="3625" y="2150"/>
                </a:lnTo>
                <a:lnTo>
                  <a:pt x="3586" y="2187"/>
                </a:lnTo>
                <a:lnTo>
                  <a:pt x="3548" y="2224"/>
                </a:lnTo>
                <a:lnTo>
                  <a:pt x="3509" y="2262"/>
                </a:lnTo>
                <a:lnTo>
                  <a:pt x="3469" y="2298"/>
                </a:lnTo>
                <a:lnTo>
                  <a:pt x="3429" y="2335"/>
                </a:lnTo>
                <a:lnTo>
                  <a:pt x="3388" y="2372"/>
                </a:lnTo>
                <a:lnTo>
                  <a:pt x="3348" y="2409"/>
                </a:lnTo>
                <a:lnTo>
                  <a:pt x="3308" y="2446"/>
                </a:lnTo>
                <a:lnTo>
                  <a:pt x="3267" y="2482"/>
                </a:lnTo>
                <a:lnTo>
                  <a:pt x="3226" y="2518"/>
                </a:lnTo>
                <a:lnTo>
                  <a:pt x="3184" y="2556"/>
                </a:lnTo>
                <a:lnTo>
                  <a:pt x="3143" y="2592"/>
                </a:lnTo>
                <a:lnTo>
                  <a:pt x="3100" y="2627"/>
                </a:lnTo>
                <a:lnTo>
                  <a:pt x="3059" y="2663"/>
                </a:lnTo>
                <a:lnTo>
                  <a:pt x="3016" y="2700"/>
                </a:lnTo>
                <a:lnTo>
                  <a:pt x="2974" y="2735"/>
                </a:lnTo>
                <a:lnTo>
                  <a:pt x="2931" y="2770"/>
                </a:lnTo>
                <a:lnTo>
                  <a:pt x="2889" y="2805"/>
                </a:lnTo>
                <a:lnTo>
                  <a:pt x="2847" y="2840"/>
                </a:lnTo>
                <a:lnTo>
                  <a:pt x="2803" y="2876"/>
                </a:lnTo>
                <a:lnTo>
                  <a:pt x="2761" y="2910"/>
                </a:lnTo>
                <a:lnTo>
                  <a:pt x="2717" y="2945"/>
                </a:lnTo>
                <a:lnTo>
                  <a:pt x="2673" y="2978"/>
                </a:lnTo>
                <a:lnTo>
                  <a:pt x="2631" y="3012"/>
                </a:lnTo>
                <a:lnTo>
                  <a:pt x="2587" y="3046"/>
                </a:lnTo>
                <a:lnTo>
                  <a:pt x="2544" y="3080"/>
                </a:lnTo>
                <a:lnTo>
                  <a:pt x="2500" y="3113"/>
                </a:lnTo>
                <a:lnTo>
                  <a:pt x="2458" y="3145"/>
                </a:lnTo>
                <a:lnTo>
                  <a:pt x="2414" y="3177"/>
                </a:lnTo>
                <a:lnTo>
                  <a:pt x="2371" y="3209"/>
                </a:lnTo>
                <a:lnTo>
                  <a:pt x="2327" y="3241"/>
                </a:lnTo>
                <a:lnTo>
                  <a:pt x="2284" y="3272"/>
                </a:lnTo>
                <a:lnTo>
                  <a:pt x="2241" y="3303"/>
                </a:lnTo>
                <a:lnTo>
                  <a:pt x="2198" y="3334"/>
                </a:lnTo>
                <a:lnTo>
                  <a:pt x="2155" y="3364"/>
                </a:lnTo>
                <a:lnTo>
                  <a:pt x="2112" y="3394"/>
                </a:lnTo>
                <a:lnTo>
                  <a:pt x="2069" y="3423"/>
                </a:lnTo>
                <a:lnTo>
                  <a:pt x="2027" y="3452"/>
                </a:lnTo>
                <a:lnTo>
                  <a:pt x="1984" y="3481"/>
                </a:lnTo>
                <a:lnTo>
                  <a:pt x="1942" y="3510"/>
                </a:lnTo>
                <a:lnTo>
                  <a:pt x="1899" y="3537"/>
                </a:lnTo>
                <a:lnTo>
                  <a:pt x="1857" y="3565"/>
                </a:lnTo>
                <a:lnTo>
                  <a:pt x="1816" y="3592"/>
                </a:lnTo>
                <a:lnTo>
                  <a:pt x="1774" y="3619"/>
                </a:lnTo>
                <a:lnTo>
                  <a:pt x="1733" y="3645"/>
                </a:lnTo>
                <a:lnTo>
                  <a:pt x="1691" y="3671"/>
                </a:lnTo>
                <a:lnTo>
                  <a:pt x="1650" y="3696"/>
                </a:lnTo>
                <a:lnTo>
                  <a:pt x="1609" y="3720"/>
                </a:lnTo>
                <a:lnTo>
                  <a:pt x="1569" y="3744"/>
                </a:lnTo>
                <a:lnTo>
                  <a:pt x="1528" y="3768"/>
                </a:lnTo>
                <a:lnTo>
                  <a:pt x="1489" y="3791"/>
                </a:lnTo>
                <a:lnTo>
                  <a:pt x="1450" y="3814"/>
                </a:lnTo>
                <a:lnTo>
                  <a:pt x="1410" y="3835"/>
                </a:lnTo>
                <a:lnTo>
                  <a:pt x="1371" y="3857"/>
                </a:lnTo>
                <a:lnTo>
                  <a:pt x="1333" y="3879"/>
                </a:lnTo>
                <a:lnTo>
                  <a:pt x="1294" y="3899"/>
                </a:lnTo>
                <a:lnTo>
                  <a:pt x="1256" y="3919"/>
                </a:lnTo>
                <a:lnTo>
                  <a:pt x="1219" y="3939"/>
                </a:lnTo>
                <a:lnTo>
                  <a:pt x="1181" y="3958"/>
                </a:lnTo>
                <a:lnTo>
                  <a:pt x="1145" y="3975"/>
                </a:lnTo>
                <a:lnTo>
                  <a:pt x="1109" y="3994"/>
                </a:lnTo>
                <a:lnTo>
                  <a:pt x="1073" y="4010"/>
                </a:lnTo>
                <a:lnTo>
                  <a:pt x="1037" y="4027"/>
                </a:lnTo>
                <a:lnTo>
                  <a:pt x="1002" y="4044"/>
                </a:lnTo>
                <a:lnTo>
                  <a:pt x="968" y="4059"/>
                </a:lnTo>
                <a:lnTo>
                  <a:pt x="934" y="4074"/>
                </a:lnTo>
                <a:lnTo>
                  <a:pt x="900" y="4088"/>
                </a:lnTo>
                <a:lnTo>
                  <a:pt x="866" y="4101"/>
                </a:lnTo>
                <a:lnTo>
                  <a:pt x="834" y="4114"/>
                </a:lnTo>
                <a:lnTo>
                  <a:pt x="802" y="4126"/>
                </a:lnTo>
                <a:lnTo>
                  <a:pt x="770" y="4139"/>
                </a:lnTo>
                <a:lnTo>
                  <a:pt x="739" y="4150"/>
                </a:lnTo>
                <a:lnTo>
                  <a:pt x="708" y="4160"/>
                </a:lnTo>
                <a:lnTo>
                  <a:pt x="678" y="4170"/>
                </a:lnTo>
                <a:lnTo>
                  <a:pt x="649" y="4179"/>
                </a:lnTo>
                <a:lnTo>
                  <a:pt x="620" y="4188"/>
                </a:lnTo>
                <a:lnTo>
                  <a:pt x="592" y="4197"/>
                </a:lnTo>
                <a:lnTo>
                  <a:pt x="564" y="4204"/>
                </a:lnTo>
                <a:lnTo>
                  <a:pt x="536" y="4210"/>
                </a:lnTo>
                <a:lnTo>
                  <a:pt x="510" y="4216"/>
                </a:lnTo>
                <a:lnTo>
                  <a:pt x="484" y="4223"/>
                </a:lnTo>
                <a:lnTo>
                  <a:pt x="458" y="4227"/>
                </a:lnTo>
                <a:lnTo>
                  <a:pt x="433" y="4231"/>
                </a:lnTo>
                <a:lnTo>
                  <a:pt x="409" y="4235"/>
                </a:lnTo>
                <a:lnTo>
                  <a:pt x="386" y="4238"/>
                </a:lnTo>
                <a:lnTo>
                  <a:pt x="363" y="4240"/>
                </a:lnTo>
                <a:lnTo>
                  <a:pt x="340" y="4241"/>
                </a:lnTo>
                <a:lnTo>
                  <a:pt x="319" y="4242"/>
                </a:lnTo>
                <a:lnTo>
                  <a:pt x="297" y="4243"/>
                </a:lnTo>
                <a:lnTo>
                  <a:pt x="278" y="4242"/>
                </a:lnTo>
                <a:lnTo>
                  <a:pt x="258" y="4241"/>
                </a:lnTo>
                <a:lnTo>
                  <a:pt x="239" y="4240"/>
                </a:lnTo>
                <a:lnTo>
                  <a:pt x="221" y="4238"/>
                </a:lnTo>
                <a:lnTo>
                  <a:pt x="203" y="4235"/>
                </a:lnTo>
                <a:lnTo>
                  <a:pt x="187" y="4231"/>
                </a:lnTo>
                <a:lnTo>
                  <a:pt x="170" y="4227"/>
                </a:lnTo>
                <a:lnTo>
                  <a:pt x="154" y="4222"/>
                </a:lnTo>
                <a:lnTo>
                  <a:pt x="140" y="4216"/>
                </a:lnTo>
                <a:lnTo>
                  <a:pt x="126" y="4210"/>
                </a:lnTo>
                <a:lnTo>
                  <a:pt x="113" y="4204"/>
                </a:lnTo>
                <a:lnTo>
                  <a:pt x="101" y="4196"/>
                </a:lnTo>
                <a:lnTo>
                  <a:pt x="88" y="4188"/>
                </a:lnTo>
                <a:lnTo>
                  <a:pt x="78" y="4179"/>
                </a:lnTo>
                <a:lnTo>
                  <a:pt x="67" y="4170"/>
                </a:lnTo>
                <a:lnTo>
                  <a:pt x="57" y="4160"/>
                </a:lnTo>
                <a:lnTo>
                  <a:pt x="49" y="4149"/>
                </a:lnTo>
                <a:lnTo>
                  <a:pt x="40" y="4139"/>
                </a:lnTo>
                <a:lnTo>
                  <a:pt x="33" y="4126"/>
                </a:lnTo>
                <a:lnTo>
                  <a:pt x="26" y="4114"/>
                </a:lnTo>
                <a:lnTo>
                  <a:pt x="21" y="4101"/>
                </a:lnTo>
                <a:lnTo>
                  <a:pt x="16" y="4087"/>
                </a:lnTo>
                <a:lnTo>
                  <a:pt x="10" y="4074"/>
                </a:lnTo>
                <a:lnTo>
                  <a:pt x="7" y="4058"/>
                </a:lnTo>
                <a:lnTo>
                  <a:pt x="4" y="4042"/>
                </a:lnTo>
                <a:lnTo>
                  <a:pt x="2" y="4027"/>
                </a:lnTo>
                <a:lnTo>
                  <a:pt x="1" y="4010"/>
                </a:lnTo>
                <a:lnTo>
                  <a:pt x="0" y="3993"/>
                </a:lnTo>
                <a:lnTo>
                  <a:pt x="0" y="3975"/>
                </a:lnTo>
                <a:lnTo>
                  <a:pt x="1" y="3957"/>
                </a:lnTo>
                <a:lnTo>
                  <a:pt x="3" y="3938"/>
                </a:lnTo>
                <a:lnTo>
                  <a:pt x="5" y="3918"/>
                </a:lnTo>
                <a:lnTo>
                  <a:pt x="8" y="3899"/>
                </a:lnTo>
                <a:lnTo>
                  <a:pt x="13" y="3878"/>
                </a:lnTo>
                <a:lnTo>
                  <a:pt x="17" y="3857"/>
                </a:lnTo>
                <a:lnTo>
                  <a:pt x="23" y="3835"/>
                </a:lnTo>
                <a:lnTo>
                  <a:pt x="29" y="3814"/>
                </a:lnTo>
                <a:lnTo>
                  <a:pt x="35" y="3791"/>
                </a:lnTo>
                <a:lnTo>
                  <a:pt x="44" y="3767"/>
                </a:lnTo>
                <a:lnTo>
                  <a:pt x="52" y="3743"/>
                </a:lnTo>
                <a:lnTo>
                  <a:pt x="61" y="3719"/>
                </a:lnTo>
                <a:lnTo>
                  <a:pt x="71" y="3695"/>
                </a:lnTo>
                <a:lnTo>
                  <a:pt x="82" y="3670"/>
                </a:lnTo>
                <a:lnTo>
                  <a:pt x="92" y="3644"/>
                </a:lnTo>
                <a:lnTo>
                  <a:pt x="105" y="3618"/>
                </a:lnTo>
                <a:lnTo>
                  <a:pt x="118" y="3591"/>
                </a:lnTo>
                <a:lnTo>
                  <a:pt x="132" y="3564"/>
                </a:lnTo>
                <a:lnTo>
                  <a:pt x="145" y="3537"/>
                </a:lnTo>
                <a:lnTo>
                  <a:pt x="161" y="3509"/>
                </a:lnTo>
                <a:lnTo>
                  <a:pt x="176" y="3481"/>
                </a:lnTo>
                <a:lnTo>
                  <a:pt x="193" y="3452"/>
                </a:lnTo>
                <a:lnTo>
                  <a:pt x="209" y="3423"/>
                </a:lnTo>
                <a:lnTo>
                  <a:pt x="228" y="3393"/>
                </a:lnTo>
                <a:lnTo>
                  <a:pt x="246" y="3363"/>
                </a:lnTo>
                <a:lnTo>
                  <a:pt x="265" y="3333"/>
                </a:lnTo>
                <a:lnTo>
                  <a:pt x="285" y="3302"/>
                </a:lnTo>
                <a:lnTo>
                  <a:pt x="306" y="3271"/>
                </a:lnTo>
                <a:lnTo>
                  <a:pt x="326" y="3240"/>
                </a:lnTo>
                <a:lnTo>
                  <a:pt x="348" y="3209"/>
                </a:lnTo>
                <a:lnTo>
                  <a:pt x="371" y="3177"/>
                </a:lnTo>
                <a:lnTo>
                  <a:pt x="395" y="3144"/>
                </a:lnTo>
                <a:lnTo>
                  <a:pt x="418" y="3112"/>
                </a:lnTo>
                <a:lnTo>
                  <a:pt x="443" y="3079"/>
                </a:lnTo>
                <a:lnTo>
                  <a:pt x="467" y="3045"/>
                </a:lnTo>
                <a:lnTo>
                  <a:pt x="493" y="3011"/>
                </a:lnTo>
                <a:lnTo>
                  <a:pt x="519" y="2978"/>
                </a:lnTo>
                <a:lnTo>
                  <a:pt x="546" y="2944"/>
                </a:lnTo>
                <a:lnTo>
                  <a:pt x="574" y="2910"/>
                </a:lnTo>
                <a:lnTo>
                  <a:pt x="602" y="2875"/>
                </a:lnTo>
                <a:lnTo>
                  <a:pt x="630" y="2840"/>
                </a:lnTo>
                <a:lnTo>
                  <a:pt x="660" y="2805"/>
                </a:lnTo>
                <a:lnTo>
                  <a:pt x="689" y="2770"/>
                </a:lnTo>
                <a:lnTo>
                  <a:pt x="719" y="2734"/>
                </a:lnTo>
                <a:lnTo>
                  <a:pt x="750" y="2699"/>
                </a:lnTo>
                <a:lnTo>
                  <a:pt x="781" y="2662"/>
                </a:lnTo>
                <a:lnTo>
                  <a:pt x="813" y="2627"/>
                </a:lnTo>
                <a:lnTo>
                  <a:pt x="846" y="2591"/>
                </a:lnTo>
                <a:lnTo>
                  <a:pt x="879" y="2555"/>
                </a:lnTo>
                <a:lnTo>
                  <a:pt x="912" y="2518"/>
                </a:lnTo>
                <a:lnTo>
                  <a:pt x="946" y="2481"/>
                </a:lnTo>
                <a:lnTo>
                  <a:pt x="980" y="2445"/>
                </a:lnTo>
                <a:lnTo>
                  <a:pt x="1016" y="2408"/>
                </a:lnTo>
                <a:lnTo>
                  <a:pt x="1051" y="2371"/>
                </a:lnTo>
                <a:lnTo>
                  <a:pt x="1086" y="2334"/>
                </a:lnTo>
                <a:lnTo>
                  <a:pt x="1122" y="2297"/>
                </a:lnTo>
                <a:lnTo>
                  <a:pt x="1159" y="2261"/>
                </a:lnTo>
                <a:lnTo>
                  <a:pt x="1196" y="2223"/>
                </a:lnTo>
                <a:lnTo>
                  <a:pt x="1233" y="2186"/>
                </a:lnTo>
                <a:lnTo>
                  <a:pt x="1270" y="2149"/>
                </a:lnTo>
                <a:lnTo>
                  <a:pt x="1309" y="2112"/>
                </a:lnTo>
                <a:lnTo>
                  <a:pt x="1347" y="2075"/>
                </a:lnTo>
                <a:lnTo>
                  <a:pt x="1385" y="2038"/>
                </a:lnTo>
                <a:lnTo>
                  <a:pt x="1425" y="2001"/>
                </a:lnTo>
                <a:lnTo>
                  <a:pt x="1464" y="1964"/>
                </a:lnTo>
                <a:lnTo>
                  <a:pt x="1504" y="1926"/>
                </a:lnTo>
                <a:lnTo>
                  <a:pt x="1544" y="1890"/>
                </a:lnTo>
                <a:lnTo>
                  <a:pt x="1584" y="1853"/>
                </a:lnTo>
                <a:lnTo>
                  <a:pt x="1625" y="1816"/>
                </a:lnTo>
                <a:lnTo>
                  <a:pt x="1665" y="1779"/>
                </a:lnTo>
                <a:lnTo>
                  <a:pt x="1707" y="1743"/>
                </a:lnTo>
                <a:lnTo>
                  <a:pt x="1748" y="1707"/>
                </a:lnTo>
                <a:lnTo>
                  <a:pt x="1790" y="1669"/>
                </a:lnTo>
                <a:lnTo>
                  <a:pt x="1831" y="1633"/>
                </a:lnTo>
                <a:lnTo>
                  <a:pt x="1874" y="1598"/>
                </a:lnTo>
                <a:lnTo>
                  <a:pt x="1915" y="1562"/>
                </a:lnTo>
                <a:lnTo>
                  <a:pt x="1957" y="1526"/>
                </a:lnTo>
                <a:lnTo>
                  <a:pt x="2000" y="1490"/>
                </a:lnTo>
                <a:lnTo>
                  <a:pt x="2042" y="1455"/>
                </a:lnTo>
                <a:lnTo>
                  <a:pt x="2085" y="1420"/>
                </a:lnTo>
                <a:lnTo>
                  <a:pt x="2128" y="1385"/>
                </a:lnTo>
                <a:lnTo>
                  <a:pt x="2171" y="1351"/>
                </a:lnTo>
                <a:lnTo>
                  <a:pt x="2214" y="1316"/>
                </a:lnTo>
                <a:lnTo>
                  <a:pt x="2257" y="1281"/>
                </a:lnTo>
                <a:lnTo>
                  <a:pt x="2300" y="1248"/>
                </a:lnTo>
                <a:lnTo>
                  <a:pt x="2344" y="1214"/>
                </a:lnTo>
                <a:lnTo>
                  <a:pt x="2387" y="1181"/>
                </a:lnTo>
                <a:lnTo>
                  <a:pt x="2430" y="1148"/>
                </a:lnTo>
                <a:lnTo>
                  <a:pt x="2473" y="1115"/>
                </a:lnTo>
                <a:lnTo>
                  <a:pt x="2517" y="1082"/>
                </a:lnTo>
                <a:lnTo>
                  <a:pt x="2561" y="1050"/>
                </a:lnTo>
                <a:lnTo>
                  <a:pt x="2604" y="1018"/>
                </a:lnTo>
                <a:lnTo>
                  <a:pt x="2647" y="986"/>
                </a:lnTo>
                <a:lnTo>
                  <a:pt x="2690" y="955"/>
                </a:lnTo>
                <a:lnTo>
                  <a:pt x="2734" y="925"/>
                </a:lnTo>
                <a:lnTo>
                  <a:pt x="2776" y="894"/>
                </a:lnTo>
                <a:lnTo>
                  <a:pt x="2820" y="864"/>
                </a:lnTo>
                <a:lnTo>
                  <a:pt x="2862" y="834"/>
                </a:lnTo>
                <a:lnTo>
                  <a:pt x="2905" y="805"/>
                </a:lnTo>
                <a:lnTo>
                  <a:pt x="2948" y="776"/>
                </a:lnTo>
                <a:lnTo>
                  <a:pt x="2991" y="748"/>
                </a:lnTo>
                <a:lnTo>
                  <a:pt x="3032" y="719"/>
                </a:lnTo>
                <a:lnTo>
                  <a:pt x="3074" y="692"/>
                </a:lnTo>
                <a:lnTo>
                  <a:pt x="3117" y="664"/>
                </a:lnTo>
                <a:lnTo>
                  <a:pt x="3158" y="638"/>
                </a:lnTo>
                <a:lnTo>
                  <a:pt x="3200" y="611"/>
                </a:lnTo>
                <a:lnTo>
                  <a:pt x="3241" y="585"/>
                </a:lnTo>
                <a:lnTo>
                  <a:pt x="3282" y="561"/>
                </a:lnTo>
                <a:lnTo>
                  <a:pt x="3323" y="536"/>
                </a:lnTo>
                <a:lnTo>
                  <a:pt x="3364" y="511"/>
                </a:lnTo>
                <a:lnTo>
                  <a:pt x="3404" y="487"/>
                </a:lnTo>
                <a:lnTo>
                  <a:pt x="3444" y="463"/>
                </a:lnTo>
                <a:lnTo>
                  <a:pt x="3484" y="441"/>
                </a:lnTo>
                <a:lnTo>
                  <a:pt x="3523" y="419"/>
                </a:lnTo>
                <a:lnTo>
                  <a:pt x="3563" y="397"/>
                </a:lnTo>
                <a:lnTo>
                  <a:pt x="3601" y="375"/>
                </a:lnTo>
                <a:lnTo>
                  <a:pt x="3639" y="355"/>
                </a:lnTo>
                <a:lnTo>
                  <a:pt x="3678" y="334"/>
                </a:lnTo>
                <a:lnTo>
                  <a:pt x="3716" y="314"/>
                </a:lnTo>
                <a:lnTo>
                  <a:pt x="3753" y="296"/>
                </a:lnTo>
                <a:lnTo>
                  <a:pt x="3789" y="277"/>
                </a:lnTo>
                <a:lnTo>
                  <a:pt x="3826" y="258"/>
                </a:lnTo>
                <a:lnTo>
                  <a:pt x="3862" y="241"/>
                </a:lnTo>
                <a:lnTo>
                  <a:pt x="3898" y="224"/>
                </a:lnTo>
                <a:lnTo>
                  <a:pt x="3933" y="208"/>
                </a:lnTo>
                <a:lnTo>
                  <a:pt x="3968" y="192"/>
                </a:lnTo>
                <a:lnTo>
                  <a:pt x="4003" y="178"/>
                </a:lnTo>
                <a:lnTo>
                  <a:pt x="4036" y="163"/>
                </a:lnTo>
                <a:lnTo>
                  <a:pt x="4070" y="149"/>
                </a:lnTo>
                <a:lnTo>
                  <a:pt x="4102" y="135"/>
                </a:lnTo>
                <a:lnTo>
                  <a:pt x="4136" y="123"/>
                </a:lnTo>
                <a:lnTo>
                  <a:pt x="4167" y="110"/>
                </a:lnTo>
                <a:lnTo>
                  <a:pt x="4199" y="99"/>
                </a:lnTo>
                <a:lnTo>
                  <a:pt x="4230" y="88"/>
                </a:lnTo>
                <a:lnTo>
                  <a:pt x="4260" y="78"/>
                </a:lnTo>
                <a:lnTo>
                  <a:pt x="4290" y="68"/>
                </a:lnTo>
                <a:lnTo>
                  <a:pt x="4319" y="60"/>
                </a:lnTo>
                <a:lnTo>
                  <a:pt x="4347" y="51"/>
                </a:lnTo>
                <a:lnTo>
                  <a:pt x="4376" y="43"/>
                </a:lnTo>
                <a:lnTo>
                  <a:pt x="4403" y="36"/>
                </a:lnTo>
                <a:lnTo>
                  <a:pt x="4430" y="29"/>
                </a:lnTo>
                <a:lnTo>
                  <a:pt x="4457" y="23"/>
                </a:lnTo>
                <a:lnTo>
                  <a:pt x="4482" y="18"/>
                </a:lnTo>
                <a:lnTo>
                  <a:pt x="4508" y="14"/>
                </a:lnTo>
                <a:lnTo>
                  <a:pt x="4531" y="10"/>
                </a:lnTo>
                <a:lnTo>
                  <a:pt x="4555" y="7"/>
                </a:lnTo>
                <a:lnTo>
                  <a:pt x="4579" y="5"/>
                </a:lnTo>
                <a:lnTo>
                  <a:pt x="4602" y="3"/>
                </a:lnTo>
                <a:lnTo>
                  <a:pt x="4624" y="2"/>
                </a:lnTo>
                <a:lnTo>
                  <a:pt x="4644" y="0"/>
                </a:lnTo>
                <a:lnTo>
                  <a:pt x="4665" y="0"/>
                </a:lnTo>
                <a:lnTo>
                  <a:pt x="4685" y="2"/>
                </a:lnTo>
                <a:lnTo>
                  <a:pt x="4704" y="3"/>
                </a:lnTo>
                <a:lnTo>
                  <a:pt x="4723" y="5"/>
                </a:lnTo>
                <a:lnTo>
                  <a:pt x="4741" y="7"/>
                </a:lnTo>
                <a:lnTo>
                  <a:pt x="4758" y="10"/>
                </a:lnTo>
                <a:lnTo>
                  <a:pt x="4775" y="14"/>
                </a:lnTo>
                <a:lnTo>
                  <a:pt x="4790" y="19"/>
                </a:lnTo>
                <a:lnTo>
                  <a:pt x="4805" y="24"/>
                </a:lnTo>
                <a:lnTo>
                  <a:pt x="4819" y="29"/>
                </a:lnTo>
                <a:lnTo>
                  <a:pt x="4833" y="36"/>
                </a:lnTo>
                <a:lnTo>
                  <a:pt x="4846" y="43"/>
                </a:lnTo>
                <a:lnTo>
                  <a:pt x="4859" y="51"/>
                </a:lnTo>
                <a:lnTo>
                  <a:pt x="4870" y="60"/>
                </a:lnTo>
                <a:lnTo>
                  <a:pt x="4881" y="69"/>
                </a:lnTo>
                <a:lnTo>
                  <a:pt x="4891" y="78"/>
                </a:lnTo>
                <a:lnTo>
                  <a:pt x="4900" y="88"/>
                </a:lnTo>
                <a:close/>
              </a:path>
            </a:pathLst>
          </a:custGeom>
          <a:solidFill>
            <a:srgbClr val="b2b2b2"/>
          </a:solidFill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502080" y="4581000"/>
            <a:ext cx="1241280" cy="1041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97280" y="4568760"/>
            <a:ext cx="61920" cy="55800"/>
          </a:xfrm>
          <a:custGeom>
            <a:avLst/>
            <a:gdLst/>
            <a:ahLst/>
            <a:rect l="l" t="t" r="r" b="b"/>
            <a:pathLst>
              <a:path w="195" h="176">
                <a:moveTo>
                  <a:pt x="0" y="96"/>
                </a:moveTo>
                <a:lnTo>
                  <a:pt x="195" y="0"/>
                </a:lnTo>
                <a:lnTo>
                  <a:pt x="67" y="176"/>
                </a:lnTo>
                <a:lnTo>
                  <a:pt x="66" y="109"/>
                </a:lnTo>
                <a:lnTo>
                  <a:pt x="0" y="96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349280" y="2017440"/>
            <a:ext cx="1243080" cy="1041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44840" y="2004840"/>
            <a:ext cx="61920" cy="55800"/>
          </a:xfrm>
          <a:custGeom>
            <a:avLst/>
            <a:gdLst/>
            <a:ahLst/>
            <a:rect l="l" t="t" r="r" b="b"/>
            <a:pathLst>
              <a:path w="196" h="176">
                <a:moveTo>
                  <a:pt x="0" y="95"/>
                </a:moveTo>
                <a:lnTo>
                  <a:pt x="196" y="0"/>
                </a:lnTo>
                <a:lnTo>
                  <a:pt x="68" y="176"/>
                </a:lnTo>
                <a:lnTo>
                  <a:pt x="68" y="108"/>
                </a:lnTo>
                <a:lnTo>
                  <a:pt x="0" y="95"/>
                </a:lnTo>
                <a:close/>
              </a:path>
            </a:pathLst>
          </a:custGeom>
          <a:solidFill>
            <a:srgbClr val="ff0000"/>
          </a:solidFill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38320" y="3901680"/>
            <a:ext cx="2549520" cy="9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54720" y="3884760"/>
            <a:ext cx="66600" cy="33120"/>
          </a:xfrm>
          <a:custGeom>
            <a:avLst/>
            <a:gdLst/>
            <a:ahLst/>
            <a:rect l="l" t="t" r="r" b="b"/>
            <a:pathLst>
              <a:path w="211" h="105">
                <a:moveTo>
                  <a:pt x="0" y="0"/>
                </a:moveTo>
                <a:lnTo>
                  <a:pt x="211" y="53"/>
                </a:lnTo>
                <a:lnTo>
                  <a:pt x="0" y="1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2930400" y="1362240"/>
            <a:ext cx="7920" cy="2549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13120" y="1328760"/>
            <a:ext cx="33120" cy="66600"/>
          </a:xfrm>
          <a:custGeom>
            <a:avLst/>
            <a:gdLst/>
            <a:ahLst/>
            <a:rect l="l" t="t" r="r" b="b"/>
            <a:pathLst>
              <a:path w="106" h="211">
                <a:moveTo>
                  <a:pt x="0" y="211"/>
                </a:moveTo>
                <a:lnTo>
                  <a:pt x="53" y="0"/>
                </a:lnTo>
                <a:lnTo>
                  <a:pt x="106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38320" y="1930320"/>
            <a:ext cx="2362320" cy="198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3640" y="1898640"/>
            <a:ext cx="61920" cy="55440"/>
          </a:xfrm>
          <a:custGeom>
            <a:avLst/>
            <a:gdLst/>
            <a:ahLst/>
            <a:rect l="l" t="t" r="r" b="b"/>
            <a:pathLst>
              <a:path w="195" h="176">
                <a:moveTo>
                  <a:pt x="0" y="94"/>
                </a:moveTo>
                <a:lnTo>
                  <a:pt x="195" y="0"/>
                </a:lnTo>
                <a:lnTo>
                  <a:pt x="66" y="176"/>
                </a:lnTo>
                <a:lnTo>
                  <a:pt x="64" y="109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24040" y="5068800"/>
            <a:ext cx="615960" cy="733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7960" y="5011560"/>
            <a:ext cx="111240" cy="123840"/>
          </a:xfrm>
          <a:custGeom>
            <a:avLst/>
            <a:gdLst/>
            <a:ahLst/>
            <a:rect l="l" t="t" r="r" b="b"/>
            <a:pathLst>
              <a:path w="352" h="390">
                <a:moveTo>
                  <a:pt x="190" y="390"/>
                </a:moveTo>
                <a:lnTo>
                  <a:pt x="0" y="0"/>
                </a:lnTo>
                <a:lnTo>
                  <a:pt x="352" y="255"/>
                </a:lnTo>
                <a:lnTo>
                  <a:pt x="217" y="259"/>
                </a:lnTo>
                <a:lnTo>
                  <a:pt x="190" y="39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76640" y="5734080"/>
            <a:ext cx="110880" cy="123840"/>
          </a:xfrm>
          <a:custGeom>
            <a:avLst/>
            <a:gdLst/>
            <a:ahLst/>
            <a:rect l="l" t="t" r="r" b="b"/>
            <a:pathLst>
              <a:path w="351" h="390">
                <a:moveTo>
                  <a:pt x="161" y="0"/>
                </a:moveTo>
                <a:lnTo>
                  <a:pt x="351" y="390"/>
                </a:lnTo>
                <a:lnTo>
                  <a:pt x="0" y="134"/>
                </a:lnTo>
                <a:lnTo>
                  <a:pt x="136" y="131"/>
                </a:lnTo>
                <a:lnTo>
                  <a:pt x="161" y="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8840" y="2801880"/>
            <a:ext cx="1585800" cy="1887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2760" y="2744640"/>
            <a:ext cx="111240" cy="123840"/>
          </a:xfrm>
          <a:custGeom>
            <a:avLst/>
            <a:gdLst/>
            <a:ahLst/>
            <a:rect l="l" t="t" r="r" b="b"/>
            <a:pathLst>
              <a:path w="351" h="391">
                <a:moveTo>
                  <a:pt x="189" y="391"/>
                </a:moveTo>
                <a:lnTo>
                  <a:pt x="0" y="0"/>
                </a:lnTo>
                <a:lnTo>
                  <a:pt x="351" y="255"/>
                </a:lnTo>
                <a:lnTo>
                  <a:pt x="215" y="258"/>
                </a:lnTo>
                <a:lnTo>
                  <a:pt x="189" y="391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79480" y="4621320"/>
            <a:ext cx="111240" cy="123840"/>
          </a:xfrm>
          <a:custGeom>
            <a:avLst/>
            <a:gdLst/>
            <a:ahLst/>
            <a:rect l="l" t="t" r="r" b="b"/>
            <a:pathLst>
              <a:path w="353" h="390">
                <a:moveTo>
                  <a:pt x="162" y="0"/>
                </a:moveTo>
                <a:lnTo>
                  <a:pt x="353" y="390"/>
                </a:lnTo>
                <a:lnTo>
                  <a:pt x="0" y="136"/>
                </a:lnTo>
                <a:lnTo>
                  <a:pt x="136" y="133"/>
                </a:lnTo>
                <a:lnTo>
                  <a:pt x="162" y="0"/>
                </a:lnTo>
                <a:close/>
              </a:path>
            </a:pathLst>
          </a:custGeom>
          <a:solidFill>
            <a:srgbClr val="0000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6720" y="3689280"/>
            <a:ext cx="21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9720" y="1862280"/>
            <a:ext cx="558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53480" y="3978360"/>
            <a:ext cx="512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x,y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02120" y="1262160"/>
            <a:ext cx="15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7960" y="5362560"/>
            <a:ext cx="336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3600360"/>
            <a:ext cx="159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76960" y="3940200"/>
            <a:ext cx="15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52560" y="2060640"/>
            <a:ext cx="235800" cy="401760"/>
            <a:chOff x="1852560" y="2060640"/>
            <a:chExt cx="235800" cy="401760"/>
          </a:xfrm>
        </p:grpSpPr>
        <p:sp>
          <p:nvSpPr>
            <p:cNvPr id="233" name=""/>
            <p:cNvSpPr/>
            <p:nvPr/>
          </p:nvSpPr>
          <p:spPr>
            <a:xfrm>
              <a:off x="1852560" y="2060640"/>
              <a:ext cx="1591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20680" y="2201760"/>
              <a:ext cx="676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424040" y="4916520"/>
            <a:ext cx="211320" cy="401760"/>
            <a:chOff x="4424040" y="4916520"/>
            <a:chExt cx="211320" cy="401760"/>
          </a:xfrm>
        </p:grpSpPr>
        <p:sp>
          <p:nvSpPr>
            <p:cNvPr id="236" name=""/>
            <p:cNvSpPr/>
            <p:nvPr/>
          </p:nvSpPr>
          <p:spPr>
            <a:xfrm>
              <a:off x="4424040" y="4916520"/>
              <a:ext cx="1591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54000" y="5057640"/>
              <a:ext cx="813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087960" y="2433600"/>
                <a:ext cx="2813040" cy="36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241280" y="1611360"/>
            <a:ext cx="244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432320" y="1685520"/>
            <a:ext cx="307800" cy="9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8378600">
            <a:off x="3957840" y="2404440"/>
            <a:ext cx="1019160" cy="432000"/>
          </a:xfrm>
          <a:custGeom>
            <a:avLst/>
            <a:gdLst/>
            <a:ahLst/>
            <a:rect l="l" t="t" r="r" b="b"/>
            <a:pathLst>
              <a:path w="4953" h="4243">
                <a:moveTo>
                  <a:pt x="4901" y="88"/>
                </a:moveTo>
                <a:lnTo>
                  <a:pt x="4909" y="99"/>
                </a:lnTo>
                <a:lnTo>
                  <a:pt x="4917" y="111"/>
                </a:lnTo>
                <a:lnTo>
                  <a:pt x="4924" y="123"/>
                </a:lnTo>
                <a:lnTo>
                  <a:pt x="4931" y="135"/>
                </a:lnTo>
                <a:lnTo>
                  <a:pt x="4936" y="149"/>
                </a:lnTo>
                <a:lnTo>
                  <a:pt x="4941" y="162"/>
                </a:lnTo>
                <a:lnTo>
                  <a:pt x="4944" y="177"/>
                </a:lnTo>
                <a:lnTo>
                  <a:pt x="4948" y="192"/>
                </a:lnTo>
                <a:lnTo>
                  <a:pt x="4950" y="208"/>
                </a:lnTo>
                <a:lnTo>
                  <a:pt x="4952" y="224"/>
                </a:lnTo>
                <a:lnTo>
                  <a:pt x="4953" y="241"/>
                </a:lnTo>
                <a:lnTo>
                  <a:pt x="4953" y="259"/>
                </a:lnTo>
                <a:lnTo>
                  <a:pt x="4952" y="277"/>
                </a:lnTo>
                <a:lnTo>
                  <a:pt x="4951" y="296"/>
                </a:lnTo>
                <a:lnTo>
                  <a:pt x="4949" y="314"/>
                </a:lnTo>
                <a:lnTo>
                  <a:pt x="4946" y="334"/>
                </a:lnTo>
                <a:lnTo>
                  <a:pt x="4943" y="355"/>
                </a:lnTo>
                <a:lnTo>
                  <a:pt x="4939" y="376"/>
                </a:lnTo>
                <a:lnTo>
                  <a:pt x="4934" y="396"/>
                </a:lnTo>
                <a:lnTo>
                  <a:pt x="4927" y="419"/>
                </a:lnTo>
                <a:lnTo>
                  <a:pt x="4921" y="441"/>
                </a:lnTo>
                <a:lnTo>
                  <a:pt x="4914" y="464"/>
                </a:lnTo>
                <a:lnTo>
                  <a:pt x="4906" y="487"/>
                </a:lnTo>
                <a:lnTo>
                  <a:pt x="4897" y="511"/>
                </a:lnTo>
                <a:lnTo>
                  <a:pt x="4888" y="536"/>
                </a:lnTo>
                <a:lnTo>
                  <a:pt x="4878" y="561"/>
                </a:lnTo>
                <a:lnTo>
                  <a:pt x="4866" y="586"/>
                </a:lnTo>
                <a:lnTo>
                  <a:pt x="4855" y="612"/>
                </a:lnTo>
                <a:lnTo>
                  <a:pt x="4843" y="639"/>
                </a:lnTo>
                <a:lnTo>
                  <a:pt x="4829" y="664"/>
                </a:lnTo>
                <a:lnTo>
                  <a:pt x="4815" y="692"/>
                </a:lnTo>
                <a:lnTo>
                  <a:pt x="4800" y="719"/>
                </a:lnTo>
                <a:lnTo>
                  <a:pt x="4784" y="748"/>
                </a:lnTo>
                <a:lnTo>
                  <a:pt x="4769" y="776"/>
                </a:lnTo>
                <a:lnTo>
                  <a:pt x="4752" y="805"/>
                </a:lnTo>
                <a:lnTo>
                  <a:pt x="4735" y="834"/>
                </a:lnTo>
                <a:lnTo>
                  <a:pt x="4716" y="864"/>
                </a:lnTo>
                <a:lnTo>
                  <a:pt x="4697" y="894"/>
                </a:lnTo>
                <a:lnTo>
                  <a:pt x="4678" y="925"/>
                </a:lnTo>
                <a:lnTo>
                  <a:pt x="4658" y="955"/>
                </a:lnTo>
                <a:lnTo>
                  <a:pt x="4637" y="986"/>
                </a:lnTo>
                <a:lnTo>
                  <a:pt x="4616" y="1019"/>
                </a:lnTo>
                <a:lnTo>
                  <a:pt x="4594" y="1051"/>
                </a:lnTo>
                <a:lnTo>
                  <a:pt x="4571" y="1083"/>
                </a:lnTo>
                <a:lnTo>
                  <a:pt x="4547" y="1115"/>
                </a:lnTo>
                <a:lnTo>
                  <a:pt x="4523" y="1148"/>
                </a:lnTo>
                <a:lnTo>
                  <a:pt x="4499" y="1181"/>
                </a:lnTo>
                <a:lnTo>
                  <a:pt x="4473" y="1214"/>
                </a:lnTo>
                <a:lnTo>
                  <a:pt x="4447" y="1248"/>
                </a:lnTo>
                <a:lnTo>
                  <a:pt x="4421" y="1283"/>
                </a:lnTo>
                <a:lnTo>
                  <a:pt x="4393" y="1317"/>
                </a:lnTo>
                <a:lnTo>
                  <a:pt x="4366" y="1351"/>
                </a:lnTo>
                <a:lnTo>
                  <a:pt x="4337" y="1385"/>
                </a:lnTo>
                <a:lnTo>
                  <a:pt x="4308" y="1420"/>
                </a:lnTo>
                <a:lnTo>
                  <a:pt x="4279" y="1455"/>
                </a:lnTo>
                <a:lnTo>
                  <a:pt x="4249" y="1491"/>
                </a:lnTo>
                <a:lnTo>
                  <a:pt x="4219" y="1527"/>
                </a:lnTo>
                <a:lnTo>
                  <a:pt x="4188" y="1562"/>
                </a:lnTo>
                <a:lnTo>
                  <a:pt x="4156" y="1598"/>
                </a:lnTo>
                <a:lnTo>
                  <a:pt x="4123" y="1635"/>
                </a:lnTo>
                <a:lnTo>
                  <a:pt x="4091" y="1671"/>
                </a:lnTo>
                <a:lnTo>
                  <a:pt x="4058" y="1707"/>
                </a:lnTo>
                <a:lnTo>
                  <a:pt x="4024" y="1743"/>
                </a:lnTo>
                <a:lnTo>
                  <a:pt x="3990" y="1779"/>
                </a:lnTo>
                <a:lnTo>
                  <a:pt x="3956" y="1817"/>
                </a:lnTo>
                <a:lnTo>
                  <a:pt x="3920" y="1853"/>
                </a:lnTo>
                <a:lnTo>
                  <a:pt x="3885" y="1890"/>
                </a:lnTo>
                <a:lnTo>
                  <a:pt x="3849" y="1928"/>
                </a:lnTo>
                <a:lnTo>
                  <a:pt x="3813" y="1964"/>
                </a:lnTo>
                <a:lnTo>
                  <a:pt x="3776" y="2001"/>
                </a:lnTo>
                <a:lnTo>
                  <a:pt x="3739" y="2038"/>
                </a:lnTo>
                <a:lnTo>
                  <a:pt x="3702" y="2076"/>
                </a:lnTo>
                <a:lnTo>
                  <a:pt x="3664" y="2113"/>
                </a:lnTo>
                <a:lnTo>
                  <a:pt x="3626" y="2149"/>
                </a:lnTo>
                <a:lnTo>
                  <a:pt x="3587" y="2186"/>
                </a:lnTo>
                <a:lnTo>
                  <a:pt x="3548" y="2224"/>
                </a:lnTo>
                <a:lnTo>
                  <a:pt x="3509" y="2261"/>
                </a:lnTo>
                <a:lnTo>
                  <a:pt x="3470" y="2298"/>
                </a:lnTo>
                <a:lnTo>
                  <a:pt x="3429" y="2334"/>
                </a:lnTo>
                <a:lnTo>
                  <a:pt x="3390" y="2372"/>
                </a:lnTo>
                <a:lnTo>
                  <a:pt x="3349" y="2409"/>
                </a:lnTo>
                <a:lnTo>
                  <a:pt x="3308" y="2445"/>
                </a:lnTo>
                <a:lnTo>
                  <a:pt x="3268" y="2481"/>
                </a:lnTo>
                <a:lnTo>
                  <a:pt x="3226" y="2519"/>
                </a:lnTo>
                <a:lnTo>
                  <a:pt x="3185" y="2555"/>
                </a:lnTo>
                <a:lnTo>
                  <a:pt x="3143" y="2591"/>
                </a:lnTo>
                <a:lnTo>
                  <a:pt x="3102" y="2627"/>
                </a:lnTo>
                <a:lnTo>
                  <a:pt x="3059" y="2664"/>
                </a:lnTo>
                <a:lnTo>
                  <a:pt x="3017" y="2699"/>
                </a:lnTo>
                <a:lnTo>
                  <a:pt x="2974" y="2735"/>
                </a:lnTo>
                <a:lnTo>
                  <a:pt x="2932" y="2770"/>
                </a:lnTo>
                <a:lnTo>
                  <a:pt x="2889" y="2806"/>
                </a:lnTo>
                <a:lnTo>
                  <a:pt x="2847" y="2841"/>
                </a:lnTo>
                <a:lnTo>
                  <a:pt x="2803" y="2875"/>
                </a:lnTo>
                <a:lnTo>
                  <a:pt x="2761" y="2910"/>
                </a:lnTo>
                <a:lnTo>
                  <a:pt x="2717" y="2944"/>
                </a:lnTo>
                <a:lnTo>
                  <a:pt x="2675" y="2978"/>
                </a:lnTo>
                <a:lnTo>
                  <a:pt x="2631" y="3012"/>
                </a:lnTo>
                <a:lnTo>
                  <a:pt x="2588" y="3046"/>
                </a:lnTo>
                <a:lnTo>
                  <a:pt x="2544" y="3079"/>
                </a:lnTo>
                <a:lnTo>
                  <a:pt x="2502" y="3112"/>
                </a:lnTo>
                <a:lnTo>
                  <a:pt x="2458" y="3144"/>
                </a:lnTo>
                <a:lnTo>
                  <a:pt x="2415" y="3177"/>
                </a:lnTo>
                <a:lnTo>
                  <a:pt x="2371" y="3209"/>
                </a:lnTo>
                <a:lnTo>
                  <a:pt x="2328" y="3240"/>
                </a:lnTo>
                <a:lnTo>
                  <a:pt x="2285" y="3272"/>
                </a:lnTo>
                <a:lnTo>
                  <a:pt x="2242" y="3302"/>
                </a:lnTo>
                <a:lnTo>
                  <a:pt x="2198" y="3334"/>
                </a:lnTo>
                <a:lnTo>
                  <a:pt x="2156" y="3364"/>
                </a:lnTo>
                <a:lnTo>
                  <a:pt x="2112" y="3394"/>
                </a:lnTo>
                <a:lnTo>
                  <a:pt x="2070" y="3424"/>
                </a:lnTo>
                <a:lnTo>
                  <a:pt x="2027" y="3453"/>
                </a:lnTo>
                <a:lnTo>
                  <a:pt x="1985" y="3482"/>
                </a:lnTo>
                <a:lnTo>
                  <a:pt x="1942" y="3510"/>
                </a:lnTo>
                <a:lnTo>
                  <a:pt x="1900" y="3537"/>
                </a:lnTo>
                <a:lnTo>
                  <a:pt x="1858" y="3564"/>
                </a:lnTo>
                <a:lnTo>
                  <a:pt x="1816" y="3591"/>
                </a:lnTo>
                <a:lnTo>
                  <a:pt x="1774" y="3618"/>
                </a:lnTo>
                <a:lnTo>
                  <a:pt x="1733" y="3644"/>
                </a:lnTo>
                <a:lnTo>
                  <a:pt x="1691" y="3670"/>
                </a:lnTo>
                <a:lnTo>
                  <a:pt x="1651" y="3695"/>
                </a:lnTo>
                <a:lnTo>
                  <a:pt x="1610" y="3720"/>
                </a:lnTo>
                <a:lnTo>
                  <a:pt x="1569" y="3744"/>
                </a:lnTo>
                <a:lnTo>
                  <a:pt x="1529" y="3767"/>
                </a:lnTo>
                <a:lnTo>
                  <a:pt x="1489" y="3791"/>
                </a:lnTo>
                <a:lnTo>
                  <a:pt x="1450" y="3813"/>
                </a:lnTo>
                <a:lnTo>
                  <a:pt x="1411" y="3836"/>
                </a:lnTo>
                <a:lnTo>
                  <a:pt x="1371" y="3857"/>
                </a:lnTo>
                <a:lnTo>
                  <a:pt x="1333" y="3878"/>
                </a:lnTo>
                <a:lnTo>
                  <a:pt x="1295" y="3899"/>
                </a:lnTo>
                <a:lnTo>
                  <a:pt x="1257" y="3919"/>
                </a:lnTo>
                <a:lnTo>
                  <a:pt x="1219" y="3938"/>
                </a:lnTo>
                <a:lnTo>
                  <a:pt x="1182" y="3957"/>
                </a:lnTo>
                <a:lnTo>
                  <a:pt x="1145" y="3975"/>
                </a:lnTo>
                <a:lnTo>
                  <a:pt x="1109" y="3993"/>
                </a:lnTo>
                <a:lnTo>
                  <a:pt x="1073" y="4011"/>
                </a:lnTo>
                <a:lnTo>
                  <a:pt x="1038" y="4027"/>
                </a:lnTo>
                <a:lnTo>
                  <a:pt x="1002" y="4043"/>
                </a:lnTo>
                <a:lnTo>
                  <a:pt x="968" y="4058"/>
                </a:lnTo>
                <a:lnTo>
                  <a:pt x="934" y="4073"/>
                </a:lnTo>
                <a:lnTo>
                  <a:pt x="900" y="4087"/>
                </a:lnTo>
                <a:lnTo>
                  <a:pt x="867" y="4101"/>
                </a:lnTo>
                <a:lnTo>
                  <a:pt x="835" y="4114"/>
                </a:lnTo>
                <a:lnTo>
                  <a:pt x="802" y="4127"/>
                </a:lnTo>
                <a:lnTo>
                  <a:pt x="770" y="4138"/>
                </a:lnTo>
                <a:lnTo>
                  <a:pt x="739" y="4149"/>
                </a:lnTo>
                <a:lnTo>
                  <a:pt x="709" y="4160"/>
                </a:lnTo>
                <a:lnTo>
                  <a:pt x="679" y="4170"/>
                </a:lnTo>
                <a:lnTo>
                  <a:pt x="649" y="4179"/>
                </a:lnTo>
                <a:lnTo>
                  <a:pt x="620" y="4188"/>
                </a:lnTo>
                <a:lnTo>
                  <a:pt x="592" y="4196"/>
                </a:lnTo>
                <a:lnTo>
                  <a:pt x="564" y="4203"/>
                </a:lnTo>
                <a:lnTo>
                  <a:pt x="537" y="4210"/>
                </a:lnTo>
                <a:lnTo>
                  <a:pt x="510" y="4217"/>
                </a:lnTo>
                <a:lnTo>
                  <a:pt x="484" y="4222"/>
                </a:lnTo>
                <a:lnTo>
                  <a:pt x="458" y="4227"/>
                </a:lnTo>
                <a:lnTo>
                  <a:pt x="433" y="4231"/>
                </a:lnTo>
                <a:lnTo>
                  <a:pt x="410" y="4234"/>
                </a:lnTo>
                <a:lnTo>
                  <a:pt x="386" y="4237"/>
                </a:lnTo>
                <a:lnTo>
                  <a:pt x="363" y="4239"/>
                </a:lnTo>
                <a:lnTo>
                  <a:pt x="341" y="4242"/>
                </a:lnTo>
                <a:lnTo>
                  <a:pt x="320" y="4243"/>
                </a:lnTo>
                <a:lnTo>
                  <a:pt x="299" y="4243"/>
                </a:lnTo>
                <a:lnTo>
                  <a:pt x="278" y="4243"/>
                </a:lnTo>
                <a:lnTo>
                  <a:pt x="258" y="4242"/>
                </a:lnTo>
                <a:lnTo>
                  <a:pt x="240" y="4239"/>
                </a:lnTo>
                <a:lnTo>
                  <a:pt x="221" y="4237"/>
                </a:lnTo>
                <a:lnTo>
                  <a:pt x="203" y="4234"/>
                </a:lnTo>
                <a:lnTo>
                  <a:pt x="187" y="4231"/>
                </a:lnTo>
                <a:lnTo>
                  <a:pt x="171" y="4227"/>
                </a:lnTo>
                <a:lnTo>
                  <a:pt x="156" y="4222"/>
                </a:lnTo>
                <a:lnTo>
                  <a:pt x="140" y="4216"/>
                </a:lnTo>
                <a:lnTo>
                  <a:pt x="127" y="4210"/>
                </a:lnTo>
                <a:lnTo>
                  <a:pt x="113" y="4203"/>
                </a:lnTo>
                <a:lnTo>
                  <a:pt x="101" y="4196"/>
                </a:lnTo>
                <a:lnTo>
                  <a:pt x="88" y="4188"/>
                </a:lnTo>
                <a:lnTo>
                  <a:pt x="78" y="4179"/>
                </a:lnTo>
                <a:lnTo>
                  <a:pt x="68" y="4170"/>
                </a:lnTo>
                <a:lnTo>
                  <a:pt x="57" y="4160"/>
                </a:lnTo>
                <a:lnTo>
                  <a:pt x="49" y="4149"/>
                </a:lnTo>
                <a:lnTo>
                  <a:pt x="41" y="4138"/>
                </a:lnTo>
                <a:lnTo>
                  <a:pt x="34" y="4127"/>
                </a:lnTo>
                <a:lnTo>
                  <a:pt x="26" y="4114"/>
                </a:lnTo>
                <a:lnTo>
                  <a:pt x="21" y="4101"/>
                </a:lnTo>
                <a:lnTo>
                  <a:pt x="16" y="4087"/>
                </a:lnTo>
                <a:lnTo>
                  <a:pt x="12" y="4073"/>
                </a:lnTo>
                <a:lnTo>
                  <a:pt x="8" y="4058"/>
                </a:lnTo>
                <a:lnTo>
                  <a:pt x="5" y="4043"/>
                </a:lnTo>
                <a:lnTo>
                  <a:pt x="2" y="4026"/>
                </a:lnTo>
                <a:lnTo>
                  <a:pt x="1" y="4010"/>
                </a:lnTo>
                <a:lnTo>
                  <a:pt x="0" y="3993"/>
                </a:lnTo>
                <a:lnTo>
                  <a:pt x="0" y="3974"/>
                </a:lnTo>
                <a:lnTo>
                  <a:pt x="1" y="3957"/>
                </a:lnTo>
                <a:lnTo>
                  <a:pt x="3" y="3937"/>
                </a:lnTo>
                <a:lnTo>
                  <a:pt x="6" y="3919"/>
                </a:lnTo>
                <a:lnTo>
                  <a:pt x="9" y="3898"/>
                </a:lnTo>
                <a:lnTo>
                  <a:pt x="13" y="3878"/>
                </a:lnTo>
                <a:lnTo>
                  <a:pt x="18" y="3856"/>
                </a:lnTo>
                <a:lnTo>
                  <a:pt x="23" y="3835"/>
                </a:lnTo>
                <a:lnTo>
                  <a:pt x="29" y="3813"/>
                </a:lnTo>
                <a:lnTo>
                  <a:pt x="36" y="3790"/>
                </a:lnTo>
                <a:lnTo>
                  <a:pt x="44" y="3767"/>
                </a:lnTo>
                <a:lnTo>
                  <a:pt x="52" y="3744"/>
                </a:lnTo>
                <a:lnTo>
                  <a:pt x="62" y="3719"/>
                </a:lnTo>
                <a:lnTo>
                  <a:pt x="71" y="3695"/>
                </a:lnTo>
                <a:lnTo>
                  <a:pt x="82" y="3669"/>
                </a:lnTo>
                <a:lnTo>
                  <a:pt x="94" y="3644"/>
                </a:lnTo>
                <a:lnTo>
                  <a:pt x="105" y="3617"/>
                </a:lnTo>
                <a:lnTo>
                  <a:pt x="118" y="3591"/>
                </a:lnTo>
                <a:lnTo>
                  <a:pt x="132" y="3564"/>
                </a:lnTo>
                <a:lnTo>
                  <a:pt x="146" y="3536"/>
                </a:lnTo>
                <a:lnTo>
                  <a:pt x="161" y="3509"/>
                </a:lnTo>
                <a:lnTo>
                  <a:pt x="177" y="3481"/>
                </a:lnTo>
                <a:lnTo>
                  <a:pt x="193" y="3452"/>
                </a:lnTo>
                <a:lnTo>
                  <a:pt x="211" y="3423"/>
                </a:lnTo>
                <a:lnTo>
                  <a:pt x="228" y="3394"/>
                </a:lnTo>
                <a:lnTo>
                  <a:pt x="247" y="3364"/>
                </a:lnTo>
                <a:lnTo>
                  <a:pt x="266" y="3333"/>
                </a:lnTo>
                <a:lnTo>
                  <a:pt x="285" y="3302"/>
                </a:lnTo>
                <a:lnTo>
                  <a:pt x="306" y="3271"/>
                </a:lnTo>
                <a:lnTo>
                  <a:pt x="328" y="3240"/>
                </a:lnTo>
                <a:lnTo>
                  <a:pt x="350" y="3208"/>
                </a:lnTo>
                <a:lnTo>
                  <a:pt x="371" y="3176"/>
                </a:lnTo>
                <a:lnTo>
                  <a:pt x="395" y="3144"/>
                </a:lnTo>
                <a:lnTo>
                  <a:pt x="419" y="3111"/>
                </a:lnTo>
                <a:lnTo>
                  <a:pt x="443" y="3078"/>
                </a:lnTo>
                <a:lnTo>
                  <a:pt x="468" y="3045"/>
                </a:lnTo>
                <a:lnTo>
                  <a:pt x="494" y="3012"/>
                </a:lnTo>
                <a:lnTo>
                  <a:pt x="520" y="2977"/>
                </a:lnTo>
                <a:lnTo>
                  <a:pt x="546" y="2943"/>
                </a:lnTo>
                <a:lnTo>
                  <a:pt x="574" y="2909"/>
                </a:lnTo>
                <a:lnTo>
                  <a:pt x="602" y="2875"/>
                </a:lnTo>
                <a:lnTo>
                  <a:pt x="631" y="2840"/>
                </a:lnTo>
                <a:lnTo>
                  <a:pt x="660" y="2804"/>
                </a:lnTo>
                <a:lnTo>
                  <a:pt x="689" y="2769"/>
                </a:lnTo>
                <a:lnTo>
                  <a:pt x="721" y="2734"/>
                </a:lnTo>
                <a:lnTo>
                  <a:pt x="751" y="2698"/>
                </a:lnTo>
                <a:lnTo>
                  <a:pt x="783" y="2663"/>
                </a:lnTo>
                <a:lnTo>
                  <a:pt x="814" y="2626"/>
                </a:lnTo>
                <a:lnTo>
                  <a:pt x="847" y="2590"/>
                </a:lnTo>
                <a:lnTo>
                  <a:pt x="879" y="2554"/>
                </a:lnTo>
                <a:lnTo>
                  <a:pt x="912" y="2518"/>
                </a:lnTo>
                <a:lnTo>
                  <a:pt x="946" y="2481"/>
                </a:lnTo>
                <a:lnTo>
                  <a:pt x="981" y="2444"/>
                </a:lnTo>
                <a:lnTo>
                  <a:pt x="1016" y="2408"/>
                </a:lnTo>
                <a:lnTo>
                  <a:pt x="1051" y="2371"/>
                </a:lnTo>
                <a:lnTo>
                  <a:pt x="1086" y="2334"/>
                </a:lnTo>
                <a:lnTo>
                  <a:pt x="1123" y="2297"/>
                </a:lnTo>
                <a:lnTo>
                  <a:pt x="1159" y="2260"/>
                </a:lnTo>
                <a:lnTo>
                  <a:pt x="1196" y="2223"/>
                </a:lnTo>
                <a:lnTo>
                  <a:pt x="1233" y="2185"/>
                </a:lnTo>
                <a:lnTo>
                  <a:pt x="1271" y="2149"/>
                </a:lnTo>
                <a:lnTo>
                  <a:pt x="1309" y="2112"/>
                </a:lnTo>
                <a:lnTo>
                  <a:pt x="1347" y="2075"/>
                </a:lnTo>
                <a:lnTo>
                  <a:pt x="1386" y="2037"/>
                </a:lnTo>
                <a:lnTo>
                  <a:pt x="1425" y="2000"/>
                </a:lnTo>
                <a:lnTo>
                  <a:pt x="1465" y="1963"/>
                </a:lnTo>
                <a:lnTo>
                  <a:pt x="1504" y="1927"/>
                </a:lnTo>
                <a:lnTo>
                  <a:pt x="1544" y="1889"/>
                </a:lnTo>
                <a:lnTo>
                  <a:pt x="1585" y="1852"/>
                </a:lnTo>
                <a:lnTo>
                  <a:pt x="1625" y="1816"/>
                </a:lnTo>
                <a:lnTo>
                  <a:pt x="1666" y="1778"/>
                </a:lnTo>
                <a:lnTo>
                  <a:pt x="1707" y="1742"/>
                </a:lnTo>
                <a:lnTo>
                  <a:pt x="1748" y="1706"/>
                </a:lnTo>
                <a:lnTo>
                  <a:pt x="1790" y="1670"/>
                </a:lnTo>
                <a:lnTo>
                  <a:pt x="1831" y="1634"/>
                </a:lnTo>
                <a:lnTo>
                  <a:pt x="1874" y="1597"/>
                </a:lnTo>
                <a:lnTo>
                  <a:pt x="1915" y="1561"/>
                </a:lnTo>
                <a:lnTo>
                  <a:pt x="1958" y="1526"/>
                </a:lnTo>
                <a:lnTo>
                  <a:pt x="2000" y="1491"/>
                </a:lnTo>
                <a:lnTo>
                  <a:pt x="2043" y="1454"/>
                </a:lnTo>
                <a:lnTo>
                  <a:pt x="2086" y="1419"/>
                </a:lnTo>
                <a:lnTo>
                  <a:pt x="2129" y="1385"/>
                </a:lnTo>
                <a:lnTo>
                  <a:pt x="2171" y="1350"/>
                </a:lnTo>
                <a:lnTo>
                  <a:pt x="2215" y="1316"/>
                </a:lnTo>
                <a:lnTo>
                  <a:pt x="2258" y="1281"/>
                </a:lnTo>
                <a:lnTo>
                  <a:pt x="2301" y="1247"/>
                </a:lnTo>
                <a:lnTo>
                  <a:pt x="2344" y="1213"/>
                </a:lnTo>
                <a:lnTo>
                  <a:pt x="2388" y="1180"/>
                </a:lnTo>
                <a:lnTo>
                  <a:pt x="2431" y="1147"/>
                </a:lnTo>
                <a:lnTo>
                  <a:pt x="2474" y="1115"/>
                </a:lnTo>
                <a:lnTo>
                  <a:pt x="2517" y="1082"/>
                </a:lnTo>
                <a:lnTo>
                  <a:pt x="2561" y="1050"/>
                </a:lnTo>
                <a:lnTo>
                  <a:pt x="2604" y="1017"/>
                </a:lnTo>
                <a:lnTo>
                  <a:pt x="2648" y="986"/>
                </a:lnTo>
                <a:lnTo>
                  <a:pt x="2690" y="955"/>
                </a:lnTo>
                <a:lnTo>
                  <a:pt x="2734" y="924"/>
                </a:lnTo>
                <a:lnTo>
                  <a:pt x="2776" y="893"/>
                </a:lnTo>
                <a:lnTo>
                  <a:pt x="2820" y="863"/>
                </a:lnTo>
                <a:lnTo>
                  <a:pt x="2862" y="834"/>
                </a:lnTo>
                <a:lnTo>
                  <a:pt x="2906" y="804"/>
                </a:lnTo>
                <a:lnTo>
                  <a:pt x="2948" y="775"/>
                </a:lnTo>
                <a:lnTo>
                  <a:pt x="2991" y="747"/>
                </a:lnTo>
                <a:lnTo>
                  <a:pt x="3033" y="719"/>
                </a:lnTo>
                <a:lnTo>
                  <a:pt x="3075" y="691"/>
                </a:lnTo>
                <a:lnTo>
                  <a:pt x="3117" y="664"/>
                </a:lnTo>
                <a:lnTo>
                  <a:pt x="3159" y="638"/>
                </a:lnTo>
                <a:lnTo>
                  <a:pt x="3200" y="612"/>
                </a:lnTo>
                <a:lnTo>
                  <a:pt x="3242" y="586"/>
                </a:lnTo>
                <a:lnTo>
                  <a:pt x="3283" y="560"/>
                </a:lnTo>
                <a:lnTo>
                  <a:pt x="3323" y="535"/>
                </a:lnTo>
                <a:lnTo>
                  <a:pt x="3364" y="511"/>
                </a:lnTo>
                <a:lnTo>
                  <a:pt x="3404" y="486"/>
                </a:lnTo>
                <a:lnTo>
                  <a:pt x="3445" y="464"/>
                </a:lnTo>
                <a:lnTo>
                  <a:pt x="3484" y="441"/>
                </a:lnTo>
                <a:lnTo>
                  <a:pt x="3523" y="418"/>
                </a:lnTo>
                <a:lnTo>
                  <a:pt x="3563" y="396"/>
                </a:lnTo>
                <a:lnTo>
                  <a:pt x="3601" y="375"/>
                </a:lnTo>
                <a:lnTo>
                  <a:pt x="3641" y="354"/>
                </a:lnTo>
                <a:lnTo>
                  <a:pt x="3678" y="334"/>
                </a:lnTo>
                <a:lnTo>
                  <a:pt x="3716" y="314"/>
                </a:lnTo>
                <a:lnTo>
                  <a:pt x="3753" y="295"/>
                </a:lnTo>
                <a:lnTo>
                  <a:pt x="3790" y="276"/>
                </a:lnTo>
                <a:lnTo>
                  <a:pt x="3827" y="259"/>
                </a:lnTo>
                <a:lnTo>
                  <a:pt x="3863" y="241"/>
                </a:lnTo>
                <a:lnTo>
                  <a:pt x="3899" y="224"/>
                </a:lnTo>
                <a:lnTo>
                  <a:pt x="3934" y="208"/>
                </a:lnTo>
                <a:lnTo>
                  <a:pt x="3969" y="192"/>
                </a:lnTo>
                <a:lnTo>
                  <a:pt x="4003" y="177"/>
                </a:lnTo>
                <a:lnTo>
                  <a:pt x="4036" y="162"/>
                </a:lnTo>
                <a:lnTo>
                  <a:pt x="4071" y="148"/>
                </a:lnTo>
                <a:lnTo>
                  <a:pt x="4104" y="135"/>
                </a:lnTo>
                <a:lnTo>
                  <a:pt x="4136" y="122"/>
                </a:lnTo>
                <a:lnTo>
                  <a:pt x="4168" y="111"/>
                </a:lnTo>
                <a:lnTo>
                  <a:pt x="4199" y="99"/>
                </a:lnTo>
                <a:lnTo>
                  <a:pt x="4230" y="88"/>
                </a:lnTo>
                <a:lnTo>
                  <a:pt x="4260" y="77"/>
                </a:lnTo>
                <a:lnTo>
                  <a:pt x="4290" y="68"/>
                </a:lnTo>
                <a:lnTo>
                  <a:pt x="4319" y="59"/>
                </a:lnTo>
                <a:lnTo>
                  <a:pt x="4348" y="50"/>
                </a:lnTo>
                <a:lnTo>
                  <a:pt x="4376" y="43"/>
                </a:lnTo>
                <a:lnTo>
                  <a:pt x="4403" y="36"/>
                </a:lnTo>
                <a:lnTo>
                  <a:pt x="4430" y="29"/>
                </a:lnTo>
                <a:lnTo>
                  <a:pt x="4457" y="24"/>
                </a:lnTo>
                <a:lnTo>
                  <a:pt x="4483" y="18"/>
                </a:lnTo>
                <a:lnTo>
                  <a:pt x="4508" y="13"/>
                </a:lnTo>
                <a:lnTo>
                  <a:pt x="4532" y="10"/>
                </a:lnTo>
                <a:lnTo>
                  <a:pt x="4557" y="7"/>
                </a:lnTo>
                <a:lnTo>
                  <a:pt x="4579" y="4"/>
                </a:lnTo>
                <a:lnTo>
                  <a:pt x="4602" y="2"/>
                </a:lnTo>
                <a:lnTo>
                  <a:pt x="4624" y="1"/>
                </a:lnTo>
                <a:lnTo>
                  <a:pt x="4645" y="0"/>
                </a:lnTo>
                <a:lnTo>
                  <a:pt x="4665" y="0"/>
                </a:lnTo>
                <a:lnTo>
                  <a:pt x="4686" y="1"/>
                </a:lnTo>
                <a:lnTo>
                  <a:pt x="4705" y="2"/>
                </a:lnTo>
                <a:lnTo>
                  <a:pt x="4723" y="4"/>
                </a:lnTo>
                <a:lnTo>
                  <a:pt x="4741" y="7"/>
                </a:lnTo>
                <a:lnTo>
                  <a:pt x="4759" y="10"/>
                </a:lnTo>
                <a:lnTo>
                  <a:pt x="4775" y="14"/>
                </a:lnTo>
                <a:lnTo>
                  <a:pt x="4791" y="18"/>
                </a:lnTo>
                <a:lnTo>
                  <a:pt x="4806" y="24"/>
                </a:lnTo>
                <a:lnTo>
                  <a:pt x="4821" y="30"/>
                </a:lnTo>
                <a:lnTo>
                  <a:pt x="4834" y="36"/>
                </a:lnTo>
                <a:lnTo>
                  <a:pt x="4847" y="43"/>
                </a:lnTo>
                <a:lnTo>
                  <a:pt x="4859" y="50"/>
                </a:lnTo>
                <a:lnTo>
                  <a:pt x="4870" y="59"/>
                </a:lnTo>
                <a:lnTo>
                  <a:pt x="4881" y="68"/>
                </a:lnTo>
                <a:lnTo>
                  <a:pt x="4891" y="77"/>
                </a:lnTo>
                <a:lnTo>
                  <a:pt x="4901" y="88"/>
                </a:lnTo>
                <a:close/>
              </a:path>
            </a:pathLst>
          </a:custGeom>
          <a:solidFill>
            <a:srgbClr val="b2b2b2"/>
          </a:solidFill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30400" y="1924200"/>
            <a:ext cx="1850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57680" y="1952640"/>
            <a:ext cx="343080" cy="21924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0" y="0"/>
                </a:moveTo>
                <a:cubicBezTo>
                  <a:pt x="51" y="6"/>
                  <a:pt x="102" y="13"/>
                  <a:pt x="138" y="36"/>
                </a:cubicBezTo>
                <a:cubicBezTo>
                  <a:pt x="174" y="59"/>
                  <a:pt x="195" y="98"/>
                  <a:pt x="216" y="1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257640" y="2952360"/>
            <a:ext cx="1571400" cy="134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63760" y="3419640"/>
            <a:ext cx="35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30000" y="1895400"/>
            <a:ext cx="1850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200988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cubicBezTo>
                  <a:pt x="36" y="172"/>
                  <a:pt x="72" y="152"/>
                  <a:pt x="96" y="120"/>
                </a:cubicBezTo>
                <a:cubicBezTo>
                  <a:pt x="120" y="88"/>
                  <a:pt x="132" y="4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CD9-861B-4C23-B192-0E726E41E9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Synchonous Drive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57040" y="1666800"/>
            <a:ext cx="4431960" cy="4043520"/>
            <a:chOff x="257040" y="1666800"/>
            <a:chExt cx="4431960" cy="4043520"/>
          </a:xfrm>
        </p:grpSpPr>
        <p:sp>
          <p:nvSpPr>
            <p:cNvPr id="250" name=""/>
            <p:cNvSpPr/>
            <p:nvPr/>
          </p:nvSpPr>
          <p:spPr>
            <a:xfrm>
              <a:off x="2224440" y="3896640"/>
              <a:ext cx="107280" cy="340200"/>
            </a:xfrm>
            <a:custGeom>
              <a:avLst/>
              <a:gdLst/>
              <a:ahLst/>
              <a:rect l="l" t="t" r="r" b="b"/>
              <a:pathLst>
                <a:path w="439" h="1379">
                  <a:moveTo>
                    <a:pt x="426" y="1379"/>
                  </a:moveTo>
                  <a:lnTo>
                    <a:pt x="429" y="1348"/>
                  </a:lnTo>
                  <a:lnTo>
                    <a:pt x="433" y="1318"/>
                  </a:lnTo>
                  <a:lnTo>
                    <a:pt x="435" y="1288"/>
                  </a:lnTo>
                  <a:lnTo>
                    <a:pt x="437" y="1258"/>
                  </a:lnTo>
                  <a:lnTo>
                    <a:pt x="438" y="1228"/>
                  </a:lnTo>
                  <a:lnTo>
                    <a:pt x="439" y="1197"/>
                  </a:lnTo>
                  <a:lnTo>
                    <a:pt x="439" y="1166"/>
                  </a:lnTo>
                  <a:lnTo>
                    <a:pt x="439" y="1136"/>
                  </a:lnTo>
                  <a:lnTo>
                    <a:pt x="438" y="1106"/>
                  </a:lnTo>
                  <a:lnTo>
                    <a:pt x="437" y="1075"/>
                  </a:lnTo>
                  <a:lnTo>
                    <a:pt x="436" y="1045"/>
                  </a:lnTo>
                  <a:lnTo>
                    <a:pt x="434" y="1015"/>
                  </a:lnTo>
                  <a:lnTo>
                    <a:pt x="431" y="985"/>
                  </a:lnTo>
                  <a:lnTo>
                    <a:pt x="427" y="955"/>
                  </a:lnTo>
                  <a:lnTo>
                    <a:pt x="424" y="925"/>
                  </a:lnTo>
                  <a:lnTo>
                    <a:pt x="419" y="895"/>
                  </a:lnTo>
                  <a:lnTo>
                    <a:pt x="415" y="865"/>
                  </a:lnTo>
                  <a:lnTo>
                    <a:pt x="409" y="835"/>
                  </a:lnTo>
                  <a:lnTo>
                    <a:pt x="404" y="805"/>
                  </a:lnTo>
                  <a:lnTo>
                    <a:pt x="397" y="775"/>
                  </a:lnTo>
                  <a:lnTo>
                    <a:pt x="390" y="746"/>
                  </a:lnTo>
                  <a:lnTo>
                    <a:pt x="383" y="717"/>
                  </a:lnTo>
                  <a:lnTo>
                    <a:pt x="375" y="687"/>
                  </a:lnTo>
                  <a:lnTo>
                    <a:pt x="366" y="658"/>
                  </a:lnTo>
                  <a:lnTo>
                    <a:pt x="357" y="629"/>
                  </a:lnTo>
                  <a:lnTo>
                    <a:pt x="348" y="600"/>
                  </a:lnTo>
                  <a:lnTo>
                    <a:pt x="338" y="571"/>
                  </a:lnTo>
                  <a:lnTo>
                    <a:pt x="327" y="543"/>
                  </a:lnTo>
                  <a:lnTo>
                    <a:pt x="316" y="514"/>
                  </a:lnTo>
                  <a:lnTo>
                    <a:pt x="305" y="486"/>
                  </a:lnTo>
                  <a:lnTo>
                    <a:pt x="292" y="458"/>
                  </a:lnTo>
                  <a:lnTo>
                    <a:pt x="280" y="431"/>
                  </a:lnTo>
                  <a:lnTo>
                    <a:pt x="268" y="403"/>
                  </a:lnTo>
                  <a:lnTo>
                    <a:pt x="255" y="376"/>
                  </a:lnTo>
                  <a:lnTo>
                    <a:pt x="240" y="349"/>
                  </a:lnTo>
                  <a:lnTo>
                    <a:pt x="226" y="323"/>
                  </a:lnTo>
                  <a:lnTo>
                    <a:pt x="211" y="296"/>
                  </a:lnTo>
                  <a:lnTo>
                    <a:pt x="196" y="269"/>
                  </a:lnTo>
                  <a:lnTo>
                    <a:pt x="180" y="244"/>
                  </a:lnTo>
                  <a:lnTo>
                    <a:pt x="164" y="218"/>
                  </a:lnTo>
                  <a:lnTo>
                    <a:pt x="148" y="192"/>
                  </a:lnTo>
                  <a:lnTo>
                    <a:pt x="131" y="167"/>
                  </a:lnTo>
                  <a:lnTo>
                    <a:pt x="113" y="142"/>
                  </a:lnTo>
                  <a:lnTo>
                    <a:pt x="95" y="118"/>
                  </a:lnTo>
                  <a:lnTo>
                    <a:pt x="78" y="93"/>
                  </a:lnTo>
                  <a:lnTo>
                    <a:pt x="59" y="70"/>
                  </a:lnTo>
                  <a:lnTo>
                    <a:pt x="40" y="45"/>
                  </a:lnTo>
                  <a:lnTo>
                    <a:pt x="20" y="2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7040" y="2285640"/>
              <a:ext cx="3400200" cy="34246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8040" y="3749760"/>
              <a:ext cx="521640" cy="604080"/>
            </a:xfrm>
            <a:custGeom>
              <a:avLst/>
              <a:gdLst/>
              <a:ahLst/>
              <a:rect l="l" t="t" r="r" b="b"/>
              <a:pathLst>
                <a:path w="2131" h="2448">
                  <a:moveTo>
                    <a:pt x="1457" y="1553"/>
                  </a:moveTo>
                  <a:lnTo>
                    <a:pt x="1440" y="1573"/>
                  </a:lnTo>
                  <a:lnTo>
                    <a:pt x="1423" y="1593"/>
                  </a:lnTo>
                  <a:lnTo>
                    <a:pt x="1405" y="1615"/>
                  </a:lnTo>
                  <a:lnTo>
                    <a:pt x="1387" y="1635"/>
                  </a:lnTo>
                  <a:lnTo>
                    <a:pt x="1369" y="1655"/>
                  </a:lnTo>
                  <a:lnTo>
                    <a:pt x="1351" y="1675"/>
                  </a:lnTo>
                  <a:lnTo>
                    <a:pt x="1334" y="1695"/>
                  </a:lnTo>
                  <a:lnTo>
                    <a:pt x="1316" y="1714"/>
                  </a:lnTo>
                  <a:lnTo>
                    <a:pt x="1297" y="1734"/>
                  </a:lnTo>
                  <a:lnTo>
                    <a:pt x="1279" y="1753"/>
                  </a:lnTo>
                  <a:lnTo>
                    <a:pt x="1260" y="1773"/>
                  </a:lnTo>
                  <a:lnTo>
                    <a:pt x="1242" y="1792"/>
                  </a:lnTo>
                  <a:lnTo>
                    <a:pt x="1223" y="1810"/>
                  </a:lnTo>
                  <a:lnTo>
                    <a:pt x="1205" y="1829"/>
                  </a:lnTo>
                  <a:lnTo>
                    <a:pt x="1187" y="1847"/>
                  </a:lnTo>
                  <a:lnTo>
                    <a:pt x="1169" y="1866"/>
                  </a:lnTo>
                  <a:lnTo>
                    <a:pt x="1150" y="1884"/>
                  </a:lnTo>
                  <a:lnTo>
                    <a:pt x="1131" y="1902"/>
                  </a:lnTo>
                  <a:lnTo>
                    <a:pt x="1112" y="1920"/>
                  </a:lnTo>
                  <a:lnTo>
                    <a:pt x="1094" y="1937"/>
                  </a:lnTo>
                  <a:lnTo>
                    <a:pt x="1075" y="1954"/>
                  </a:lnTo>
                  <a:lnTo>
                    <a:pt x="1056" y="1972"/>
                  </a:lnTo>
                  <a:lnTo>
                    <a:pt x="1038" y="1989"/>
                  </a:lnTo>
                  <a:lnTo>
                    <a:pt x="1020" y="2005"/>
                  </a:lnTo>
                  <a:lnTo>
                    <a:pt x="1001" y="2021"/>
                  </a:lnTo>
                  <a:lnTo>
                    <a:pt x="982" y="2038"/>
                  </a:lnTo>
                  <a:lnTo>
                    <a:pt x="964" y="2053"/>
                  </a:lnTo>
                  <a:lnTo>
                    <a:pt x="945" y="2069"/>
                  </a:lnTo>
                  <a:lnTo>
                    <a:pt x="926" y="2084"/>
                  </a:lnTo>
                  <a:lnTo>
                    <a:pt x="908" y="2100"/>
                  </a:lnTo>
                  <a:lnTo>
                    <a:pt x="889" y="2114"/>
                  </a:lnTo>
                  <a:lnTo>
                    <a:pt x="871" y="2129"/>
                  </a:lnTo>
                  <a:lnTo>
                    <a:pt x="853" y="2143"/>
                  </a:lnTo>
                  <a:lnTo>
                    <a:pt x="835" y="2157"/>
                  </a:lnTo>
                  <a:lnTo>
                    <a:pt x="817" y="2171"/>
                  </a:lnTo>
                  <a:lnTo>
                    <a:pt x="798" y="2185"/>
                  </a:lnTo>
                  <a:lnTo>
                    <a:pt x="780" y="2197"/>
                  </a:lnTo>
                  <a:lnTo>
                    <a:pt x="762" y="2210"/>
                  </a:lnTo>
                  <a:lnTo>
                    <a:pt x="745" y="2222"/>
                  </a:lnTo>
                  <a:lnTo>
                    <a:pt x="727" y="2235"/>
                  </a:lnTo>
                  <a:lnTo>
                    <a:pt x="709" y="2247"/>
                  </a:lnTo>
                  <a:lnTo>
                    <a:pt x="692" y="2258"/>
                  </a:lnTo>
                  <a:lnTo>
                    <a:pt x="674" y="2270"/>
                  </a:lnTo>
                  <a:lnTo>
                    <a:pt x="657" y="2280"/>
                  </a:lnTo>
                  <a:lnTo>
                    <a:pt x="640" y="2291"/>
                  </a:lnTo>
                  <a:lnTo>
                    <a:pt x="623" y="2301"/>
                  </a:lnTo>
                  <a:lnTo>
                    <a:pt x="606" y="2311"/>
                  </a:lnTo>
                  <a:lnTo>
                    <a:pt x="590" y="2321"/>
                  </a:lnTo>
                  <a:lnTo>
                    <a:pt x="573" y="2330"/>
                  </a:lnTo>
                  <a:lnTo>
                    <a:pt x="556" y="2339"/>
                  </a:lnTo>
                  <a:lnTo>
                    <a:pt x="540" y="2348"/>
                  </a:lnTo>
                  <a:lnTo>
                    <a:pt x="524" y="2357"/>
                  </a:lnTo>
                  <a:lnTo>
                    <a:pt x="507" y="2365"/>
                  </a:lnTo>
                  <a:lnTo>
                    <a:pt x="492" y="2372"/>
                  </a:lnTo>
                  <a:lnTo>
                    <a:pt x="476" y="2379"/>
                  </a:lnTo>
                  <a:lnTo>
                    <a:pt x="461" y="2386"/>
                  </a:lnTo>
                  <a:lnTo>
                    <a:pt x="446" y="2393"/>
                  </a:lnTo>
                  <a:lnTo>
                    <a:pt x="431" y="2399"/>
                  </a:lnTo>
                  <a:lnTo>
                    <a:pt x="416" y="2405"/>
                  </a:lnTo>
                  <a:lnTo>
                    <a:pt x="402" y="2411"/>
                  </a:lnTo>
                  <a:lnTo>
                    <a:pt x="387" y="2415"/>
                  </a:lnTo>
                  <a:lnTo>
                    <a:pt x="373" y="2421"/>
                  </a:lnTo>
                  <a:lnTo>
                    <a:pt x="358" y="2424"/>
                  </a:lnTo>
                  <a:lnTo>
                    <a:pt x="345" y="2428"/>
                  </a:lnTo>
                  <a:lnTo>
                    <a:pt x="330" y="2432"/>
                  </a:lnTo>
                  <a:lnTo>
                    <a:pt x="317" y="2435"/>
                  </a:lnTo>
                  <a:lnTo>
                    <a:pt x="305" y="2438"/>
                  </a:lnTo>
                  <a:lnTo>
                    <a:pt x="291" y="2441"/>
                  </a:lnTo>
                  <a:lnTo>
                    <a:pt x="279" y="2443"/>
                  </a:lnTo>
                  <a:lnTo>
                    <a:pt x="266" y="2445"/>
                  </a:lnTo>
                  <a:lnTo>
                    <a:pt x="254" y="2446"/>
                  </a:lnTo>
                  <a:lnTo>
                    <a:pt x="242" y="2447"/>
                  </a:lnTo>
                  <a:lnTo>
                    <a:pt x="230" y="2447"/>
                  </a:lnTo>
                  <a:lnTo>
                    <a:pt x="219" y="2448"/>
                  </a:lnTo>
                  <a:lnTo>
                    <a:pt x="208" y="2448"/>
                  </a:lnTo>
                  <a:lnTo>
                    <a:pt x="197" y="2447"/>
                  </a:lnTo>
                  <a:lnTo>
                    <a:pt x="186" y="2446"/>
                  </a:lnTo>
                  <a:lnTo>
                    <a:pt x="176" y="2445"/>
                  </a:lnTo>
                  <a:lnTo>
                    <a:pt x="166" y="2444"/>
                  </a:lnTo>
                  <a:lnTo>
                    <a:pt x="156" y="2442"/>
                  </a:lnTo>
                  <a:lnTo>
                    <a:pt x="147" y="2439"/>
                  </a:lnTo>
                  <a:lnTo>
                    <a:pt x="137" y="2436"/>
                  </a:lnTo>
                  <a:lnTo>
                    <a:pt x="128" y="2434"/>
                  </a:lnTo>
                  <a:lnTo>
                    <a:pt x="119" y="2431"/>
                  </a:lnTo>
                  <a:lnTo>
                    <a:pt x="111" y="2426"/>
                  </a:lnTo>
                  <a:lnTo>
                    <a:pt x="103" y="2422"/>
                  </a:lnTo>
                  <a:lnTo>
                    <a:pt x="94" y="2417"/>
                  </a:lnTo>
                  <a:lnTo>
                    <a:pt x="88" y="2413"/>
                  </a:lnTo>
                  <a:lnTo>
                    <a:pt x="80" y="2407"/>
                  </a:lnTo>
                  <a:lnTo>
                    <a:pt x="73" y="2402"/>
                  </a:lnTo>
                  <a:lnTo>
                    <a:pt x="66" y="2396"/>
                  </a:lnTo>
                  <a:lnTo>
                    <a:pt x="60" y="2389"/>
                  </a:lnTo>
                  <a:lnTo>
                    <a:pt x="54" y="2383"/>
                  </a:lnTo>
                  <a:lnTo>
                    <a:pt x="49" y="2375"/>
                  </a:lnTo>
                  <a:lnTo>
                    <a:pt x="43" y="2368"/>
                  </a:lnTo>
                  <a:lnTo>
                    <a:pt x="37" y="2360"/>
                  </a:lnTo>
                  <a:lnTo>
                    <a:pt x="33" y="2352"/>
                  </a:lnTo>
                  <a:lnTo>
                    <a:pt x="29" y="2344"/>
                  </a:lnTo>
                  <a:lnTo>
                    <a:pt x="24" y="2335"/>
                  </a:lnTo>
                  <a:lnTo>
                    <a:pt x="21" y="2326"/>
                  </a:lnTo>
                  <a:lnTo>
                    <a:pt x="17" y="2316"/>
                  </a:lnTo>
                  <a:lnTo>
                    <a:pt x="14" y="2306"/>
                  </a:lnTo>
                  <a:lnTo>
                    <a:pt x="11" y="2296"/>
                  </a:lnTo>
                  <a:lnTo>
                    <a:pt x="9" y="2286"/>
                  </a:lnTo>
                  <a:lnTo>
                    <a:pt x="6" y="2275"/>
                  </a:lnTo>
                  <a:lnTo>
                    <a:pt x="5" y="2264"/>
                  </a:lnTo>
                  <a:lnTo>
                    <a:pt x="3" y="2252"/>
                  </a:lnTo>
                  <a:lnTo>
                    <a:pt x="2" y="2240"/>
                  </a:lnTo>
                  <a:lnTo>
                    <a:pt x="1" y="2228"/>
                  </a:lnTo>
                  <a:lnTo>
                    <a:pt x="1" y="2216"/>
                  </a:lnTo>
                  <a:lnTo>
                    <a:pt x="0" y="2203"/>
                  </a:lnTo>
                  <a:lnTo>
                    <a:pt x="1" y="2190"/>
                  </a:lnTo>
                  <a:lnTo>
                    <a:pt x="1" y="2177"/>
                  </a:lnTo>
                  <a:lnTo>
                    <a:pt x="2" y="2163"/>
                  </a:lnTo>
                  <a:lnTo>
                    <a:pt x="3" y="2149"/>
                  </a:lnTo>
                  <a:lnTo>
                    <a:pt x="4" y="2136"/>
                  </a:lnTo>
                  <a:lnTo>
                    <a:pt x="5" y="2121"/>
                  </a:lnTo>
                  <a:lnTo>
                    <a:pt x="7" y="2105"/>
                  </a:lnTo>
                  <a:lnTo>
                    <a:pt x="10" y="2091"/>
                  </a:lnTo>
                  <a:lnTo>
                    <a:pt x="13" y="2075"/>
                  </a:lnTo>
                  <a:lnTo>
                    <a:pt x="15" y="2060"/>
                  </a:lnTo>
                  <a:lnTo>
                    <a:pt x="19" y="2044"/>
                  </a:lnTo>
                  <a:lnTo>
                    <a:pt x="23" y="2029"/>
                  </a:lnTo>
                  <a:lnTo>
                    <a:pt x="26" y="2012"/>
                  </a:lnTo>
                  <a:lnTo>
                    <a:pt x="31" y="1995"/>
                  </a:lnTo>
                  <a:lnTo>
                    <a:pt x="35" y="1979"/>
                  </a:lnTo>
                  <a:lnTo>
                    <a:pt x="41" y="1962"/>
                  </a:lnTo>
                  <a:lnTo>
                    <a:pt x="45" y="1945"/>
                  </a:lnTo>
                  <a:lnTo>
                    <a:pt x="51" y="1927"/>
                  </a:lnTo>
                  <a:lnTo>
                    <a:pt x="56" y="1910"/>
                  </a:lnTo>
                  <a:lnTo>
                    <a:pt x="63" y="1892"/>
                  </a:lnTo>
                  <a:lnTo>
                    <a:pt x="70" y="1874"/>
                  </a:lnTo>
                  <a:lnTo>
                    <a:pt x="76" y="1856"/>
                  </a:lnTo>
                  <a:lnTo>
                    <a:pt x="83" y="1837"/>
                  </a:lnTo>
                  <a:lnTo>
                    <a:pt x="91" y="1818"/>
                  </a:lnTo>
                  <a:lnTo>
                    <a:pt x="99" y="1799"/>
                  </a:lnTo>
                  <a:lnTo>
                    <a:pt x="107" y="1780"/>
                  </a:lnTo>
                  <a:lnTo>
                    <a:pt x="114" y="1761"/>
                  </a:lnTo>
                  <a:lnTo>
                    <a:pt x="123" y="1743"/>
                  </a:lnTo>
                  <a:lnTo>
                    <a:pt x="132" y="1723"/>
                  </a:lnTo>
                  <a:lnTo>
                    <a:pt x="141" y="1704"/>
                  </a:lnTo>
                  <a:lnTo>
                    <a:pt x="151" y="1684"/>
                  </a:lnTo>
                  <a:lnTo>
                    <a:pt x="160" y="1664"/>
                  </a:lnTo>
                  <a:lnTo>
                    <a:pt x="170" y="1643"/>
                  </a:lnTo>
                  <a:lnTo>
                    <a:pt x="180" y="1623"/>
                  </a:lnTo>
                  <a:lnTo>
                    <a:pt x="191" y="1603"/>
                  </a:lnTo>
                  <a:lnTo>
                    <a:pt x="202" y="1582"/>
                  </a:lnTo>
                  <a:lnTo>
                    <a:pt x="212" y="1562"/>
                  </a:lnTo>
                  <a:lnTo>
                    <a:pt x="225" y="1541"/>
                  </a:lnTo>
                  <a:lnTo>
                    <a:pt x="236" y="1521"/>
                  </a:lnTo>
                  <a:lnTo>
                    <a:pt x="248" y="1500"/>
                  </a:lnTo>
                  <a:lnTo>
                    <a:pt x="259" y="1479"/>
                  </a:lnTo>
                  <a:lnTo>
                    <a:pt x="272" y="1458"/>
                  </a:lnTo>
                  <a:lnTo>
                    <a:pt x="285" y="1436"/>
                  </a:lnTo>
                  <a:lnTo>
                    <a:pt x="297" y="1415"/>
                  </a:lnTo>
                  <a:lnTo>
                    <a:pt x="310" y="1394"/>
                  </a:lnTo>
                  <a:lnTo>
                    <a:pt x="324" y="1373"/>
                  </a:lnTo>
                  <a:lnTo>
                    <a:pt x="337" y="1352"/>
                  </a:lnTo>
                  <a:lnTo>
                    <a:pt x="350" y="1331"/>
                  </a:lnTo>
                  <a:lnTo>
                    <a:pt x="365" y="1309"/>
                  </a:lnTo>
                  <a:lnTo>
                    <a:pt x="379" y="1288"/>
                  </a:lnTo>
                  <a:lnTo>
                    <a:pt x="393" y="1266"/>
                  </a:lnTo>
                  <a:lnTo>
                    <a:pt x="408" y="1245"/>
                  </a:lnTo>
                  <a:lnTo>
                    <a:pt x="423" y="1224"/>
                  </a:lnTo>
                  <a:lnTo>
                    <a:pt x="437" y="1203"/>
                  </a:lnTo>
                  <a:lnTo>
                    <a:pt x="453" y="1180"/>
                  </a:lnTo>
                  <a:lnTo>
                    <a:pt x="468" y="1159"/>
                  </a:lnTo>
                  <a:lnTo>
                    <a:pt x="484" y="1138"/>
                  </a:lnTo>
                  <a:lnTo>
                    <a:pt x="500" y="1117"/>
                  </a:lnTo>
                  <a:lnTo>
                    <a:pt x="515" y="1096"/>
                  </a:lnTo>
                  <a:lnTo>
                    <a:pt x="531" y="1075"/>
                  </a:lnTo>
                  <a:lnTo>
                    <a:pt x="547" y="1053"/>
                  </a:lnTo>
                  <a:lnTo>
                    <a:pt x="564" y="1032"/>
                  </a:lnTo>
                  <a:lnTo>
                    <a:pt x="580" y="1011"/>
                  </a:lnTo>
                  <a:lnTo>
                    <a:pt x="596" y="990"/>
                  </a:lnTo>
                  <a:lnTo>
                    <a:pt x="614" y="969"/>
                  </a:lnTo>
                  <a:lnTo>
                    <a:pt x="631" y="948"/>
                  </a:lnTo>
                  <a:lnTo>
                    <a:pt x="648" y="927"/>
                  </a:lnTo>
                  <a:lnTo>
                    <a:pt x="665" y="906"/>
                  </a:lnTo>
                  <a:lnTo>
                    <a:pt x="682" y="885"/>
                  </a:lnTo>
                  <a:lnTo>
                    <a:pt x="700" y="865"/>
                  </a:lnTo>
                  <a:lnTo>
                    <a:pt x="718" y="844"/>
                  </a:lnTo>
                  <a:lnTo>
                    <a:pt x="736" y="824"/>
                  </a:lnTo>
                  <a:lnTo>
                    <a:pt x="752" y="804"/>
                  </a:lnTo>
                  <a:lnTo>
                    <a:pt x="771" y="784"/>
                  </a:lnTo>
                  <a:lnTo>
                    <a:pt x="789" y="764"/>
                  </a:lnTo>
                  <a:lnTo>
                    <a:pt x="807" y="744"/>
                  </a:lnTo>
                  <a:lnTo>
                    <a:pt x="825" y="725"/>
                  </a:lnTo>
                  <a:lnTo>
                    <a:pt x="843" y="705"/>
                  </a:lnTo>
                  <a:lnTo>
                    <a:pt x="861" y="686"/>
                  </a:lnTo>
                  <a:lnTo>
                    <a:pt x="879" y="667"/>
                  </a:lnTo>
                  <a:lnTo>
                    <a:pt x="898" y="648"/>
                  </a:lnTo>
                  <a:lnTo>
                    <a:pt x="916" y="629"/>
                  </a:lnTo>
                  <a:lnTo>
                    <a:pt x="935" y="610"/>
                  </a:lnTo>
                  <a:lnTo>
                    <a:pt x="954" y="591"/>
                  </a:lnTo>
                  <a:lnTo>
                    <a:pt x="972" y="574"/>
                  </a:lnTo>
                  <a:lnTo>
                    <a:pt x="991" y="556"/>
                  </a:lnTo>
                  <a:lnTo>
                    <a:pt x="1010" y="538"/>
                  </a:lnTo>
                  <a:lnTo>
                    <a:pt x="1027" y="520"/>
                  </a:lnTo>
                  <a:lnTo>
                    <a:pt x="1046" y="502"/>
                  </a:lnTo>
                  <a:lnTo>
                    <a:pt x="1065" y="486"/>
                  </a:lnTo>
                  <a:lnTo>
                    <a:pt x="1084" y="469"/>
                  </a:lnTo>
                  <a:lnTo>
                    <a:pt x="1102" y="452"/>
                  </a:lnTo>
                  <a:lnTo>
                    <a:pt x="1121" y="436"/>
                  </a:lnTo>
                  <a:lnTo>
                    <a:pt x="1140" y="419"/>
                  </a:lnTo>
                  <a:lnTo>
                    <a:pt x="1159" y="403"/>
                  </a:lnTo>
                  <a:lnTo>
                    <a:pt x="1177" y="388"/>
                  </a:lnTo>
                  <a:lnTo>
                    <a:pt x="1195" y="372"/>
                  </a:lnTo>
                  <a:lnTo>
                    <a:pt x="1213" y="357"/>
                  </a:lnTo>
                  <a:lnTo>
                    <a:pt x="1232" y="342"/>
                  </a:lnTo>
                  <a:lnTo>
                    <a:pt x="1251" y="328"/>
                  </a:lnTo>
                  <a:lnTo>
                    <a:pt x="1269" y="313"/>
                  </a:lnTo>
                  <a:lnTo>
                    <a:pt x="1287" y="299"/>
                  </a:lnTo>
                  <a:lnTo>
                    <a:pt x="1306" y="284"/>
                  </a:lnTo>
                  <a:lnTo>
                    <a:pt x="1323" y="271"/>
                  </a:lnTo>
                  <a:lnTo>
                    <a:pt x="1341" y="257"/>
                  </a:lnTo>
                  <a:lnTo>
                    <a:pt x="1359" y="245"/>
                  </a:lnTo>
                  <a:lnTo>
                    <a:pt x="1377" y="232"/>
                  </a:lnTo>
                  <a:lnTo>
                    <a:pt x="1395" y="220"/>
                  </a:lnTo>
                  <a:lnTo>
                    <a:pt x="1413" y="207"/>
                  </a:lnTo>
                  <a:lnTo>
                    <a:pt x="1430" y="196"/>
                  </a:lnTo>
                  <a:lnTo>
                    <a:pt x="1448" y="184"/>
                  </a:lnTo>
                  <a:lnTo>
                    <a:pt x="1465" y="173"/>
                  </a:lnTo>
                  <a:lnTo>
                    <a:pt x="1483" y="163"/>
                  </a:lnTo>
                  <a:lnTo>
                    <a:pt x="1499" y="152"/>
                  </a:lnTo>
                  <a:lnTo>
                    <a:pt x="1516" y="142"/>
                  </a:lnTo>
                  <a:lnTo>
                    <a:pt x="1534" y="132"/>
                  </a:lnTo>
                  <a:lnTo>
                    <a:pt x="1551" y="123"/>
                  </a:lnTo>
                  <a:lnTo>
                    <a:pt x="1566" y="114"/>
                  </a:lnTo>
                  <a:lnTo>
                    <a:pt x="1583" y="105"/>
                  </a:lnTo>
                  <a:lnTo>
                    <a:pt x="1600" y="96"/>
                  </a:lnTo>
                  <a:lnTo>
                    <a:pt x="1615" y="88"/>
                  </a:lnTo>
                  <a:lnTo>
                    <a:pt x="1631" y="80"/>
                  </a:lnTo>
                  <a:lnTo>
                    <a:pt x="1646" y="73"/>
                  </a:lnTo>
                  <a:lnTo>
                    <a:pt x="1662" y="66"/>
                  </a:lnTo>
                  <a:lnTo>
                    <a:pt x="1678" y="59"/>
                  </a:lnTo>
                  <a:lnTo>
                    <a:pt x="1693" y="53"/>
                  </a:lnTo>
                  <a:lnTo>
                    <a:pt x="1708" y="47"/>
                  </a:lnTo>
                  <a:lnTo>
                    <a:pt x="1722" y="41"/>
                  </a:lnTo>
                  <a:lnTo>
                    <a:pt x="1738" y="36"/>
                  </a:lnTo>
                  <a:lnTo>
                    <a:pt x="1751" y="30"/>
                  </a:lnTo>
                  <a:lnTo>
                    <a:pt x="1766" y="26"/>
                  </a:lnTo>
                  <a:lnTo>
                    <a:pt x="1780" y="23"/>
                  </a:lnTo>
                  <a:lnTo>
                    <a:pt x="1793" y="18"/>
                  </a:lnTo>
                  <a:lnTo>
                    <a:pt x="1807" y="15"/>
                  </a:lnTo>
                  <a:lnTo>
                    <a:pt x="1820" y="11"/>
                  </a:lnTo>
                  <a:lnTo>
                    <a:pt x="1833" y="9"/>
                  </a:lnTo>
                  <a:lnTo>
                    <a:pt x="1846" y="7"/>
                  </a:lnTo>
                  <a:lnTo>
                    <a:pt x="1859" y="5"/>
                  </a:lnTo>
                  <a:lnTo>
                    <a:pt x="1871" y="4"/>
                  </a:lnTo>
                  <a:lnTo>
                    <a:pt x="1884" y="2"/>
                  </a:lnTo>
                  <a:lnTo>
                    <a:pt x="1895" y="1"/>
                  </a:lnTo>
                  <a:lnTo>
                    <a:pt x="1907" y="0"/>
                  </a:lnTo>
                  <a:lnTo>
                    <a:pt x="1918" y="0"/>
                  </a:lnTo>
                  <a:lnTo>
                    <a:pt x="1929" y="1"/>
                  </a:lnTo>
                  <a:lnTo>
                    <a:pt x="1939" y="1"/>
                  </a:lnTo>
                  <a:lnTo>
                    <a:pt x="1950" y="2"/>
                  </a:lnTo>
                  <a:lnTo>
                    <a:pt x="1960" y="4"/>
                  </a:lnTo>
                  <a:lnTo>
                    <a:pt x="1970" y="6"/>
                  </a:lnTo>
                  <a:lnTo>
                    <a:pt x="1980" y="8"/>
                  </a:lnTo>
                  <a:lnTo>
                    <a:pt x="1989" y="10"/>
                  </a:lnTo>
                  <a:lnTo>
                    <a:pt x="1998" y="14"/>
                  </a:lnTo>
                  <a:lnTo>
                    <a:pt x="2007" y="17"/>
                  </a:lnTo>
                  <a:lnTo>
                    <a:pt x="2016" y="20"/>
                  </a:lnTo>
                  <a:lnTo>
                    <a:pt x="2024" y="25"/>
                  </a:lnTo>
                  <a:lnTo>
                    <a:pt x="2033" y="29"/>
                  </a:lnTo>
                  <a:lnTo>
                    <a:pt x="2041" y="34"/>
                  </a:lnTo>
                  <a:lnTo>
                    <a:pt x="2047" y="38"/>
                  </a:lnTo>
                  <a:lnTo>
                    <a:pt x="2055" y="44"/>
                  </a:lnTo>
                  <a:lnTo>
                    <a:pt x="2062" y="50"/>
                  </a:lnTo>
                  <a:lnTo>
                    <a:pt x="2067" y="56"/>
                  </a:lnTo>
                  <a:lnTo>
                    <a:pt x="2074" y="63"/>
                  </a:lnTo>
                  <a:lnTo>
                    <a:pt x="2080" y="69"/>
                  </a:lnTo>
                  <a:lnTo>
                    <a:pt x="2085" y="77"/>
                  </a:lnTo>
                  <a:lnTo>
                    <a:pt x="2091" y="85"/>
                  </a:lnTo>
                  <a:lnTo>
                    <a:pt x="2095" y="93"/>
                  </a:lnTo>
                  <a:lnTo>
                    <a:pt x="2100" y="100"/>
                  </a:lnTo>
                  <a:lnTo>
                    <a:pt x="2104" y="109"/>
                  </a:lnTo>
                  <a:lnTo>
                    <a:pt x="2108" y="118"/>
                  </a:lnTo>
                  <a:lnTo>
                    <a:pt x="2112" y="128"/>
                  </a:lnTo>
                  <a:lnTo>
                    <a:pt x="2115" y="137"/>
                  </a:lnTo>
                  <a:lnTo>
                    <a:pt x="2118" y="147"/>
                  </a:lnTo>
                  <a:lnTo>
                    <a:pt x="2121" y="157"/>
                  </a:lnTo>
                  <a:lnTo>
                    <a:pt x="2123" y="168"/>
                  </a:lnTo>
                  <a:lnTo>
                    <a:pt x="2125" y="180"/>
                  </a:lnTo>
                  <a:lnTo>
                    <a:pt x="2127" y="191"/>
                  </a:lnTo>
                  <a:lnTo>
                    <a:pt x="2128" y="203"/>
                  </a:lnTo>
                  <a:lnTo>
                    <a:pt x="2130" y="214"/>
                  </a:lnTo>
                  <a:lnTo>
                    <a:pt x="2131" y="226"/>
                  </a:lnTo>
                  <a:lnTo>
                    <a:pt x="2131" y="240"/>
                  </a:lnTo>
                  <a:lnTo>
                    <a:pt x="2131" y="252"/>
                  </a:lnTo>
                  <a:lnTo>
                    <a:pt x="2131" y="265"/>
                  </a:lnTo>
                  <a:lnTo>
                    <a:pt x="2130" y="279"/>
                  </a:lnTo>
                  <a:lnTo>
                    <a:pt x="2130" y="292"/>
                  </a:lnTo>
                  <a:lnTo>
                    <a:pt x="2128" y="306"/>
                  </a:lnTo>
                  <a:lnTo>
                    <a:pt x="2126" y="321"/>
                  </a:lnTo>
                  <a:lnTo>
                    <a:pt x="2124" y="335"/>
                  </a:lnTo>
                  <a:lnTo>
                    <a:pt x="2122" y="350"/>
                  </a:lnTo>
                  <a:lnTo>
                    <a:pt x="2120" y="365"/>
                  </a:lnTo>
                  <a:lnTo>
                    <a:pt x="2117" y="381"/>
                  </a:lnTo>
                  <a:lnTo>
                    <a:pt x="2114" y="397"/>
                  </a:lnTo>
                  <a:lnTo>
                    <a:pt x="2111" y="412"/>
                  </a:lnTo>
                  <a:lnTo>
                    <a:pt x="2106" y="428"/>
                  </a:lnTo>
                  <a:lnTo>
                    <a:pt x="2103" y="444"/>
                  </a:lnTo>
                  <a:lnTo>
                    <a:pt x="2098" y="461"/>
                  </a:lnTo>
                  <a:lnTo>
                    <a:pt x="2093" y="478"/>
                  </a:lnTo>
                  <a:lnTo>
                    <a:pt x="2088" y="496"/>
                  </a:lnTo>
                  <a:lnTo>
                    <a:pt x="2083" y="512"/>
                  </a:lnTo>
                  <a:lnTo>
                    <a:pt x="2077" y="530"/>
                  </a:lnTo>
                  <a:lnTo>
                    <a:pt x="2071" y="548"/>
                  </a:lnTo>
                  <a:lnTo>
                    <a:pt x="2065" y="566"/>
                  </a:lnTo>
                  <a:lnTo>
                    <a:pt x="2058" y="584"/>
                  </a:lnTo>
                  <a:lnTo>
                    <a:pt x="2052" y="603"/>
                  </a:lnTo>
                  <a:lnTo>
                    <a:pt x="2044" y="620"/>
                  </a:lnTo>
                  <a:lnTo>
                    <a:pt x="2036" y="639"/>
                  </a:lnTo>
                  <a:lnTo>
                    <a:pt x="2028" y="658"/>
                  </a:lnTo>
                  <a:lnTo>
                    <a:pt x="2020" y="677"/>
                  </a:lnTo>
                  <a:lnTo>
                    <a:pt x="2013" y="696"/>
                  </a:lnTo>
                  <a:lnTo>
                    <a:pt x="2004" y="716"/>
                  </a:lnTo>
                  <a:lnTo>
                    <a:pt x="1995" y="735"/>
                  </a:lnTo>
                  <a:lnTo>
                    <a:pt x="1985" y="755"/>
                  </a:lnTo>
                  <a:lnTo>
                    <a:pt x="1976" y="775"/>
                  </a:lnTo>
                  <a:lnTo>
                    <a:pt x="1966" y="795"/>
                  </a:lnTo>
                  <a:lnTo>
                    <a:pt x="1956" y="815"/>
                  </a:lnTo>
                  <a:lnTo>
                    <a:pt x="1945" y="835"/>
                  </a:lnTo>
                  <a:lnTo>
                    <a:pt x="1935" y="856"/>
                  </a:lnTo>
                  <a:lnTo>
                    <a:pt x="1924" y="876"/>
                  </a:lnTo>
                  <a:lnTo>
                    <a:pt x="1912" y="896"/>
                  </a:lnTo>
                  <a:lnTo>
                    <a:pt x="1901" y="918"/>
                  </a:lnTo>
                  <a:lnTo>
                    <a:pt x="1889" y="939"/>
                  </a:lnTo>
                  <a:lnTo>
                    <a:pt x="1878" y="959"/>
                  </a:lnTo>
                  <a:lnTo>
                    <a:pt x="1866" y="980"/>
                  </a:lnTo>
                  <a:lnTo>
                    <a:pt x="1852" y="1001"/>
                  </a:lnTo>
                  <a:lnTo>
                    <a:pt x="1840" y="1022"/>
                  </a:lnTo>
                  <a:lnTo>
                    <a:pt x="1827" y="1043"/>
                  </a:lnTo>
                  <a:lnTo>
                    <a:pt x="1815" y="1065"/>
                  </a:lnTo>
                  <a:lnTo>
                    <a:pt x="1801" y="1086"/>
                  </a:lnTo>
                  <a:lnTo>
                    <a:pt x="1787" y="1107"/>
                  </a:lnTo>
                  <a:lnTo>
                    <a:pt x="1773" y="1128"/>
                  </a:lnTo>
                  <a:lnTo>
                    <a:pt x="1759" y="1150"/>
                  </a:lnTo>
                  <a:lnTo>
                    <a:pt x="1745" y="1171"/>
                  </a:lnTo>
                  <a:lnTo>
                    <a:pt x="1731" y="1193"/>
                  </a:lnTo>
                  <a:lnTo>
                    <a:pt x="1715" y="1214"/>
                  </a:lnTo>
                  <a:lnTo>
                    <a:pt x="1701" y="1236"/>
                  </a:lnTo>
                  <a:lnTo>
                    <a:pt x="1686" y="1257"/>
                  </a:lnTo>
                  <a:lnTo>
                    <a:pt x="1671" y="1278"/>
                  </a:lnTo>
                  <a:lnTo>
                    <a:pt x="1655" y="1299"/>
                  </a:lnTo>
                  <a:lnTo>
                    <a:pt x="1640" y="1321"/>
                  </a:lnTo>
                  <a:lnTo>
                    <a:pt x="1624" y="1343"/>
                  </a:lnTo>
                  <a:lnTo>
                    <a:pt x="1607" y="1364"/>
                  </a:lnTo>
                  <a:lnTo>
                    <a:pt x="1592" y="1385"/>
                  </a:lnTo>
                  <a:lnTo>
                    <a:pt x="1575" y="1406"/>
                  </a:lnTo>
                  <a:lnTo>
                    <a:pt x="1560" y="1427"/>
                  </a:lnTo>
                  <a:lnTo>
                    <a:pt x="1543" y="1449"/>
                  </a:lnTo>
                  <a:lnTo>
                    <a:pt x="1526" y="1470"/>
                  </a:lnTo>
                  <a:lnTo>
                    <a:pt x="1508" y="1491"/>
                  </a:lnTo>
                  <a:lnTo>
                    <a:pt x="1492" y="1511"/>
                  </a:lnTo>
                  <a:lnTo>
                    <a:pt x="1475" y="1532"/>
                  </a:lnTo>
                  <a:lnTo>
                    <a:pt x="1457" y="1552"/>
                  </a:lnTo>
                  <a:lnTo>
                    <a:pt x="1457" y="1553"/>
                  </a:lnTo>
                  <a:close/>
                </a:path>
              </a:pathLst>
            </a:custGeom>
            <a:solidFill>
              <a:srgbClr val="b2b2b2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7800" y="4715280"/>
              <a:ext cx="521280" cy="604080"/>
            </a:xfrm>
            <a:custGeom>
              <a:avLst/>
              <a:gdLst/>
              <a:ahLst/>
              <a:rect l="l" t="t" r="r" b="b"/>
              <a:pathLst>
                <a:path w="2131" h="2447">
                  <a:moveTo>
                    <a:pt x="1457" y="1552"/>
                  </a:moveTo>
                  <a:lnTo>
                    <a:pt x="1440" y="1572"/>
                  </a:lnTo>
                  <a:lnTo>
                    <a:pt x="1422" y="1594"/>
                  </a:lnTo>
                  <a:lnTo>
                    <a:pt x="1405" y="1614"/>
                  </a:lnTo>
                  <a:lnTo>
                    <a:pt x="1387" y="1634"/>
                  </a:lnTo>
                  <a:lnTo>
                    <a:pt x="1370" y="1654"/>
                  </a:lnTo>
                  <a:lnTo>
                    <a:pt x="1352" y="1674"/>
                  </a:lnTo>
                  <a:lnTo>
                    <a:pt x="1333" y="1694"/>
                  </a:lnTo>
                  <a:lnTo>
                    <a:pt x="1315" y="1714"/>
                  </a:lnTo>
                  <a:lnTo>
                    <a:pt x="1297" y="1733"/>
                  </a:lnTo>
                  <a:lnTo>
                    <a:pt x="1279" y="1753"/>
                  </a:lnTo>
                  <a:lnTo>
                    <a:pt x="1260" y="1772"/>
                  </a:lnTo>
                  <a:lnTo>
                    <a:pt x="1243" y="1791"/>
                  </a:lnTo>
                  <a:lnTo>
                    <a:pt x="1224" y="1810"/>
                  </a:lnTo>
                  <a:lnTo>
                    <a:pt x="1205" y="1828"/>
                  </a:lnTo>
                  <a:lnTo>
                    <a:pt x="1187" y="1847"/>
                  </a:lnTo>
                  <a:lnTo>
                    <a:pt x="1168" y="1865"/>
                  </a:lnTo>
                  <a:lnTo>
                    <a:pt x="1150" y="1883"/>
                  </a:lnTo>
                  <a:lnTo>
                    <a:pt x="1131" y="1902"/>
                  </a:lnTo>
                  <a:lnTo>
                    <a:pt x="1112" y="1919"/>
                  </a:lnTo>
                  <a:lnTo>
                    <a:pt x="1093" y="1936"/>
                  </a:lnTo>
                  <a:lnTo>
                    <a:pt x="1076" y="1954"/>
                  </a:lnTo>
                  <a:lnTo>
                    <a:pt x="1057" y="1971"/>
                  </a:lnTo>
                  <a:lnTo>
                    <a:pt x="1038" y="1988"/>
                  </a:lnTo>
                  <a:lnTo>
                    <a:pt x="1019" y="2004"/>
                  </a:lnTo>
                  <a:lnTo>
                    <a:pt x="1001" y="2021"/>
                  </a:lnTo>
                  <a:lnTo>
                    <a:pt x="982" y="2037"/>
                  </a:lnTo>
                  <a:lnTo>
                    <a:pt x="963" y="2053"/>
                  </a:lnTo>
                  <a:lnTo>
                    <a:pt x="945" y="2069"/>
                  </a:lnTo>
                  <a:lnTo>
                    <a:pt x="926" y="2083"/>
                  </a:lnTo>
                  <a:lnTo>
                    <a:pt x="907" y="2099"/>
                  </a:lnTo>
                  <a:lnTo>
                    <a:pt x="890" y="2113"/>
                  </a:lnTo>
                  <a:lnTo>
                    <a:pt x="871" y="2128"/>
                  </a:lnTo>
                  <a:lnTo>
                    <a:pt x="853" y="2142"/>
                  </a:lnTo>
                  <a:lnTo>
                    <a:pt x="835" y="2157"/>
                  </a:lnTo>
                  <a:lnTo>
                    <a:pt x="816" y="2170"/>
                  </a:lnTo>
                  <a:lnTo>
                    <a:pt x="798" y="2184"/>
                  </a:lnTo>
                  <a:lnTo>
                    <a:pt x="781" y="2197"/>
                  </a:lnTo>
                  <a:lnTo>
                    <a:pt x="763" y="2210"/>
                  </a:lnTo>
                  <a:lnTo>
                    <a:pt x="745" y="2223"/>
                  </a:lnTo>
                  <a:lnTo>
                    <a:pt x="727" y="2235"/>
                  </a:lnTo>
                  <a:lnTo>
                    <a:pt x="709" y="2246"/>
                  </a:lnTo>
                  <a:lnTo>
                    <a:pt x="691" y="2258"/>
                  </a:lnTo>
                  <a:lnTo>
                    <a:pt x="675" y="2269"/>
                  </a:lnTo>
                  <a:lnTo>
                    <a:pt x="657" y="2280"/>
                  </a:lnTo>
                  <a:lnTo>
                    <a:pt x="640" y="2290"/>
                  </a:lnTo>
                  <a:lnTo>
                    <a:pt x="622" y="2302"/>
                  </a:lnTo>
                  <a:lnTo>
                    <a:pt x="606" y="2312"/>
                  </a:lnTo>
                  <a:lnTo>
                    <a:pt x="589" y="2321"/>
                  </a:lnTo>
                  <a:lnTo>
                    <a:pt x="572" y="2331"/>
                  </a:lnTo>
                  <a:lnTo>
                    <a:pt x="556" y="2339"/>
                  </a:lnTo>
                  <a:lnTo>
                    <a:pt x="540" y="2348"/>
                  </a:lnTo>
                  <a:lnTo>
                    <a:pt x="523" y="2356"/>
                  </a:lnTo>
                  <a:lnTo>
                    <a:pt x="508" y="2364"/>
                  </a:lnTo>
                  <a:lnTo>
                    <a:pt x="492" y="2372"/>
                  </a:lnTo>
                  <a:lnTo>
                    <a:pt x="477" y="2378"/>
                  </a:lnTo>
                  <a:lnTo>
                    <a:pt x="461" y="2386"/>
                  </a:lnTo>
                  <a:lnTo>
                    <a:pt x="445" y="2393"/>
                  </a:lnTo>
                  <a:lnTo>
                    <a:pt x="431" y="2398"/>
                  </a:lnTo>
                  <a:lnTo>
                    <a:pt x="415" y="2404"/>
                  </a:lnTo>
                  <a:lnTo>
                    <a:pt x="401" y="2410"/>
                  </a:lnTo>
                  <a:lnTo>
                    <a:pt x="386" y="2415"/>
                  </a:lnTo>
                  <a:lnTo>
                    <a:pt x="372" y="2420"/>
                  </a:lnTo>
                  <a:lnTo>
                    <a:pt x="359" y="2424"/>
                  </a:lnTo>
                  <a:lnTo>
                    <a:pt x="344" y="2429"/>
                  </a:lnTo>
                  <a:lnTo>
                    <a:pt x="331" y="2432"/>
                  </a:lnTo>
                  <a:lnTo>
                    <a:pt x="317" y="2435"/>
                  </a:lnTo>
                  <a:lnTo>
                    <a:pt x="304" y="2437"/>
                  </a:lnTo>
                  <a:lnTo>
                    <a:pt x="292" y="2441"/>
                  </a:lnTo>
                  <a:lnTo>
                    <a:pt x="278" y="2442"/>
                  </a:lnTo>
                  <a:lnTo>
                    <a:pt x="266" y="2444"/>
                  </a:lnTo>
                  <a:lnTo>
                    <a:pt x="254" y="2445"/>
                  </a:lnTo>
                  <a:lnTo>
                    <a:pt x="242" y="2446"/>
                  </a:lnTo>
                  <a:lnTo>
                    <a:pt x="230" y="2447"/>
                  </a:lnTo>
                  <a:lnTo>
                    <a:pt x="219" y="2447"/>
                  </a:lnTo>
                  <a:lnTo>
                    <a:pt x="207" y="2447"/>
                  </a:lnTo>
                  <a:lnTo>
                    <a:pt x="197" y="2447"/>
                  </a:lnTo>
                  <a:lnTo>
                    <a:pt x="186" y="2446"/>
                  </a:lnTo>
                  <a:lnTo>
                    <a:pt x="176" y="2445"/>
                  </a:lnTo>
                  <a:lnTo>
                    <a:pt x="166" y="2443"/>
                  </a:lnTo>
                  <a:lnTo>
                    <a:pt x="156" y="2441"/>
                  </a:lnTo>
                  <a:lnTo>
                    <a:pt x="146" y="2439"/>
                  </a:lnTo>
                  <a:lnTo>
                    <a:pt x="137" y="2436"/>
                  </a:lnTo>
                  <a:lnTo>
                    <a:pt x="128" y="2433"/>
                  </a:lnTo>
                  <a:lnTo>
                    <a:pt x="119" y="2430"/>
                  </a:lnTo>
                  <a:lnTo>
                    <a:pt x="110" y="2426"/>
                  </a:lnTo>
                  <a:lnTo>
                    <a:pt x="102" y="2422"/>
                  </a:lnTo>
                  <a:lnTo>
                    <a:pt x="95" y="2417"/>
                  </a:lnTo>
                  <a:lnTo>
                    <a:pt x="87" y="2412"/>
                  </a:lnTo>
                  <a:lnTo>
                    <a:pt x="80" y="2407"/>
                  </a:lnTo>
                  <a:lnTo>
                    <a:pt x="74" y="2401"/>
                  </a:lnTo>
                  <a:lnTo>
                    <a:pt x="67" y="2395"/>
                  </a:lnTo>
                  <a:lnTo>
                    <a:pt x="60" y="2388"/>
                  </a:lnTo>
                  <a:lnTo>
                    <a:pt x="55" y="2382"/>
                  </a:lnTo>
                  <a:lnTo>
                    <a:pt x="48" y="2375"/>
                  </a:lnTo>
                  <a:lnTo>
                    <a:pt x="43" y="2367"/>
                  </a:lnTo>
                  <a:lnTo>
                    <a:pt x="38" y="2359"/>
                  </a:lnTo>
                  <a:lnTo>
                    <a:pt x="33" y="2352"/>
                  </a:lnTo>
                  <a:lnTo>
                    <a:pt x="29" y="2343"/>
                  </a:lnTo>
                  <a:lnTo>
                    <a:pt x="25" y="2334"/>
                  </a:lnTo>
                  <a:lnTo>
                    <a:pt x="21" y="2325"/>
                  </a:lnTo>
                  <a:lnTo>
                    <a:pt x="18" y="2316"/>
                  </a:lnTo>
                  <a:lnTo>
                    <a:pt x="14" y="2306"/>
                  </a:lnTo>
                  <a:lnTo>
                    <a:pt x="11" y="2296"/>
                  </a:lnTo>
                  <a:lnTo>
                    <a:pt x="9" y="2285"/>
                  </a:lnTo>
                  <a:lnTo>
                    <a:pt x="7" y="2274"/>
                  </a:lnTo>
                  <a:lnTo>
                    <a:pt x="4" y="2263"/>
                  </a:lnTo>
                  <a:lnTo>
                    <a:pt x="3" y="2252"/>
                  </a:lnTo>
                  <a:lnTo>
                    <a:pt x="2" y="2240"/>
                  </a:lnTo>
                  <a:lnTo>
                    <a:pt x="1" y="2228"/>
                  </a:lnTo>
                  <a:lnTo>
                    <a:pt x="0" y="2216"/>
                  </a:lnTo>
                  <a:lnTo>
                    <a:pt x="0" y="2203"/>
                  </a:lnTo>
                  <a:lnTo>
                    <a:pt x="0" y="2189"/>
                  </a:lnTo>
                  <a:lnTo>
                    <a:pt x="1" y="2177"/>
                  </a:lnTo>
                  <a:lnTo>
                    <a:pt x="1" y="2162"/>
                  </a:lnTo>
                  <a:lnTo>
                    <a:pt x="2" y="2149"/>
                  </a:lnTo>
                  <a:lnTo>
                    <a:pt x="3" y="2135"/>
                  </a:lnTo>
                  <a:lnTo>
                    <a:pt x="6" y="2120"/>
                  </a:lnTo>
                  <a:lnTo>
                    <a:pt x="8" y="2106"/>
                  </a:lnTo>
                  <a:lnTo>
                    <a:pt x="10" y="2090"/>
                  </a:lnTo>
                  <a:lnTo>
                    <a:pt x="12" y="2076"/>
                  </a:lnTo>
                  <a:lnTo>
                    <a:pt x="16" y="2060"/>
                  </a:lnTo>
                  <a:lnTo>
                    <a:pt x="19" y="2044"/>
                  </a:lnTo>
                  <a:lnTo>
                    <a:pt x="22" y="2028"/>
                  </a:lnTo>
                  <a:lnTo>
                    <a:pt x="27" y="2012"/>
                  </a:lnTo>
                  <a:lnTo>
                    <a:pt x="31" y="1995"/>
                  </a:lnTo>
                  <a:lnTo>
                    <a:pt x="36" y="1979"/>
                  </a:lnTo>
                  <a:lnTo>
                    <a:pt x="40" y="1962"/>
                  </a:lnTo>
                  <a:lnTo>
                    <a:pt x="46" y="1944"/>
                  </a:lnTo>
                  <a:lnTo>
                    <a:pt x="51" y="1926"/>
                  </a:lnTo>
                  <a:lnTo>
                    <a:pt x="57" y="1910"/>
                  </a:lnTo>
                  <a:lnTo>
                    <a:pt x="63" y="1892"/>
                  </a:lnTo>
                  <a:lnTo>
                    <a:pt x="69" y="1873"/>
                  </a:lnTo>
                  <a:lnTo>
                    <a:pt x="76" y="1855"/>
                  </a:lnTo>
                  <a:lnTo>
                    <a:pt x="84" y="1836"/>
                  </a:lnTo>
                  <a:lnTo>
                    <a:pt x="90" y="1818"/>
                  </a:lnTo>
                  <a:lnTo>
                    <a:pt x="98" y="1800"/>
                  </a:lnTo>
                  <a:lnTo>
                    <a:pt x="106" y="1781"/>
                  </a:lnTo>
                  <a:lnTo>
                    <a:pt x="115" y="1762"/>
                  </a:lnTo>
                  <a:lnTo>
                    <a:pt x="124" y="1742"/>
                  </a:lnTo>
                  <a:lnTo>
                    <a:pt x="133" y="1723"/>
                  </a:lnTo>
                  <a:lnTo>
                    <a:pt x="141" y="1703"/>
                  </a:lnTo>
                  <a:lnTo>
                    <a:pt x="150" y="1683"/>
                  </a:lnTo>
                  <a:lnTo>
                    <a:pt x="160" y="1663"/>
                  </a:lnTo>
                  <a:lnTo>
                    <a:pt x="170" y="1643"/>
                  </a:lnTo>
                  <a:lnTo>
                    <a:pt x="180" y="1623"/>
                  </a:lnTo>
                  <a:lnTo>
                    <a:pt x="190" y="1602"/>
                  </a:lnTo>
                  <a:lnTo>
                    <a:pt x="202" y="1582"/>
                  </a:lnTo>
                  <a:lnTo>
                    <a:pt x="213" y="1561"/>
                  </a:lnTo>
                  <a:lnTo>
                    <a:pt x="224" y="1541"/>
                  </a:lnTo>
                  <a:lnTo>
                    <a:pt x="236" y="1520"/>
                  </a:lnTo>
                  <a:lnTo>
                    <a:pt x="247" y="1499"/>
                  </a:lnTo>
                  <a:lnTo>
                    <a:pt x="259" y="1479"/>
                  </a:lnTo>
                  <a:lnTo>
                    <a:pt x="272" y="1458"/>
                  </a:lnTo>
                  <a:lnTo>
                    <a:pt x="284" y="1437"/>
                  </a:lnTo>
                  <a:lnTo>
                    <a:pt x="297" y="1415"/>
                  </a:lnTo>
                  <a:lnTo>
                    <a:pt x="311" y="1394"/>
                  </a:lnTo>
                  <a:lnTo>
                    <a:pt x="324" y="1373"/>
                  </a:lnTo>
                  <a:lnTo>
                    <a:pt x="337" y="1352"/>
                  </a:lnTo>
                  <a:lnTo>
                    <a:pt x="351" y="1330"/>
                  </a:lnTo>
                  <a:lnTo>
                    <a:pt x="364" y="1309"/>
                  </a:lnTo>
                  <a:lnTo>
                    <a:pt x="379" y="1287"/>
                  </a:lnTo>
                  <a:lnTo>
                    <a:pt x="393" y="1266"/>
                  </a:lnTo>
                  <a:lnTo>
                    <a:pt x="408" y="1245"/>
                  </a:lnTo>
                  <a:lnTo>
                    <a:pt x="422" y="1223"/>
                  </a:lnTo>
                  <a:lnTo>
                    <a:pt x="438" y="1202"/>
                  </a:lnTo>
                  <a:lnTo>
                    <a:pt x="452" y="1181"/>
                  </a:lnTo>
                  <a:lnTo>
                    <a:pt x="468" y="1159"/>
                  </a:lnTo>
                  <a:lnTo>
                    <a:pt x="483" y="1138"/>
                  </a:lnTo>
                  <a:lnTo>
                    <a:pt x="499" y="1116"/>
                  </a:lnTo>
                  <a:lnTo>
                    <a:pt x="516" y="1095"/>
                  </a:lnTo>
                  <a:lnTo>
                    <a:pt x="531" y="1074"/>
                  </a:lnTo>
                  <a:lnTo>
                    <a:pt x="548" y="1053"/>
                  </a:lnTo>
                  <a:lnTo>
                    <a:pt x="563" y="1031"/>
                  </a:lnTo>
                  <a:lnTo>
                    <a:pt x="580" y="1010"/>
                  </a:lnTo>
                  <a:lnTo>
                    <a:pt x="597" y="989"/>
                  </a:lnTo>
                  <a:lnTo>
                    <a:pt x="614" y="968"/>
                  </a:lnTo>
                  <a:lnTo>
                    <a:pt x="630" y="948"/>
                  </a:lnTo>
                  <a:lnTo>
                    <a:pt x="648" y="927"/>
                  </a:lnTo>
                  <a:lnTo>
                    <a:pt x="665" y="906"/>
                  </a:lnTo>
                  <a:lnTo>
                    <a:pt x="683" y="886"/>
                  </a:lnTo>
                  <a:lnTo>
                    <a:pt x="699" y="864"/>
                  </a:lnTo>
                  <a:lnTo>
                    <a:pt x="717" y="844"/>
                  </a:lnTo>
                  <a:lnTo>
                    <a:pt x="735" y="824"/>
                  </a:lnTo>
                  <a:lnTo>
                    <a:pt x="753" y="804"/>
                  </a:lnTo>
                  <a:lnTo>
                    <a:pt x="771" y="784"/>
                  </a:lnTo>
                  <a:lnTo>
                    <a:pt x="788" y="764"/>
                  </a:lnTo>
                  <a:lnTo>
                    <a:pt x="806" y="744"/>
                  </a:lnTo>
                  <a:lnTo>
                    <a:pt x="825" y="724"/>
                  </a:lnTo>
                  <a:lnTo>
                    <a:pt x="843" y="705"/>
                  </a:lnTo>
                  <a:lnTo>
                    <a:pt x="862" y="685"/>
                  </a:lnTo>
                  <a:lnTo>
                    <a:pt x="880" y="666"/>
                  </a:lnTo>
                  <a:lnTo>
                    <a:pt x="897" y="647"/>
                  </a:lnTo>
                  <a:lnTo>
                    <a:pt x="916" y="628"/>
                  </a:lnTo>
                  <a:lnTo>
                    <a:pt x="935" y="611"/>
                  </a:lnTo>
                  <a:lnTo>
                    <a:pt x="953" y="592"/>
                  </a:lnTo>
                  <a:lnTo>
                    <a:pt x="972" y="574"/>
                  </a:lnTo>
                  <a:lnTo>
                    <a:pt x="991" y="555"/>
                  </a:lnTo>
                  <a:lnTo>
                    <a:pt x="1009" y="537"/>
                  </a:lnTo>
                  <a:lnTo>
                    <a:pt x="1028" y="520"/>
                  </a:lnTo>
                  <a:lnTo>
                    <a:pt x="1047" y="503"/>
                  </a:lnTo>
                  <a:lnTo>
                    <a:pt x="1066" y="485"/>
                  </a:lnTo>
                  <a:lnTo>
                    <a:pt x="1083" y="468"/>
                  </a:lnTo>
                  <a:lnTo>
                    <a:pt x="1102" y="451"/>
                  </a:lnTo>
                  <a:lnTo>
                    <a:pt x="1121" y="435"/>
                  </a:lnTo>
                  <a:lnTo>
                    <a:pt x="1140" y="419"/>
                  </a:lnTo>
                  <a:lnTo>
                    <a:pt x="1158" y="402"/>
                  </a:lnTo>
                  <a:lnTo>
                    <a:pt x="1177" y="387"/>
                  </a:lnTo>
                  <a:lnTo>
                    <a:pt x="1196" y="371"/>
                  </a:lnTo>
                  <a:lnTo>
                    <a:pt x="1214" y="357"/>
                  </a:lnTo>
                  <a:lnTo>
                    <a:pt x="1233" y="341"/>
                  </a:lnTo>
                  <a:lnTo>
                    <a:pt x="1250" y="327"/>
                  </a:lnTo>
                  <a:lnTo>
                    <a:pt x="1269" y="312"/>
                  </a:lnTo>
                  <a:lnTo>
                    <a:pt x="1287" y="298"/>
                  </a:lnTo>
                  <a:lnTo>
                    <a:pt x="1305" y="284"/>
                  </a:lnTo>
                  <a:lnTo>
                    <a:pt x="1324" y="271"/>
                  </a:lnTo>
                  <a:lnTo>
                    <a:pt x="1342" y="258"/>
                  </a:lnTo>
                  <a:lnTo>
                    <a:pt x="1360" y="244"/>
                  </a:lnTo>
                  <a:lnTo>
                    <a:pt x="1377" y="232"/>
                  </a:lnTo>
                  <a:lnTo>
                    <a:pt x="1395" y="220"/>
                  </a:lnTo>
                  <a:lnTo>
                    <a:pt x="1413" y="208"/>
                  </a:lnTo>
                  <a:lnTo>
                    <a:pt x="1431" y="195"/>
                  </a:lnTo>
                  <a:lnTo>
                    <a:pt x="1447" y="184"/>
                  </a:lnTo>
                  <a:lnTo>
                    <a:pt x="1465" y="173"/>
                  </a:lnTo>
                  <a:lnTo>
                    <a:pt x="1482" y="162"/>
                  </a:lnTo>
                  <a:lnTo>
                    <a:pt x="1500" y="152"/>
                  </a:lnTo>
                  <a:lnTo>
                    <a:pt x="1516" y="142"/>
                  </a:lnTo>
                  <a:lnTo>
                    <a:pt x="1533" y="132"/>
                  </a:lnTo>
                  <a:lnTo>
                    <a:pt x="1550" y="122"/>
                  </a:lnTo>
                  <a:lnTo>
                    <a:pt x="1567" y="113"/>
                  </a:lnTo>
                  <a:lnTo>
                    <a:pt x="1583" y="104"/>
                  </a:lnTo>
                  <a:lnTo>
                    <a:pt x="1599" y="96"/>
                  </a:lnTo>
                  <a:lnTo>
                    <a:pt x="1616" y="87"/>
                  </a:lnTo>
                  <a:lnTo>
                    <a:pt x="1631" y="79"/>
                  </a:lnTo>
                  <a:lnTo>
                    <a:pt x="1647" y="73"/>
                  </a:lnTo>
                  <a:lnTo>
                    <a:pt x="1662" y="65"/>
                  </a:lnTo>
                  <a:lnTo>
                    <a:pt x="1678" y="58"/>
                  </a:lnTo>
                  <a:lnTo>
                    <a:pt x="1692" y="53"/>
                  </a:lnTo>
                  <a:lnTo>
                    <a:pt x="1708" y="46"/>
                  </a:lnTo>
                  <a:lnTo>
                    <a:pt x="1722" y="41"/>
                  </a:lnTo>
                  <a:lnTo>
                    <a:pt x="1737" y="35"/>
                  </a:lnTo>
                  <a:lnTo>
                    <a:pt x="1751" y="31"/>
                  </a:lnTo>
                  <a:lnTo>
                    <a:pt x="1766" y="26"/>
                  </a:lnTo>
                  <a:lnTo>
                    <a:pt x="1779" y="22"/>
                  </a:lnTo>
                  <a:lnTo>
                    <a:pt x="1794" y="18"/>
                  </a:lnTo>
                  <a:lnTo>
                    <a:pt x="1807" y="15"/>
                  </a:lnTo>
                  <a:lnTo>
                    <a:pt x="1820" y="12"/>
                  </a:lnTo>
                  <a:lnTo>
                    <a:pt x="1833" y="8"/>
                  </a:lnTo>
                  <a:lnTo>
                    <a:pt x="1846" y="6"/>
                  </a:lnTo>
                  <a:lnTo>
                    <a:pt x="1858" y="5"/>
                  </a:lnTo>
                  <a:lnTo>
                    <a:pt x="1871" y="3"/>
                  </a:lnTo>
                  <a:lnTo>
                    <a:pt x="1883" y="2"/>
                  </a:lnTo>
                  <a:lnTo>
                    <a:pt x="1895" y="0"/>
                  </a:lnTo>
                  <a:lnTo>
                    <a:pt x="1906" y="0"/>
                  </a:lnTo>
                  <a:lnTo>
                    <a:pt x="1917" y="0"/>
                  </a:lnTo>
                  <a:lnTo>
                    <a:pt x="1928" y="0"/>
                  </a:lnTo>
                  <a:lnTo>
                    <a:pt x="1940" y="2"/>
                  </a:lnTo>
                  <a:lnTo>
                    <a:pt x="1950" y="3"/>
                  </a:lnTo>
                  <a:lnTo>
                    <a:pt x="1961" y="4"/>
                  </a:lnTo>
                  <a:lnTo>
                    <a:pt x="1971" y="5"/>
                  </a:lnTo>
                  <a:lnTo>
                    <a:pt x="1980" y="7"/>
                  </a:lnTo>
                  <a:lnTo>
                    <a:pt x="1990" y="10"/>
                  </a:lnTo>
                  <a:lnTo>
                    <a:pt x="1999" y="13"/>
                  </a:lnTo>
                  <a:lnTo>
                    <a:pt x="2008" y="16"/>
                  </a:lnTo>
                  <a:lnTo>
                    <a:pt x="2016" y="20"/>
                  </a:lnTo>
                  <a:lnTo>
                    <a:pt x="2024" y="24"/>
                  </a:lnTo>
                  <a:lnTo>
                    <a:pt x="2032" y="28"/>
                  </a:lnTo>
                  <a:lnTo>
                    <a:pt x="2040" y="33"/>
                  </a:lnTo>
                  <a:lnTo>
                    <a:pt x="2048" y="38"/>
                  </a:lnTo>
                  <a:lnTo>
                    <a:pt x="2054" y="44"/>
                  </a:lnTo>
                  <a:lnTo>
                    <a:pt x="2061" y="49"/>
                  </a:lnTo>
                  <a:lnTo>
                    <a:pt x="2068" y="56"/>
                  </a:lnTo>
                  <a:lnTo>
                    <a:pt x="2074" y="63"/>
                  </a:lnTo>
                  <a:lnTo>
                    <a:pt x="2080" y="69"/>
                  </a:lnTo>
                  <a:lnTo>
                    <a:pt x="2085" y="76"/>
                  </a:lnTo>
                  <a:lnTo>
                    <a:pt x="2091" y="84"/>
                  </a:lnTo>
                  <a:lnTo>
                    <a:pt x="2095" y="92"/>
                  </a:lnTo>
                  <a:lnTo>
                    <a:pt x="2100" y="101"/>
                  </a:lnTo>
                  <a:lnTo>
                    <a:pt x="2104" y="110"/>
                  </a:lnTo>
                  <a:lnTo>
                    <a:pt x="2109" y="118"/>
                  </a:lnTo>
                  <a:lnTo>
                    <a:pt x="2112" y="127"/>
                  </a:lnTo>
                  <a:lnTo>
                    <a:pt x="2116" y="137"/>
                  </a:lnTo>
                  <a:lnTo>
                    <a:pt x="2118" y="147"/>
                  </a:lnTo>
                  <a:lnTo>
                    <a:pt x="2121" y="157"/>
                  </a:lnTo>
                  <a:lnTo>
                    <a:pt x="2123" y="169"/>
                  </a:lnTo>
                  <a:lnTo>
                    <a:pt x="2126" y="179"/>
                  </a:lnTo>
                  <a:lnTo>
                    <a:pt x="2127" y="191"/>
                  </a:lnTo>
                  <a:lnTo>
                    <a:pt x="2129" y="202"/>
                  </a:lnTo>
                  <a:lnTo>
                    <a:pt x="2130" y="214"/>
                  </a:lnTo>
                  <a:lnTo>
                    <a:pt x="2130" y="226"/>
                  </a:lnTo>
                  <a:lnTo>
                    <a:pt x="2131" y="239"/>
                  </a:lnTo>
                  <a:lnTo>
                    <a:pt x="2131" y="252"/>
                  </a:lnTo>
                  <a:lnTo>
                    <a:pt x="2131" y="264"/>
                  </a:lnTo>
                  <a:lnTo>
                    <a:pt x="2130" y="278"/>
                  </a:lnTo>
                  <a:lnTo>
                    <a:pt x="2129" y="292"/>
                  </a:lnTo>
                  <a:lnTo>
                    <a:pt x="2128" y="305"/>
                  </a:lnTo>
                  <a:lnTo>
                    <a:pt x="2127" y="320"/>
                  </a:lnTo>
                  <a:lnTo>
                    <a:pt x="2124" y="334"/>
                  </a:lnTo>
                  <a:lnTo>
                    <a:pt x="2122" y="350"/>
                  </a:lnTo>
                  <a:lnTo>
                    <a:pt x="2120" y="364"/>
                  </a:lnTo>
                  <a:lnTo>
                    <a:pt x="2117" y="380"/>
                  </a:lnTo>
                  <a:lnTo>
                    <a:pt x="2113" y="396"/>
                  </a:lnTo>
                  <a:lnTo>
                    <a:pt x="2110" y="411"/>
                  </a:lnTo>
                  <a:lnTo>
                    <a:pt x="2107" y="428"/>
                  </a:lnTo>
                  <a:lnTo>
                    <a:pt x="2102" y="445"/>
                  </a:lnTo>
                  <a:lnTo>
                    <a:pt x="2098" y="461"/>
                  </a:lnTo>
                  <a:lnTo>
                    <a:pt x="2093" y="478"/>
                  </a:lnTo>
                  <a:lnTo>
                    <a:pt x="2088" y="495"/>
                  </a:lnTo>
                  <a:lnTo>
                    <a:pt x="2083" y="513"/>
                  </a:lnTo>
                  <a:lnTo>
                    <a:pt x="2077" y="529"/>
                  </a:lnTo>
                  <a:lnTo>
                    <a:pt x="2071" y="547"/>
                  </a:lnTo>
                  <a:lnTo>
                    <a:pt x="2064" y="565"/>
                  </a:lnTo>
                  <a:lnTo>
                    <a:pt x="2058" y="584"/>
                  </a:lnTo>
                  <a:lnTo>
                    <a:pt x="2051" y="602"/>
                  </a:lnTo>
                  <a:lnTo>
                    <a:pt x="2044" y="621"/>
                  </a:lnTo>
                  <a:lnTo>
                    <a:pt x="2036" y="639"/>
                  </a:lnTo>
                  <a:lnTo>
                    <a:pt x="2029" y="658"/>
                  </a:lnTo>
                  <a:lnTo>
                    <a:pt x="2021" y="677"/>
                  </a:lnTo>
                  <a:lnTo>
                    <a:pt x="2012" y="696"/>
                  </a:lnTo>
                  <a:lnTo>
                    <a:pt x="2003" y="715"/>
                  </a:lnTo>
                  <a:lnTo>
                    <a:pt x="1994" y="735"/>
                  </a:lnTo>
                  <a:lnTo>
                    <a:pt x="1985" y="755"/>
                  </a:lnTo>
                  <a:lnTo>
                    <a:pt x="1975" y="775"/>
                  </a:lnTo>
                  <a:lnTo>
                    <a:pt x="1966" y="794"/>
                  </a:lnTo>
                  <a:lnTo>
                    <a:pt x="1955" y="815"/>
                  </a:lnTo>
                  <a:lnTo>
                    <a:pt x="1945" y="835"/>
                  </a:lnTo>
                  <a:lnTo>
                    <a:pt x="1935" y="855"/>
                  </a:lnTo>
                  <a:lnTo>
                    <a:pt x="1924" y="875"/>
                  </a:lnTo>
                  <a:lnTo>
                    <a:pt x="1913" y="897"/>
                  </a:lnTo>
                  <a:lnTo>
                    <a:pt x="1901" y="917"/>
                  </a:lnTo>
                  <a:lnTo>
                    <a:pt x="1889" y="938"/>
                  </a:lnTo>
                  <a:lnTo>
                    <a:pt x="1877" y="959"/>
                  </a:lnTo>
                  <a:lnTo>
                    <a:pt x="1865" y="980"/>
                  </a:lnTo>
                  <a:lnTo>
                    <a:pt x="1853" y="1001"/>
                  </a:lnTo>
                  <a:lnTo>
                    <a:pt x="1841" y="1022"/>
                  </a:lnTo>
                  <a:lnTo>
                    <a:pt x="1827" y="1044"/>
                  </a:lnTo>
                  <a:lnTo>
                    <a:pt x="1814" y="1065"/>
                  </a:lnTo>
                  <a:lnTo>
                    <a:pt x="1800" y="1086"/>
                  </a:lnTo>
                  <a:lnTo>
                    <a:pt x="1787" y="1107"/>
                  </a:lnTo>
                  <a:lnTo>
                    <a:pt x="1774" y="1128"/>
                  </a:lnTo>
                  <a:lnTo>
                    <a:pt x="1759" y="1149"/>
                  </a:lnTo>
                  <a:lnTo>
                    <a:pt x="1745" y="1171"/>
                  </a:lnTo>
                  <a:lnTo>
                    <a:pt x="1730" y="1193"/>
                  </a:lnTo>
                  <a:lnTo>
                    <a:pt x="1716" y="1214"/>
                  </a:lnTo>
                  <a:lnTo>
                    <a:pt x="1701" y="1235"/>
                  </a:lnTo>
                  <a:lnTo>
                    <a:pt x="1686" y="1256"/>
                  </a:lnTo>
                  <a:lnTo>
                    <a:pt x="1670" y="1278"/>
                  </a:lnTo>
                  <a:lnTo>
                    <a:pt x="1656" y="1300"/>
                  </a:lnTo>
                  <a:lnTo>
                    <a:pt x="1640" y="1321"/>
                  </a:lnTo>
                  <a:lnTo>
                    <a:pt x="1623" y="1342"/>
                  </a:lnTo>
                  <a:lnTo>
                    <a:pt x="1608" y="1363"/>
                  </a:lnTo>
                  <a:lnTo>
                    <a:pt x="1592" y="1384"/>
                  </a:lnTo>
                  <a:lnTo>
                    <a:pt x="1576" y="1405"/>
                  </a:lnTo>
                  <a:lnTo>
                    <a:pt x="1559" y="1427"/>
                  </a:lnTo>
                  <a:lnTo>
                    <a:pt x="1542" y="1448"/>
                  </a:lnTo>
                  <a:lnTo>
                    <a:pt x="1525" y="1469"/>
                  </a:lnTo>
                  <a:lnTo>
                    <a:pt x="1509" y="1490"/>
                  </a:lnTo>
                  <a:lnTo>
                    <a:pt x="1492" y="1511"/>
                  </a:lnTo>
                  <a:lnTo>
                    <a:pt x="1474" y="1531"/>
                  </a:lnTo>
                  <a:lnTo>
                    <a:pt x="1457" y="1552"/>
                  </a:lnTo>
                  <a:close/>
                </a:path>
              </a:pathLst>
            </a:custGeom>
            <a:solidFill>
              <a:srgbClr val="b2b2b2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95360" y="2283840"/>
              <a:ext cx="521640" cy="604080"/>
            </a:xfrm>
            <a:custGeom>
              <a:avLst/>
              <a:gdLst/>
              <a:ahLst/>
              <a:rect l="l" t="t" r="r" b="b"/>
              <a:pathLst>
                <a:path w="2131" h="2452">
                  <a:moveTo>
                    <a:pt x="1457" y="1556"/>
                  </a:moveTo>
                  <a:lnTo>
                    <a:pt x="1439" y="1577"/>
                  </a:lnTo>
                  <a:lnTo>
                    <a:pt x="1421" y="1597"/>
                  </a:lnTo>
                  <a:lnTo>
                    <a:pt x="1405" y="1617"/>
                  </a:lnTo>
                  <a:lnTo>
                    <a:pt x="1387" y="1639"/>
                  </a:lnTo>
                  <a:lnTo>
                    <a:pt x="1369" y="1659"/>
                  </a:lnTo>
                  <a:lnTo>
                    <a:pt x="1351" y="1679"/>
                  </a:lnTo>
                  <a:lnTo>
                    <a:pt x="1332" y="1698"/>
                  </a:lnTo>
                  <a:lnTo>
                    <a:pt x="1315" y="1718"/>
                  </a:lnTo>
                  <a:lnTo>
                    <a:pt x="1297" y="1738"/>
                  </a:lnTo>
                  <a:lnTo>
                    <a:pt x="1278" y="1757"/>
                  </a:lnTo>
                  <a:lnTo>
                    <a:pt x="1260" y="1775"/>
                  </a:lnTo>
                  <a:lnTo>
                    <a:pt x="1242" y="1796"/>
                  </a:lnTo>
                  <a:lnTo>
                    <a:pt x="1223" y="1814"/>
                  </a:lnTo>
                  <a:lnTo>
                    <a:pt x="1204" y="1832"/>
                  </a:lnTo>
                  <a:lnTo>
                    <a:pt x="1187" y="1851"/>
                  </a:lnTo>
                  <a:lnTo>
                    <a:pt x="1168" y="1870"/>
                  </a:lnTo>
                  <a:lnTo>
                    <a:pt x="1149" y="1888"/>
                  </a:lnTo>
                  <a:lnTo>
                    <a:pt x="1131" y="1906"/>
                  </a:lnTo>
                  <a:lnTo>
                    <a:pt x="1112" y="1924"/>
                  </a:lnTo>
                  <a:lnTo>
                    <a:pt x="1093" y="1941"/>
                  </a:lnTo>
                  <a:lnTo>
                    <a:pt x="1075" y="1958"/>
                  </a:lnTo>
                  <a:lnTo>
                    <a:pt x="1056" y="1976"/>
                  </a:lnTo>
                  <a:lnTo>
                    <a:pt x="1037" y="1993"/>
                  </a:lnTo>
                  <a:lnTo>
                    <a:pt x="1018" y="2009"/>
                  </a:lnTo>
                  <a:lnTo>
                    <a:pt x="1001" y="2025"/>
                  </a:lnTo>
                  <a:lnTo>
                    <a:pt x="982" y="2042"/>
                  </a:lnTo>
                  <a:lnTo>
                    <a:pt x="963" y="2057"/>
                  </a:lnTo>
                  <a:lnTo>
                    <a:pt x="945" y="2073"/>
                  </a:lnTo>
                  <a:lnTo>
                    <a:pt x="926" y="2088"/>
                  </a:lnTo>
                  <a:lnTo>
                    <a:pt x="907" y="2104"/>
                  </a:lnTo>
                  <a:lnTo>
                    <a:pt x="889" y="2118"/>
                  </a:lnTo>
                  <a:lnTo>
                    <a:pt x="870" y="2133"/>
                  </a:lnTo>
                  <a:lnTo>
                    <a:pt x="853" y="2147"/>
                  </a:lnTo>
                  <a:lnTo>
                    <a:pt x="835" y="2161"/>
                  </a:lnTo>
                  <a:lnTo>
                    <a:pt x="816" y="2175"/>
                  </a:lnTo>
                  <a:lnTo>
                    <a:pt x="798" y="2189"/>
                  </a:lnTo>
                  <a:lnTo>
                    <a:pt x="780" y="2202"/>
                  </a:lnTo>
                  <a:lnTo>
                    <a:pt x="762" y="2214"/>
                  </a:lnTo>
                  <a:lnTo>
                    <a:pt x="745" y="2226"/>
                  </a:lnTo>
                  <a:lnTo>
                    <a:pt x="727" y="2239"/>
                  </a:lnTo>
                  <a:lnTo>
                    <a:pt x="709" y="2251"/>
                  </a:lnTo>
                  <a:lnTo>
                    <a:pt x="691" y="2263"/>
                  </a:lnTo>
                  <a:lnTo>
                    <a:pt x="674" y="2274"/>
                  </a:lnTo>
                  <a:lnTo>
                    <a:pt x="657" y="2285"/>
                  </a:lnTo>
                  <a:lnTo>
                    <a:pt x="640" y="2295"/>
                  </a:lnTo>
                  <a:lnTo>
                    <a:pt x="622" y="2305"/>
                  </a:lnTo>
                  <a:lnTo>
                    <a:pt x="605" y="2315"/>
                  </a:lnTo>
                  <a:lnTo>
                    <a:pt x="589" y="2325"/>
                  </a:lnTo>
                  <a:lnTo>
                    <a:pt x="572" y="2334"/>
                  </a:lnTo>
                  <a:lnTo>
                    <a:pt x="555" y="2344"/>
                  </a:lnTo>
                  <a:lnTo>
                    <a:pt x="540" y="2352"/>
                  </a:lnTo>
                  <a:lnTo>
                    <a:pt x="523" y="2361"/>
                  </a:lnTo>
                  <a:lnTo>
                    <a:pt x="507" y="2369"/>
                  </a:lnTo>
                  <a:lnTo>
                    <a:pt x="492" y="2377"/>
                  </a:lnTo>
                  <a:lnTo>
                    <a:pt x="476" y="2383"/>
                  </a:lnTo>
                  <a:lnTo>
                    <a:pt x="461" y="2390"/>
                  </a:lnTo>
                  <a:lnTo>
                    <a:pt x="445" y="2397"/>
                  </a:lnTo>
                  <a:lnTo>
                    <a:pt x="431" y="2403"/>
                  </a:lnTo>
                  <a:lnTo>
                    <a:pt x="415" y="2409"/>
                  </a:lnTo>
                  <a:lnTo>
                    <a:pt x="400" y="2415"/>
                  </a:lnTo>
                  <a:lnTo>
                    <a:pt x="386" y="2419"/>
                  </a:lnTo>
                  <a:lnTo>
                    <a:pt x="372" y="2425"/>
                  </a:lnTo>
                  <a:lnTo>
                    <a:pt x="358" y="2429"/>
                  </a:lnTo>
                  <a:lnTo>
                    <a:pt x="344" y="2432"/>
                  </a:lnTo>
                  <a:lnTo>
                    <a:pt x="330" y="2436"/>
                  </a:lnTo>
                  <a:lnTo>
                    <a:pt x="317" y="2439"/>
                  </a:lnTo>
                  <a:lnTo>
                    <a:pt x="304" y="2442"/>
                  </a:lnTo>
                  <a:lnTo>
                    <a:pt x="291" y="2445"/>
                  </a:lnTo>
                  <a:lnTo>
                    <a:pt x="278" y="2447"/>
                  </a:lnTo>
                  <a:lnTo>
                    <a:pt x="266" y="2449"/>
                  </a:lnTo>
                  <a:lnTo>
                    <a:pt x="254" y="2450"/>
                  </a:lnTo>
                  <a:lnTo>
                    <a:pt x="241" y="2451"/>
                  </a:lnTo>
                  <a:lnTo>
                    <a:pt x="230" y="2451"/>
                  </a:lnTo>
                  <a:lnTo>
                    <a:pt x="218" y="2452"/>
                  </a:lnTo>
                  <a:lnTo>
                    <a:pt x="207" y="2451"/>
                  </a:lnTo>
                  <a:lnTo>
                    <a:pt x="197" y="2451"/>
                  </a:lnTo>
                  <a:lnTo>
                    <a:pt x="186" y="2450"/>
                  </a:lnTo>
                  <a:lnTo>
                    <a:pt x="176" y="2449"/>
                  </a:lnTo>
                  <a:lnTo>
                    <a:pt x="166" y="2448"/>
                  </a:lnTo>
                  <a:lnTo>
                    <a:pt x="156" y="2446"/>
                  </a:lnTo>
                  <a:lnTo>
                    <a:pt x="146" y="2443"/>
                  </a:lnTo>
                  <a:lnTo>
                    <a:pt x="137" y="2440"/>
                  </a:lnTo>
                  <a:lnTo>
                    <a:pt x="128" y="2437"/>
                  </a:lnTo>
                  <a:lnTo>
                    <a:pt x="119" y="2433"/>
                  </a:lnTo>
                  <a:lnTo>
                    <a:pt x="110" y="2430"/>
                  </a:lnTo>
                  <a:lnTo>
                    <a:pt x="102" y="2426"/>
                  </a:lnTo>
                  <a:lnTo>
                    <a:pt x="94" y="2421"/>
                  </a:lnTo>
                  <a:lnTo>
                    <a:pt x="86" y="2416"/>
                  </a:lnTo>
                  <a:lnTo>
                    <a:pt x="80" y="2411"/>
                  </a:lnTo>
                  <a:lnTo>
                    <a:pt x="73" y="2406"/>
                  </a:lnTo>
                  <a:lnTo>
                    <a:pt x="66" y="2399"/>
                  </a:lnTo>
                  <a:lnTo>
                    <a:pt x="60" y="2392"/>
                  </a:lnTo>
                  <a:lnTo>
                    <a:pt x="54" y="2386"/>
                  </a:lnTo>
                  <a:lnTo>
                    <a:pt x="48" y="2379"/>
                  </a:lnTo>
                  <a:lnTo>
                    <a:pt x="43" y="2371"/>
                  </a:lnTo>
                  <a:lnTo>
                    <a:pt x="38" y="2363"/>
                  </a:lnTo>
                  <a:lnTo>
                    <a:pt x="33" y="2356"/>
                  </a:lnTo>
                  <a:lnTo>
                    <a:pt x="29" y="2347"/>
                  </a:lnTo>
                  <a:lnTo>
                    <a:pt x="24" y="2338"/>
                  </a:lnTo>
                  <a:lnTo>
                    <a:pt x="21" y="2329"/>
                  </a:lnTo>
                  <a:lnTo>
                    <a:pt x="16" y="2319"/>
                  </a:lnTo>
                  <a:lnTo>
                    <a:pt x="14" y="2309"/>
                  </a:lnTo>
                  <a:lnTo>
                    <a:pt x="11" y="2299"/>
                  </a:lnTo>
                  <a:lnTo>
                    <a:pt x="9" y="2289"/>
                  </a:lnTo>
                  <a:lnTo>
                    <a:pt x="6" y="2278"/>
                  </a:lnTo>
                  <a:lnTo>
                    <a:pt x="4" y="2266"/>
                  </a:lnTo>
                  <a:lnTo>
                    <a:pt x="3" y="2255"/>
                  </a:lnTo>
                  <a:lnTo>
                    <a:pt x="2" y="2243"/>
                  </a:lnTo>
                  <a:lnTo>
                    <a:pt x="1" y="2231"/>
                  </a:lnTo>
                  <a:lnTo>
                    <a:pt x="0" y="2219"/>
                  </a:lnTo>
                  <a:lnTo>
                    <a:pt x="0" y="2206"/>
                  </a:lnTo>
                  <a:lnTo>
                    <a:pt x="0" y="2193"/>
                  </a:lnTo>
                  <a:lnTo>
                    <a:pt x="0" y="2180"/>
                  </a:lnTo>
                  <a:lnTo>
                    <a:pt x="1" y="2166"/>
                  </a:lnTo>
                  <a:lnTo>
                    <a:pt x="2" y="2152"/>
                  </a:lnTo>
                  <a:lnTo>
                    <a:pt x="3" y="2137"/>
                  </a:lnTo>
                  <a:lnTo>
                    <a:pt x="5" y="2123"/>
                  </a:lnTo>
                  <a:lnTo>
                    <a:pt x="7" y="2108"/>
                  </a:lnTo>
                  <a:lnTo>
                    <a:pt x="10" y="2094"/>
                  </a:lnTo>
                  <a:lnTo>
                    <a:pt x="12" y="2078"/>
                  </a:lnTo>
                  <a:lnTo>
                    <a:pt x="15" y="2063"/>
                  </a:lnTo>
                  <a:lnTo>
                    <a:pt x="19" y="2047"/>
                  </a:lnTo>
                  <a:lnTo>
                    <a:pt x="22" y="2030"/>
                  </a:lnTo>
                  <a:lnTo>
                    <a:pt x="26" y="2015"/>
                  </a:lnTo>
                  <a:lnTo>
                    <a:pt x="31" y="1998"/>
                  </a:lnTo>
                  <a:lnTo>
                    <a:pt x="35" y="1981"/>
                  </a:lnTo>
                  <a:lnTo>
                    <a:pt x="40" y="1964"/>
                  </a:lnTo>
                  <a:lnTo>
                    <a:pt x="45" y="1947"/>
                  </a:lnTo>
                  <a:lnTo>
                    <a:pt x="51" y="1929"/>
                  </a:lnTo>
                  <a:lnTo>
                    <a:pt x="56" y="1911"/>
                  </a:lnTo>
                  <a:lnTo>
                    <a:pt x="63" y="1893"/>
                  </a:lnTo>
                  <a:lnTo>
                    <a:pt x="69" y="1876"/>
                  </a:lnTo>
                  <a:lnTo>
                    <a:pt x="75" y="1858"/>
                  </a:lnTo>
                  <a:lnTo>
                    <a:pt x="83" y="1839"/>
                  </a:lnTo>
                  <a:lnTo>
                    <a:pt x="90" y="1820"/>
                  </a:lnTo>
                  <a:lnTo>
                    <a:pt x="98" y="1801"/>
                  </a:lnTo>
                  <a:lnTo>
                    <a:pt x="105" y="1782"/>
                  </a:lnTo>
                  <a:lnTo>
                    <a:pt x="114" y="1763"/>
                  </a:lnTo>
                  <a:lnTo>
                    <a:pt x="123" y="1744"/>
                  </a:lnTo>
                  <a:lnTo>
                    <a:pt x="131" y="1724"/>
                  </a:lnTo>
                  <a:lnTo>
                    <a:pt x="141" y="1704"/>
                  </a:lnTo>
                  <a:lnTo>
                    <a:pt x="150" y="1685"/>
                  </a:lnTo>
                  <a:lnTo>
                    <a:pt x="160" y="1665"/>
                  </a:lnTo>
                  <a:lnTo>
                    <a:pt x="170" y="1645"/>
                  </a:lnTo>
                  <a:lnTo>
                    <a:pt x="180" y="1624"/>
                  </a:lnTo>
                  <a:lnTo>
                    <a:pt x="190" y="1604"/>
                  </a:lnTo>
                  <a:lnTo>
                    <a:pt x="201" y="1584"/>
                  </a:lnTo>
                  <a:lnTo>
                    <a:pt x="212" y="1563"/>
                  </a:lnTo>
                  <a:lnTo>
                    <a:pt x="223" y="1543"/>
                  </a:lnTo>
                  <a:lnTo>
                    <a:pt x="236" y="1522"/>
                  </a:lnTo>
                  <a:lnTo>
                    <a:pt x="247" y="1501"/>
                  </a:lnTo>
                  <a:lnTo>
                    <a:pt x="259" y="1479"/>
                  </a:lnTo>
                  <a:lnTo>
                    <a:pt x="271" y="1459"/>
                  </a:lnTo>
                  <a:lnTo>
                    <a:pt x="284" y="1438"/>
                  </a:lnTo>
                  <a:lnTo>
                    <a:pt x="297" y="1417"/>
                  </a:lnTo>
                  <a:lnTo>
                    <a:pt x="310" y="1396"/>
                  </a:lnTo>
                  <a:lnTo>
                    <a:pt x="323" y="1374"/>
                  </a:lnTo>
                  <a:lnTo>
                    <a:pt x="337" y="1352"/>
                  </a:lnTo>
                  <a:lnTo>
                    <a:pt x="350" y="1331"/>
                  </a:lnTo>
                  <a:lnTo>
                    <a:pt x="364" y="1310"/>
                  </a:lnTo>
                  <a:lnTo>
                    <a:pt x="378" y="1289"/>
                  </a:lnTo>
                  <a:lnTo>
                    <a:pt x="393" y="1267"/>
                  </a:lnTo>
                  <a:lnTo>
                    <a:pt x="407" y="1246"/>
                  </a:lnTo>
                  <a:lnTo>
                    <a:pt x="422" y="1224"/>
                  </a:lnTo>
                  <a:lnTo>
                    <a:pt x="437" y="1203"/>
                  </a:lnTo>
                  <a:lnTo>
                    <a:pt x="452" y="1181"/>
                  </a:lnTo>
                  <a:lnTo>
                    <a:pt x="467" y="1160"/>
                  </a:lnTo>
                  <a:lnTo>
                    <a:pt x="483" y="1139"/>
                  </a:lnTo>
                  <a:lnTo>
                    <a:pt x="498" y="1118"/>
                  </a:lnTo>
                  <a:lnTo>
                    <a:pt x="515" y="1096"/>
                  </a:lnTo>
                  <a:lnTo>
                    <a:pt x="531" y="1074"/>
                  </a:lnTo>
                  <a:lnTo>
                    <a:pt x="547" y="1053"/>
                  </a:lnTo>
                  <a:lnTo>
                    <a:pt x="563" y="1032"/>
                  </a:lnTo>
                  <a:lnTo>
                    <a:pt x="580" y="1011"/>
                  </a:lnTo>
                  <a:lnTo>
                    <a:pt x="596" y="990"/>
                  </a:lnTo>
                  <a:lnTo>
                    <a:pt x="613" y="968"/>
                  </a:lnTo>
                  <a:lnTo>
                    <a:pt x="630" y="948"/>
                  </a:lnTo>
                  <a:lnTo>
                    <a:pt x="648" y="927"/>
                  </a:lnTo>
                  <a:lnTo>
                    <a:pt x="664" y="906"/>
                  </a:lnTo>
                  <a:lnTo>
                    <a:pt x="682" y="886"/>
                  </a:lnTo>
                  <a:lnTo>
                    <a:pt x="699" y="865"/>
                  </a:lnTo>
                  <a:lnTo>
                    <a:pt x="717" y="845"/>
                  </a:lnTo>
                  <a:lnTo>
                    <a:pt x="735" y="825"/>
                  </a:lnTo>
                  <a:lnTo>
                    <a:pt x="752" y="804"/>
                  </a:lnTo>
                  <a:lnTo>
                    <a:pt x="770" y="784"/>
                  </a:lnTo>
                  <a:lnTo>
                    <a:pt x="788" y="764"/>
                  </a:lnTo>
                  <a:lnTo>
                    <a:pt x="806" y="745"/>
                  </a:lnTo>
                  <a:lnTo>
                    <a:pt x="825" y="725"/>
                  </a:lnTo>
                  <a:lnTo>
                    <a:pt x="843" y="706"/>
                  </a:lnTo>
                  <a:lnTo>
                    <a:pt x="860" y="686"/>
                  </a:lnTo>
                  <a:lnTo>
                    <a:pt x="879" y="667"/>
                  </a:lnTo>
                  <a:lnTo>
                    <a:pt x="897" y="648"/>
                  </a:lnTo>
                  <a:lnTo>
                    <a:pt x="916" y="629"/>
                  </a:lnTo>
                  <a:lnTo>
                    <a:pt x="935" y="610"/>
                  </a:lnTo>
                  <a:lnTo>
                    <a:pt x="953" y="592"/>
                  </a:lnTo>
                  <a:lnTo>
                    <a:pt x="972" y="573"/>
                  </a:lnTo>
                  <a:lnTo>
                    <a:pt x="991" y="555"/>
                  </a:lnTo>
                  <a:lnTo>
                    <a:pt x="1008" y="538"/>
                  </a:lnTo>
                  <a:lnTo>
                    <a:pt x="1027" y="520"/>
                  </a:lnTo>
                  <a:lnTo>
                    <a:pt x="1046" y="502"/>
                  </a:lnTo>
                  <a:lnTo>
                    <a:pt x="1065" y="485"/>
                  </a:lnTo>
                  <a:lnTo>
                    <a:pt x="1083" y="468"/>
                  </a:lnTo>
                  <a:lnTo>
                    <a:pt x="1102" y="452"/>
                  </a:lnTo>
                  <a:lnTo>
                    <a:pt x="1121" y="435"/>
                  </a:lnTo>
                  <a:lnTo>
                    <a:pt x="1139" y="418"/>
                  </a:lnTo>
                  <a:lnTo>
                    <a:pt x="1158" y="403"/>
                  </a:lnTo>
                  <a:lnTo>
                    <a:pt x="1177" y="387"/>
                  </a:lnTo>
                  <a:lnTo>
                    <a:pt x="1194" y="372"/>
                  </a:lnTo>
                  <a:lnTo>
                    <a:pt x="1213" y="356"/>
                  </a:lnTo>
                  <a:lnTo>
                    <a:pt x="1232" y="342"/>
                  </a:lnTo>
                  <a:lnTo>
                    <a:pt x="1250" y="326"/>
                  </a:lnTo>
                  <a:lnTo>
                    <a:pt x="1269" y="312"/>
                  </a:lnTo>
                  <a:lnTo>
                    <a:pt x="1287" y="298"/>
                  </a:lnTo>
                  <a:lnTo>
                    <a:pt x="1305" y="284"/>
                  </a:lnTo>
                  <a:lnTo>
                    <a:pt x="1324" y="270"/>
                  </a:lnTo>
                  <a:lnTo>
                    <a:pt x="1341" y="257"/>
                  </a:lnTo>
                  <a:lnTo>
                    <a:pt x="1359" y="245"/>
                  </a:lnTo>
                  <a:lnTo>
                    <a:pt x="1377" y="231"/>
                  </a:lnTo>
                  <a:lnTo>
                    <a:pt x="1395" y="219"/>
                  </a:lnTo>
                  <a:lnTo>
                    <a:pt x="1413" y="207"/>
                  </a:lnTo>
                  <a:lnTo>
                    <a:pt x="1430" y="196"/>
                  </a:lnTo>
                  <a:lnTo>
                    <a:pt x="1447" y="183"/>
                  </a:lnTo>
                  <a:lnTo>
                    <a:pt x="1465" y="172"/>
                  </a:lnTo>
                  <a:lnTo>
                    <a:pt x="1482" y="162"/>
                  </a:lnTo>
                  <a:lnTo>
                    <a:pt x="1499" y="151"/>
                  </a:lnTo>
                  <a:lnTo>
                    <a:pt x="1516" y="141"/>
                  </a:lnTo>
                  <a:lnTo>
                    <a:pt x="1533" y="131"/>
                  </a:lnTo>
                  <a:lnTo>
                    <a:pt x="1550" y="122"/>
                  </a:lnTo>
                  <a:lnTo>
                    <a:pt x="1566" y="112"/>
                  </a:lnTo>
                  <a:lnTo>
                    <a:pt x="1583" y="104"/>
                  </a:lnTo>
                  <a:lnTo>
                    <a:pt x="1599" y="96"/>
                  </a:lnTo>
                  <a:lnTo>
                    <a:pt x="1615" y="88"/>
                  </a:lnTo>
                  <a:lnTo>
                    <a:pt x="1631" y="80"/>
                  </a:lnTo>
                  <a:lnTo>
                    <a:pt x="1646" y="72"/>
                  </a:lnTo>
                  <a:lnTo>
                    <a:pt x="1662" y="65"/>
                  </a:lnTo>
                  <a:lnTo>
                    <a:pt x="1678" y="59"/>
                  </a:lnTo>
                  <a:lnTo>
                    <a:pt x="1692" y="52"/>
                  </a:lnTo>
                  <a:lnTo>
                    <a:pt x="1708" y="47"/>
                  </a:lnTo>
                  <a:lnTo>
                    <a:pt x="1722" y="41"/>
                  </a:lnTo>
                  <a:lnTo>
                    <a:pt x="1737" y="35"/>
                  </a:lnTo>
                  <a:lnTo>
                    <a:pt x="1751" y="30"/>
                  </a:lnTo>
                  <a:lnTo>
                    <a:pt x="1766" y="25"/>
                  </a:lnTo>
                  <a:lnTo>
                    <a:pt x="1779" y="22"/>
                  </a:lnTo>
                  <a:lnTo>
                    <a:pt x="1793" y="18"/>
                  </a:lnTo>
                  <a:lnTo>
                    <a:pt x="1807" y="14"/>
                  </a:lnTo>
                  <a:lnTo>
                    <a:pt x="1820" y="11"/>
                  </a:lnTo>
                  <a:lnTo>
                    <a:pt x="1832" y="9"/>
                  </a:lnTo>
                  <a:lnTo>
                    <a:pt x="1846" y="6"/>
                  </a:lnTo>
                  <a:lnTo>
                    <a:pt x="1858" y="4"/>
                  </a:lnTo>
                  <a:lnTo>
                    <a:pt x="1870" y="3"/>
                  </a:lnTo>
                  <a:lnTo>
                    <a:pt x="1882" y="2"/>
                  </a:lnTo>
                  <a:lnTo>
                    <a:pt x="1895" y="1"/>
                  </a:lnTo>
                  <a:lnTo>
                    <a:pt x="1906" y="1"/>
                  </a:lnTo>
                  <a:lnTo>
                    <a:pt x="1917" y="0"/>
                  </a:lnTo>
                  <a:lnTo>
                    <a:pt x="1928" y="1"/>
                  </a:lnTo>
                  <a:lnTo>
                    <a:pt x="1939" y="1"/>
                  </a:lnTo>
                  <a:lnTo>
                    <a:pt x="1949" y="2"/>
                  </a:lnTo>
                  <a:lnTo>
                    <a:pt x="1960" y="4"/>
                  </a:lnTo>
                  <a:lnTo>
                    <a:pt x="1970" y="5"/>
                  </a:lnTo>
                  <a:lnTo>
                    <a:pt x="1979" y="8"/>
                  </a:lnTo>
                  <a:lnTo>
                    <a:pt x="1989" y="11"/>
                  </a:lnTo>
                  <a:lnTo>
                    <a:pt x="1998" y="13"/>
                  </a:lnTo>
                  <a:lnTo>
                    <a:pt x="2007" y="16"/>
                  </a:lnTo>
                  <a:lnTo>
                    <a:pt x="2016" y="20"/>
                  </a:lnTo>
                  <a:lnTo>
                    <a:pt x="2024" y="24"/>
                  </a:lnTo>
                  <a:lnTo>
                    <a:pt x="2032" y="29"/>
                  </a:lnTo>
                  <a:lnTo>
                    <a:pt x="2039" y="33"/>
                  </a:lnTo>
                  <a:lnTo>
                    <a:pt x="2047" y="39"/>
                  </a:lnTo>
                  <a:lnTo>
                    <a:pt x="2054" y="44"/>
                  </a:lnTo>
                  <a:lnTo>
                    <a:pt x="2061" y="50"/>
                  </a:lnTo>
                  <a:lnTo>
                    <a:pt x="2067" y="57"/>
                  </a:lnTo>
                  <a:lnTo>
                    <a:pt x="2074" y="63"/>
                  </a:lnTo>
                  <a:lnTo>
                    <a:pt x="2080" y="70"/>
                  </a:lnTo>
                  <a:lnTo>
                    <a:pt x="2085" y="77"/>
                  </a:lnTo>
                  <a:lnTo>
                    <a:pt x="2090" y="84"/>
                  </a:lnTo>
                  <a:lnTo>
                    <a:pt x="2095" y="92"/>
                  </a:lnTo>
                  <a:lnTo>
                    <a:pt x="2100" y="101"/>
                  </a:lnTo>
                  <a:lnTo>
                    <a:pt x="2104" y="110"/>
                  </a:lnTo>
                  <a:lnTo>
                    <a:pt x="2107" y="119"/>
                  </a:lnTo>
                  <a:lnTo>
                    <a:pt x="2112" y="128"/>
                  </a:lnTo>
                  <a:lnTo>
                    <a:pt x="2115" y="138"/>
                  </a:lnTo>
                  <a:lnTo>
                    <a:pt x="2117" y="148"/>
                  </a:lnTo>
                  <a:lnTo>
                    <a:pt x="2121" y="158"/>
                  </a:lnTo>
                  <a:lnTo>
                    <a:pt x="2123" y="169"/>
                  </a:lnTo>
                  <a:lnTo>
                    <a:pt x="2125" y="180"/>
                  </a:lnTo>
                  <a:lnTo>
                    <a:pt x="2126" y="191"/>
                  </a:lnTo>
                  <a:lnTo>
                    <a:pt x="2129" y="204"/>
                  </a:lnTo>
                  <a:lnTo>
                    <a:pt x="2130" y="215"/>
                  </a:lnTo>
                  <a:lnTo>
                    <a:pt x="2130" y="227"/>
                  </a:lnTo>
                  <a:lnTo>
                    <a:pt x="2131" y="240"/>
                  </a:lnTo>
                  <a:lnTo>
                    <a:pt x="2131" y="253"/>
                  </a:lnTo>
                  <a:lnTo>
                    <a:pt x="2130" y="266"/>
                  </a:lnTo>
                  <a:lnTo>
                    <a:pt x="2130" y="279"/>
                  </a:lnTo>
                  <a:lnTo>
                    <a:pt x="2129" y="294"/>
                  </a:lnTo>
                  <a:lnTo>
                    <a:pt x="2127" y="307"/>
                  </a:lnTo>
                  <a:lnTo>
                    <a:pt x="2126" y="322"/>
                  </a:lnTo>
                  <a:lnTo>
                    <a:pt x="2124" y="336"/>
                  </a:lnTo>
                  <a:lnTo>
                    <a:pt x="2122" y="352"/>
                  </a:lnTo>
                  <a:lnTo>
                    <a:pt x="2120" y="366"/>
                  </a:lnTo>
                  <a:lnTo>
                    <a:pt x="2116" y="382"/>
                  </a:lnTo>
                  <a:lnTo>
                    <a:pt x="2113" y="397"/>
                  </a:lnTo>
                  <a:lnTo>
                    <a:pt x="2110" y="413"/>
                  </a:lnTo>
                  <a:lnTo>
                    <a:pt x="2106" y="430"/>
                  </a:lnTo>
                  <a:lnTo>
                    <a:pt x="2102" y="446"/>
                  </a:lnTo>
                  <a:lnTo>
                    <a:pt x="2097" y="463"/>
                  </a:lnTo>
                  <a:lnTo>
                    <a:pt x="2093" y="480"/>
                  </a:lnTo>
                  <a:lnTo>
                    <a:pt x="2087" y="496"/>
                  </a:lnTo>
                  <a:lnTo>
                    <a:pt x="2083" y="514"/>
                  </a:lnTo>
                  <a:lnTo>
                    <a:pt x="2076" y="532"/>
                  </a:lnTo>
                  <a:lnTo>
                    <a:pt x="2071" y="550"/>
                  </a:lnTo>
                  <a:lnTo>
                    <a:pt x="2064" y="568"/>
                  </a:lnTo>
                  <a:lnTo>
                    <a:pt x="2057" y="585"/>
                  </a:lnTo>
                  <a:lnTo>
                    <a:pt x="2051" y="604"/>
                  </a:lnTo>
                  <a:lnTo>
                    <a:pt x="2044" y="622"/>
                  </a:lnTo>
                  <a:lnTo>
                    <a:pt x="2036" y="641"/>
                  </a:lnTo>
                  <a:lnTo>
                    <a:pt x="2028" y="660"/>
                  </a:lnTo>
                  <a:lnTo>
                    <a:pt x="2021" y="679"/>
                  </a:lnTo>
                  <a:lnTo>
                    <a:pt x="2012" y="699"/>
                  </a:lnTo>
                  <a:lnTo>
                    <a:pt x="2003" y="718"/>
                  </a:lnTo>
                  <a:lnTo>
                    <a:pt x="1994" y="738"/>
                  </a:lnTo>
                  <a:lnTo>
                    <a:pt x="1985" y="757"/>
                  </a:lnTo>
                  <a:lnTo>
                    <a:pt x="1975" y="777"/>
                  </a:lnTo>
                  <a:lnTo>
                    <a:pt x="1965" y="797"/>
                  </a:lnTo>
                  <a:lnTo>
                    <a:pt x="1955" y="817"/>
                  </a:lnTo>
                  <a:lnTo>
                    <a:pt x="1945" y="838"/>
                  </a:lnTo>
                  <a:lnTo>
                    <a:pt x="1935" y="858"/>
                  </a:lnTo>
                  <a:lnTo>
                    <a:pt x="1924" y="878"/>
                  </a:lnTo>
                  <a:lnTo>
                    <a:pt x="1913" y="899"/>
                  </a:lnTo>
                  <a:lnTo>
                    <a:pt x="1900" y="920"/>
                  </a:lnTo>
                  <a:lnTo>
                    <a:pt x="1889" y="941"/>
                  </a:lnTo>
                  <a:lnTo>
                    <a:pt x="1877" y="962"/>
                  </a:lnTo>
                  <a:lnTo>
                    <a:pt x="1865" y="983"/>
                  </a:lnTo>
                  <a:lnTo>
                    <a:pt x="1852" y="1004"/>
                  </a:lnTo>
                  <a:lnTo>
                    <a:pt x="1840" y="1025"/>
                  </a:lnTo>
                  <a:lnTo>
                    <a:pt x="1827" y="1046"/>
                  </a:lnTo>
                  <a:lnTo>
                    <a:pt x="1813" y="1067"/>
                  </a:lnTo>
                  <a:lnTo>
                    <a:pt x="1800" y="1089"/>
                  </a:lnTo>
                  <a:lnTo>
                    <a:pt x="1787" y="1110"/>
                  </a:lnTo>
                  <a:lnTo>
                    <a:pt x="1773" y="1131"/>
                  </a:lnTo>
                  <a:lnTo>
                    <a:pt x="1759" y="1153"/>
                  </a:lnTo>
                  <a:lnTo>
                    <a:pt x="1744" y="1174"/>
                  </a:lnTo>
                  <a:lnTo>
                    <a:pt x="1730" y="1195"/>
                  </a:lnTo>
                  <a:lnTo>
                    <a:pt x="1715" y="1217"/>
                  </a:lnTo>
                  <a:lnTo>
                    <a:pt x="1701" y="1239"/>
                  </a:lnTo>
                  <a:lnTo>
                    <a:pt x="1685" y="1260"/>
                  </a:lnTo>
                  <a:lnTo>
                    <a:pt x="1670" y="1281"/>
                  </a:lnTo>
                  <a:lnTo>
                    <a:pt x="1655" y="1302"/>
                  </a:lnTo>
                  <a:lnTo>
                    <a:pt x="1640" y="1325"/>
                  </a:lnTo>
                  <a:lnTo>
                    <a:pt x="1623" y="1346"/>
                  </a:lnTo>
                  <a:lnTo>
                    <a:pt x="1607" y="1367"/>
                  </a:lnTo>
                  <a:lnTo>
                    <a:pt x="1592" y="1388"/>
                  </a:lnTo>
                  <a:lnTo>
                    <a:pt x="1575" y="1409"/>
                  </a:lnTo>
                  <a:lnTo>
                    <a:pt x="1558" y="1430"/>
                  </a:lnTo>
                  <a:lnTo>
                    <a:pt x="1542" y="1452"/>
                  </a:lnTo>
                  <a:lnTo>
                    <a:pt x="1525" y="1473"/>
                  </a:lnTo>
                  <a:lnTo>
                    <a:pt x="1508" y="1494"/>
                  </a:lnTo>
                  <a:lnTo>
                    <a:pt x="1492" y="1515"/>
                  </a:lnTo>
                  <a:lnTo>
                    <a:pt x="1474" y="1535"/>
                  </a:lnTo>
                  <a:lnTo>
                    <a:pt x="1457" y="1556"/>
                  </a:lnTo>
                  <a:close/>
                </a:path>
              </a:pathLst>
            </a:custGeom>
            <a:solidFill>
              <a:srgbClr val="b2b2b2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882080" y="4235400"/>
              <a:ext cx="2750760" cy="7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94680" y="4216320"/>
              <a:ext cx="74880" cy="38520"/>
            </a:xfrm>
            <a:custGeom>
              <a:avLst/>
              <a:gdLst/>
              <a:ahLst/>
              <a:rect l="l" t="t" r="r" b="b"/>
              <a:pathLst>
                <a:path w="309" h="155">
                  <a:moveTo>
                    <a:pt x="0" y="0"/>
                  </a:moveTo>
                  <a:lnTo>
                    <a:pt x="309" y="77"/>
                  </a:lnTo>
                  <a:lnTo>
                    <a:pt x="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882080" y="2469960"/>
              <a:ext cx="1572120" cy="1772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13160" y="2467440"/>
              <a:ext cx="43920" cy="45720"/>
            </a:xfrm>
            <a:custGeom>
              <a:avLst/>
              <a:gdLst/>
              <a:ahLst/>
              <a:rect l="l" t="t" r="r" b="b"/>
              <a:pathLst>
                <a:path w="175" h="187">
                  <a:moveTo>
                    <a:pt x="0" y="118"/>
                  </a:moveTo>
                  <a:lnTo>
                    <a:pt x="175" y="0"/>
                  </a:lnTo>
                  <a:lnTo>
                    <a:pt x="76" y="187"/>
                  </a:lnTo>
                  <a:lnTo>
                    <a:pt x="66" y="123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1874880" y="1724040"/>
              <a:ext cx="7200" cy="2518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55800" y="1699200"/>
              <a:ext cx="37800" cy="74880"/>
            </a:xfrm>
            <a:custGeom>
              <a:avLst/>
              <a:gdLst/>
              <a:ahLst/>
              <a:rect l="l" t="t" r="r" b="b"/>
              <a:pathLst>
                <a:path w="155" h="308">
                  <a:moveTo>
                    <a:pt x="0" y="308"/>
                  </a:moveTo>
                  <a:lnTo>
                    <a:pt x="78" y="0"/>
                  </a:lnTo>
                  <a:lnTo>
                    <a:pt x="155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655800" y="3515760"/>
              <a:ext cx="177480" cy="2160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1240" y="3503880"/>
              <a:ext cx="41040" cy="47160"/>
            </a:xfrm>
            <a:custGeom>
              <a:avLst/>
              <a:gdLst/>
              <a:ahLst/>
              <a:rect l="l" t="t" r="r" b="b"/>
              <a:pathLst>
                <a:path w="172" h="191">
                  <a:moveTo>
                    <a:pt x="0" y="126"/>
                  </a:moveTo>
                  <a:lnTo>
                    <a:pt x="172" y="0"/>
                  </a:lnTo>
                  <a:lnTo>
                    <a:pt x="82" y="191"/>
                  </a:lnTo>
                  <a:lnTo>
                    <a:pt x="67" y="127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11440" y="3949560"/>
              <a:ext cx="622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04480" y="1666800"/>
              <a:ext cx="15300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26640" y="4294800"/>
              <a:ext cx="1623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75400" y="3666960"/>
              <a:ext cx="457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</a:rPr>
                <a:t>v(t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1680" y="4912200"/>
              <a:ext cx="6238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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49880" y="4926960"/>
              <a:ext cx="89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4520" y="4805640"/>
              <a:ext cx="459720" cy="461880"/>
            </a:xfrm>
            <a:custGeom>
              <a:avLst/>
              <a:gdLst/>
              <a:ahLst/>
              <a:rect l="l" t="t" r="r" b="b"/>
              <a:pathLst>
                <a:path w="1876" h="1875">
                  <a:moveTo>
                    <a:pt x="15" y="778"/>
                  </a:moveTo>
                  <a:lnTo>
                    <a:pt x="11" y="794"/>
                  </a:lnTo>
                  <a:lnTo>
                    <a:pt x="9" y="810"/>
                  </a:lnTo>
                  <a:lnTo>
                    <a:pt x="7" y="827"/>
                  </a:lnTo>
                  <a:lnTo>
                    <a:pt x="6" y="842"/>
                  </a:lnTo>
                  <a:lnTo>
                    <a:pt x="3" y="859"/>
                  </a:lnTo>
                  <a:lnTo>
                    <a:pt x="2" y="876"/>
                  </a:lnTo>
                  <a:lnTo>
                    <a:pt x="1" y="891"/>
                  </a:lnTo>
                  <a:lnTo>
                    <a:pt x="1" y="908"/>
                  </a:lnTo>
                  <a:lnTo>
                    <a:pt x="0" y="925"/>
                  </a:lnTo>
                  <a:lnTo>
                    <a:pt x="0" y="940"/>
                  </a:lnTo>
                  <a:lnTo>
                    <a:pt x="0" y="957"/>
                  </a:lnTo>
                  <a:lnTo>
                    <a:pt x="1" y="974"/>
                  </a:lnTo>
                  <a:lnTo>
                    <a:pt x="1" y="989"/>
                  </a:lnTo>
                  <a:lnTo>
                    <a:pt x="2" y="1006"/>
                  </a:lnTo>
                  <a:lnTo>
                    <a:pt x="5" y="1022"/>
                  </a:lnTo>
                  <a:lnTo>
                    <a:pt x="6" y="1038"/>
                  </a:lnTo>
                  <a:lnTo>
                    <a:pt x="8" y="1055"/>
                  </a:lnTo>
                  <a:lnTo>
                    <a:pt x="10" y="1070"/>
                  </a:lnTo>
                  <a:lnTo>
                    <a:pt x="12" y="1087"/>
                  </a:lnTo>
                  <a:lnTo>
                    <a:pt x="15" y="1103"/>
                  </a:lnTo>
                  <a:lnTo>
                    <a:pt x="18" y="1119"/>
                  </a:lnTo>
                  <a:lnTo>
                    <a:pt x="21" y="1135"/>
                  </a:lnTo>
                  <a:lnTo>
                    <a:pt x="25" y="1151"/>
                  </a:lnTo>
                  <a:lnTo>
                    <a:pt x="29" y="1167"/>
                  </a:lnTo>
                  <a:lnTo>
                    <a:pt x="32" y="1183"/>
                  </a:lnTo>
                  <a:lnTo>
                    <a:pt x="37" y="1198"/>
                  </a:lnTo>
                  <a:lnTo>
                    <a:pt x="42" y="1214"/>
                  </a:lnTo>
                  <a:lnTo>
                    <a:pt x="47" y="1230"/>
                  </a:lnTo>
                  <a:lnTo>
                    <a:pt x="52" y="1245"/>
                  </a:lnTo>
                  <a:lnTo>
                    <a:pt x="58" y="1261"/>
                  </a:lnTo>
                  <a:lnTo>
                    <a:pt x="64" y="1275"/>
                  </a:lnTo>
                  <a:lnTo>
                    <a:pt x="69" y="1291"/>
                  </a:lnTo>
                  <a:lnTo>
                    <a:pt x="76" y="1306"/>
                  </a:lnTo>
                  <a:lnTo>
                    <a:pt x="82" y="1321"/>
                  </a:lnTo>
                  <a:lnTo>
                    <a:pt x="89" y="1335"/>
                  </a:lnTo>
                  <a:lnTo>
                    <a:pt x="96" y="1351"/>
                  </a:lnTo>
                  <a:lnTo>
                    <a:pt x="104" y="1365"/>
                  </a:lnTo>
                  <a:lnTo>
                    <a:pt x="111" y="1380"/>
                  </a:lnTo>
                  <a:lnTo>
                    <a:pt x="119" y="1394"/>
                  </a:lnTo>
                  <a:lnTo>
                    <a:pt x="127" y="1408"/>
                  </a:lnTo>
                  <a:lnTo>
                    <a:pt x="135" y="1422"/>
                  </a:lnTo>
                  <a:lnTo>
                    <a:pt x="144" y="1437"/>
                  </a:lnTo>
                  <a:lnTo>
                    <a:pt x="153" y="1450"/>
                  </a:lnTo>
                  <a:lnTo>
                    <a:pt x="162" y="1463"/>
                  </a:lnTo>
                  <a:lnTo>
                    <a:pt x="170" y="1477"/>
                  </a:lnTo>
                  <a:lnTo>
                    <a:pt x="180" y="1490"/>
                  </a:lnTo>
                  <a:lnTo>
                    <a:pt x="191" y="1503"/>
                  </a:lnTo>
                  <a:lnTo>
                    <a:pt x="201" y="1517"/>
                  </a:lnTo>
                  <a:lnTo>
                    <a:pt x="211" y="1529"/>
                  </a:lnTo>
                  <a:lnTo>
                    <a:pt x="221" y="1541"/>
                  </a:lnTo>
                  <a:lnTo>
                    <a:pt x="232" y="1554"/>
                  </a:lnTo>
                  <a:lnTo>
                    <a:pt x="243" y="1566"/>
                  </a:lnTo>
                  <a:lnTo>
                    <a:pt x="254" y="1578"/>
                  </a:lnTo>
                  <a:lnTo>
                    <a:pt x="265" y="1590"/>
                  </a:lnTo>
                  <a:lnTo>
                    <a:pt x="276" y="1601"/>
                  </a:lnTo>
                  <a:lnTo>
                    <a:pt x="287" y="1614"/>
                  </a:lnTo>
                  <a:lnTo>
                    <a:pt x="300" y="1625"/>
                  </a:lnTo>
                  <a:lnTo>
                    <a:pt x="312" y="1636"/>
                  </a:lnTo>
                  <a:lnTo>
                    <a:pt x="324" y="1646"/>
                  </a:lnTo>
                  <a:lnTo>
                    <a:pt x="336" y="1657"/>
                  </a:lnTo>
                  <a:lnTo>
                    <a:pt x="349" y="1667"/>
                  </a:lnTo>
                  <a:lnTo>
                    <a:pt x="362" y="1677"/>
                  </a:lnTo>
                  <a:lnTo>
                    <a:pt x="375" y="1687"/>
                  </a:lnTo>
                  <a:lnTo>
                    <a:pt x="388" y="1697"/>
                  </a:lnTo>
                  <a:lnTo>
                    <a:pt x="401" y="1706"/>
                  </a:lnTo>
                  <a:lnTo>
                    <a:pt x="414" y="1716"/>
                  </a:lnTo>
                  <a:lnTo>
                    <a:pt x="429" y="1725"/>
                  </a:lnTo>
                  <a:lnTo>
                    <a:pt x="442" y="1734"/>
                  </a:lnTo>
                  <a:lnTo>
                    <a:pt x="457" y="1742"/>
                  </a:lnTo>
                  <a:lnTo>
                    <a:pt x="470" y="1751"/>
                  </a:lnTo>
                  <a:lnTo>
                    <a:pt x="484" y="1758"/>
                  </a:lnTo>
                  <a:lnTo>
                    <a:pt x="499" y="1766"/>
                  </a:lnTo>
                  <a:lnTo>
                    <a:pt x="513" y="1774"/>
                  </a:lnTo>
                  <a:lnTo>
                    <a:pt x="528" y="1781"/>
                  </a:lnTo>
                  <a:lnTo>
                    <a:pt x="542" y="1787"/>
                  </a:lnTo>
                  <a:lnTo>
                    <a:pt x="558" y="1795"/>
                  </a:lnTo>
                  <a:lnTo>
                    <a:pt x="572" y="1801"/>
                  </a:lnTo>
                  <a:lnTo>
                    <a:pt x="588" y="1807"/>
                  </a:lnTo>
                  <a:lnTo>
                    <a:pt x="602" y="1813"/>
                  </a:lnTo>
                  <a:lnTo>
                    <a:pt x="618" y="1818"/>
                  </a:lnTo>
                  <a:lnTo>
                    <a:pt x="634" y="1824"/>
                  </a:lnTo>
                  <a:lnTo>
                    <a:pt x="649" y="1830"/>
                  </a:lnTo>
                  <a:lnTo>
                    <a:pt x="665" y="1834"/>
                  </a:lnTo>
                  <a:lnTo>
                    <a:pt x="680" y="1840"/>
                  </a:lnTo>
                  <a:lnTo>
                    <a:pt x="696" y="1843"/>
                  </a:lnTo>
                  <a:lnTo>
                    <a:pt x="712" y="1847"/>
                  </a:lnTo>
                  <a:lnTo>
                    <a:pt x="728" y="1852"/>
                  </a:lnTo>
                  <a:lnTo>
                    <a:pt x="744" y="1855"/>
                  </a:lnTo>
                  <a:lnTo>
                    <a:pt x="759" y="1859"/>
                  </a:lnTo>
                  <a:lnTo>
                    <a:pt x="776" y="1861"/>
                  </a:lnTo>
                  <a:lnTo>
                    <a:pt x="792" y="1864"/>
                  </a:lnTo>
                  <a:lnTo>
                    <a:pt x="808" y="1866"/>
                  </a:lnTo>
                  <a:lnTo>
                    <a:pt x="824" y="1869"/>
                  </a:lnTo>
                  <a:lnTo>
                    <a:pt x="841" y="1870"/>
                  </a:lnTo>
                  <a:lnTo>
                    <a:pt x="857" y="1872"/>
                  </a:lnTo>
                  <a:lnTo>
                    <a:pt x="873" y="1873"/>
                  </a:lnTo>
                  <a:lnTo>
                    <a:pt x="890" y="1874"/>
                  </a:lnTo>
                  <a:lnTo>
                    <a:pt x="906" y="1874"/>
                  </a:lnTo>
                  <a:lnTo>
                    <a:pt x="922" y="1875"/>
                  </a:lnTo>
                  <a:lnTo>
                    <a:pt x="939" y="1875"/>
                  </a:lnTo>
                  <a:lnTo>
                    <a:pt x="955" y="1875"/>
                  </a:lnTo>
                  <a:lnTo>
                    <a:pt x="971" y="1874"/>
                  </a:lnTo>
                  <a:lnTo>
                    <a:pt x="988" y="1874"/>
                  </a:lnTo>
                  <a:lnTo>
                    <a:pt x="1004" y="1873"/>
                  </a:lnTo>
                  <a:lnTo>
                    <a:pt x="1020" y="1872"/>
                  </a:lnTo>
                  <a:lnTo>
                    <a:pt x="1037" y="1870"/>
                  </a:lnTo>
                  <a:lnTo>
                    <a:pt x="1052" y="1869"/>
                  </a:lnTo>
                  <a:lnTo>
                    <a:pt x="1069" y="1866"/>
                  </a:lnTo>
                  <a:lnTo>
                    <a:pt x="1085" y="1864"/>
                  </a:lnTo>
                  <a:lnTo>
                    <a:pt x="1101" y="1861"/>
                  </a:lnTo>
                  <a:lnTo>
                    <a:pt x="1117" y="1857"/>
                  </a:lnTo>
                  <a:lnTo>
                    <a:pt x="1134" y="1855"/>
                  </a:lnTo>
                  <a:lnTo>
                    <a:pt x="1149" y="1851"/>
                  </a:lnTo>
                  <a:lnTo>
                    <a:pt x="1165" y="1847"/>
                  </a:lnTo>
                  <a:lnTo>
                    <a:pt x="1181" y="1843"/>
                  </a:lnTo>
                  <a:lnTo>
                    <a:pt x="1197" y="1839"/>
                  </a:lnTo>
                  <a:lnTo>
                    <a:pt x="1213" y="1834"/>
                  </a:lnTo>
                  <a:lnTo>
                    <a:pt x="1228" y="1830"/>
                  </a:lnTo>
                  <a:lnTo>
                    <a:pt x="1244" y="1824"/>
                  </a:lnTo>
                  <a:lnTo>
                    <a:pt x="1258" y="1818"/>
                  </a:lnTo>
                  <a:lnTo>
                    <a:pt x="1274" y="1813"/>
                  </a:lnTo>
                  <a:lnTo>
                    <a:pt x="1289" y="1807"/>
                  </a:lnTo>
                  <a:lnTo>
                    <a:pt x="1304" y="1801"/>
                  </a:lnTo>
                  <a:lnTo>
                    <a:pt x="1320" y="1794"/>
                  </a:lnTo>
                  <a:lnTo>
                    <a:pt x="1334" y="1787"/>
                  </a:lnTo>
                  <a:lnTo>
                    <a:pt x="1348" y="1781"/>
                  </a:lnTo>
                  <a:lnTo>
                    <a:pt x="1364" y="1773"/>
                  </a:lnTo>
                  <a:lnTo>
                    <a:pt x="1379" y="1765"/>
                  </a:lnTo>
                  <a:lnTo>
                    <a:pt x="1393" y="1757"/>
                  </a:lnTo>
                  <a:lnTo>
                    <a:pt x="1406" y="1749"/>
                  </a:lnTo>
                  <a:lnTo>
                    <a:pt x="1421" y="1742"/>
                  </a:lnTo>
                  <a:lnTo>
                    <a:pt x="1434" y="1733"/>
                  </a:lnTo>
                  <a:lnTo>
                    <a:pt x="1449" y="1724"/>
                  </a:lnTo>
                  <a:lnTo>
                    <a:pt x="1462" y="1715"/>
                  </a:lnTo>
                  <a:lnTo>
                    <a:pt x="1475" y="1706"/>
                  </a:lnTo>
                  <a:lnTo>
                    <a:pt x="1489" y="1696"/>
                  </a:lnTo>
                  <a:lnTo>
                    <a:pt x="1502" y="1687"/>
                  </a:lnTo>
                  <a:lnTo>
                    <a:pt x="1515" y="1677"/>
                  </a:lnTo>
                  <a:lnTo>
                    <a:pt x="1528" y="1667"/>
                  </a:lnTo>
                  <a:lnTo>
                    <a:pt x="1540" y="1656"/>
                  </a:lnTo>
                  <a:lnTo>
                    <a:pt x="1553" y="1646"/>
                  </a:lnTo>
                  <a:lnTo>
                    <a:pt x="1566" y="1635"/>
                  </a:lnTo>
                  <a:lnTo>
                    <a:pt x="1577" y="1624"/>
                  </a:lnTo>
                  <a:lnTo>
                    <a:pt x="1589" y="1613"/>
                  </a:lnTo>
                  <a:lnTo>
                    <a:pt x="1601" y="1601"/>
                  </a:lnTo>
                  <a:lnTo>
                    <a:pt x="1612" y="1589"/>
                  </a:lnTo>
                  <a:lnTo>
                    <a:pt x="1623" y="1578"/>
                  </a:lnTo>
                  <a:lnTo>
                    <a:pt x="1635" y="1566"/>
                  </a:lnTo>
                  <a:lnTo>
                    <a:pt x="1646" y="1554"/>
                  </a:lnTo>
                  <a:lnTo>
                    <a:pt x="1656" y="1541"/>
                  </a:lnTo>
                  <a:lnTo>
                    <a:pt x="1667" y="1528"/>
                  </a:lnTo>
                  <a:lnTo>
                    <a:pt x="1677" y="1516"/>
                  </a:lnTo>
                  <a:lnTo>
                    <a:pt x="1687" y="1502"/>
                  </a:lnTo>
                  <a:lnTo>
                    <a:pt x="1696" y="1489"/>
                  </a:lnTo>
                  <a:lnTo>
                    <a:pt x="1706" y="1476"/>
                  </a:lnTo>
                  <a:lnTo>
                    <a:pt x="1715" y="1462"/>
                  </a:lnTo>
                  <a:lnTo>
                    <a:pt x="1724" y="1449"/>
                  </a:lnTo>
                  <a:lnTo>
                    <a:pt x="1733" y="1436"/>
                  </a:lnTo>
                  <a:lnTo>
                    <a:pt x="1741" y="1421"/>
                  </a:lnTo>
                  <a:lnTo>
                    <a:pt x="1749" y="1408"/>
                  </a:lnTo>
                  <a:lnTo>
                    <a:pt x="1758" y="1393"/>
                  </a:lnTo>
                  <a:lnTo>
                    <a:pt x="1766" y="1379"/>
                  </a:lnTo>
                  <a:lnTo>
                    <a:pt x="1773" y="1364"/>
                  </a:lnTo>
                  <a:lnTo>
                    <a:pt x="1780" y="1350"/>
                  </a:lnTo>
                  <a:lnTo>
                    <a:pt x="1787" y="1335"/>
                  </a:lnTo>
                  <a:lnTo>
                    <a:pt x="1794" y="1320"/>
                  </a:lnTo>
                  <a:lnTo>
                    <a:pt x="1801" y="1305"/>
                  </a:lnTo>
                  <a:lnTo>
                    <a:pt x="1807" y="1290"/>
                  </a:lnTo>
                  <a:lnTo>
                    <a:pt x="1813" y="1275"/>
                  </a:lnTo>
                  <a:lnTo>
                    <a:pt x="1818" y="1260"/>
                  </a:lnTo>
                  <a:lnTo>
                    <a:pt x="1824" y="1244"/>
                  </a:lnTo>
                  <a:lnTo>
                    <a:pt x="1829" y="1228"/>
                  </a:lnTo>
                  <a:lnTo>
                    <a:pt x="1834" y="1213"/>
                  </a:lnTo>
                  <a:lnTo>
                    <a:pt x="1839" y="1197"/>
                  </a:lnTo>
                  <a:lnTo>
                    <a:pt x="1844" y="1182"/>
                  </a:lnTo>
                  <a:lnTo>
                    <a:pt x="1847" y="1166"/>
                  </a:lnTo>
                  <a:lnTo>
                    <a:pt x="1852" y="1149"/>
                  </a:lnTo>
                  <a:lnTo>
                    <a:pt x="1855" y="1134"/>
                  </a:lnTo>
                  <a:lnTo>
                    <a:pt x="1858" y="1118"/>
                  </a:lnTo>
                  <a:lnTo>
                    <a:pt x="1862" y="1102"/>
                  </a:lnTo>
                  <a:lnTo>
                    <a:pt x="1864" y="1086"/>
                  </a:lnTo>
                  <a:lnTo>
                    <a:pt x="1866" y="1069"/>
                  </a:lnTo>
                  <a:lnTo>
                    <a:pt x="1868" y="1054"/>
                  </a:lnTo>
                  <a:lnTo>
                    <a:pt x="1871" y="1037"/>
                  </a:lnTo>
                  <a:lnTo>
                    <a:pt x="1872" y="1021"/>
                  </a:lnTo>
                  <a:lnTo>
                    <a:pt x="1873" y="1005"/>
                  </a:lnTo>
                  <a:lnTo>
                    <a:pt x="1874" y="988"/>
                  </a:lnTo>
                  <a:lnTo>
                    <a:pt x="1875" y="972"/>
                  </a:lnTo>
                  <a:lnTo>
                    <a:pt x="1875" y="956"/>
                  </a:lnTo>
                  <a:lnTo>
                    <a:pt x="1876" y="939"/>
                  </a:lnTo>
                  <a:lnTo>
                    <a:pt x="1876" y="923"/>
                  </a:lnTo>
                  <a:lnTo>
                    <a:pt x="1875" y="907"/>
                  </a:lnTo>
                  <a:lnTo>
                    <a:pt x="1875" y="890"/>
                  </a:lnTo>
                  <a:lnTo>
                    <a:pt x="1874" y="874"/>
                  </a:lnTo>
                  <a:lnTo>
                    <a:pt x="1873" y="858"/>
                  </a:lnTo>
                  <a:lnTo>
                    <a:pt x="1871" y="841"/>
                  </a:lnTo>
                  <a:lnTo>
                    <a:pt x="1870" y="825"/>
                  </a:lnTo>
                  <a:lnTo>
                    <a:pt x="1867" y="809"/>
                  </a:lnTo>
                  <a:lnTo>
                    <a:pt x="1865" y="793"/>
                  </a:lnTo>
                  <a:lnTo>
                    <a:pt x="1862" y="776"/>
                  </a:lnTo>
                  <a:lnTo>
                    <a:pt x="1860" y="761"/>
                  </a:lnTo>
                  <a:lnTo>
                    <a:pt x="1856" y="744"/>
                  </a:lnTo>
                  <a:lnTo>
                    <a:pt x="1852" y="729"/>
                  </a:lnTo>
                  <a:lnTo>
                    <a:pt x="1848" y="713"/>
                  </a:lnTo>
                  <a:lnTo>
                    <a:pt x="1844" y="697"/>
                  </a:lnTo>
                  <a:lnTo>
                    <a:pt x="1841" y="682"/>
                  </a:lnTo>
                  <a:lnTo>
                    <a:pt x="1835" y="665"/>
                  </a:lnTo>
                  <a:lnTo>
                    <a:pt x="1831" y="650"/>
                  </a:lnTo>
                  <a:lnTo>
                    <a:pt x="1825" y="634"/>
                  </a:lnTo>
                  <a:lnTo>
                    <a:pt x="1821" y="619"/>
                  </a:lnTo>
                  <a:lnTo>
                    <a:pt x="1814" y="604"/>
                  </a:lnTo>
                  <a:lnTo>
                    <a:pt x="1808" y="588"/>
                  </a:lnTo>
                  <a:lnTo>
                    <a:pt x="1803" y="574"/>
                  </a:lnTo>
                  <a:lnTo>
                    <a:pt x="1796" y="558"/>
                  </a:lnTo>
                  <a:lnTo>
                    <a:pt x="1789" y="544"/>
                  </a:lnTo>
                  <a:lnTo>
                    <a:pt x="1782" y="529"/>
                  </a:lnTo>
                  <a:lnTo>
                    <a:pt x="1775" y="514"/>
                  </a:lnTo>
                  <a:lnTo>
                    <a:pt x="1767" y="499"/>
                  </a:lnTo>
                  <a:lnTo>
                    <a:pt x="1759" y="485"/>
                  </a:lnTo>
                  <a:lnTo>
                    <a:pt x="1752" y="471"/>
                  </a:lnTo>
                  <a:lnTo>
                    <a:pt x="1744" y="457"/>
                  </a:lnTo>
                  <a:lnTo>
                    <a:pt x="1735" y="442"/>
                  </a:lnTo>
                  <a:lnTo>
                    <a:pt x="1726" y="429"/>
                  </a:lnTo>
                  <a:lnTo>
                    <a:pt x="1717" y="416"/>
                  </a:lnTo>
                  <a:lnTo>
                    <a:pt x="1708" y="402"/>
                  </a:lnTo>
                  <a:lnTo>
                    <a:pt x="1698" y="389"/>
                  </a:lnTo>
                  <a:lnTo>
                    <a:pt x="1689" y="376"/>
                  </a:lnTo>
                  <a:lnTo>
                    <a:pt x="1679" y="362"/>
                  </a:lnTo>
                  <a:lnTo>
                    <a:pt x="1669" y="350"/>
                  </a:lnTo>
                  <a:lnTo>
                    <a:pt x="1658" y="337"/>
                  </a:lnTo>
                  <a:lnTo>
                    <a:pt x="1648" y="324"/>
                  </a:lnTo>
                  <a:lnTo>
                    <a:pt x="1637" y="312"/>
                  </a:lnTo>
                  <a:lnTo>
                    <a:pt x="1626" y="300"/>
                  </a:lnTo>
                  <a:lnTo>
                    <a:pt x="1615" y="289"/>
                  </a:lnTo>
                  <a:lnTo>
                    <a:pt x="1603" y="277"/>
                  </a:lnTo>
                  <a:lnTo>
                    <a:pt x="1591" y="265"/>
                  </a:lnTo>
                  <a:lnTo>
                    <a:pt x="1580" y="254"/>
                  </a:lnTo>
                  <a:lnTo>
                    <a:pt x="1568" y="243"/>
                  </a:lnTo>
                  <a:lnTo>
                    <a:pt x="1556" y="232"/>
                  </a:lnTo>
                  <a:lnTo>
                    <a:pt x="1543" y="221"/>
                  </a:lnTo>
                  <a:lnTo>
                    <a:pt x="1531" y="211"/>
                  </a:lnTo>
                  <a:lnTo>
                    <a:pt x="1518" y="201"/>
                  </a:lnTo>
                  <a:lnTo>
                    <a:pt x="1505" y="191"/>
                  </a:lnTo>
                  <a:lnTo>
                    <a:pt x="1492" y="181"/>
                  </a:lnTo>
                  <a:lnTo>
                    <a:pt x="1479" y="171"/>
                  </a:lnTo>
                  <a:lnTo>
                    <a:pt x="1465" y="162"/>
                  </a:lnTo>
                  <a:lnTo>
                    <a:pt x="1452" y="153"/>
                  </a:lnTo>
                  <a:lnTo>
                    <a:pt x="1438" y="144"/>
                  </a:lnTo>
                  <a:lnTo>
                    <a:pt x="1424" y="135"/>
                  </a:lnTo>
                  <a:lnTo>
                    <a:pt x="1410" y="127"/>
                  </a:lnTo>
                  <a:lnTo>
                    <a:pt x="1395" y="120"/>
                  </a:lnTo>
                  <a:lnTo>
                    <a:pt x="1382" y="112"/>
                  </a:lnTo>
                  <a:lnTo>
                    <a:pt x="1367" y="104"/>
                  </a:lnTo>
                  <a:lnTo>
                    <a:pt x="1352" y="96"/>
                  </a:lnTo>
                  <a:lnTo>
                    <a:pt x="1337" y="90"/>
                  </a:lnTo>
                  <a:lnTo>
                    <a:pt x="1323" y="83"/>
                  </a:lnTo>
                  <a:lnTo>
                    <a:pt x="1307" y="76"/>
                  </a:lnTo>
                  <a:lnTo>
                    <a:pt x="1293" y="70"/>
                  </a:lnTo>
                  <a:lnTo>
                    <a:pt x="1277" y="64"/>
                  </a:lnTo>
                  <a:lnTo>
                    <a:pt x="1263" y="57"/>
                  </a:lnTo>
                  <a:lnTo>
                    <a:pt x="1247" y="52"/>
                  </a:lnTo>
                  <a:lnTo>
                    <a:pt x="1232" y="47"/>
                  </a:lnTo>
                  <a:lnTo>
                    <a:pt x="1216" y="42"/>
                  </a:lnTo>
                  <a:lnTo>
                    <a:pt x="1200" y="37"/>
                  </a:lnTo>
                  <a:lnTo>
                    <a:pt x="1185" y="33"/>
                  </a:lnTo>
                  <a:lnTo>
                    <a:pt x="1168" y="28"/>
                  </a:lnTo>
                  <a:lnTo>
                    <a:pt x="1152" y="25"/>
                  </a:lnTo>
                  <a:lnTo>
                    <a:pt x="1137" y="22"/>
                  </a:lnTo>
                  <a:lnTo>
                    <a:pt x="1121" y="18"/>
                  </a:lnTo>
                  <a:lnTo>
                    <a:pt x="1105" y="15"/>
                  </a:lnTo>
                  <a:lnTo>
                    <a:pt x="1089" y="12"/>
                  </a:lnTo>
                  <a:lnTo>
                    <a:pt x="1072" y="9"/>
                  </a:lnTo>
                  <a:lnTo>
                    <a:pt x="1057" y="7"/>
                  </a:lnTo>
                  <a:lnTo>
                    <a:pt x="1040" y="5"/>
                  </a:lnTo>
                  <a:lnTo>
                    <a:pt x="1023" y="4"/>
                  </a:lnTo>
                  <a:lnTo>
                    <a:pt x="1008" y="3"/>
                  </a:lnTo>
                  <a:lnTo>
                    <a:pt x="991" y="2"/>
                  </a:lnTo>
                  <a:lnTo>
                    <a:pt x="974" y="0"/>
                  </a:lnTo>
                  <a:lnTo>
                    <a:pt x="959" y="0"/>
                  </a:lnTo>
                  <a:lnTo>
                    <a:pt x="942" y="0"/>
                  </a:lnTo>
                  <a:lnTo>
                    <a:pt x="925" y="0"/>
                  </a:lnTo>
                  <a:lnTo>
                    <a:pt x="910" y="0"/>
                  </a:lnTo>
                  <a:lnTo>
                    <a:pt x="893" y="0"/>
                  </a:lnTo>
                  <a:lnTo>
                    <a:pt x="876" y="2"/>
                  </a:lnTo>
                  <a:lnTo>
                    <a:pt x="861" y="3"/>
                  </a:lnTo>
                  <a:lnTo>
                    <a:pt x="844" y="5"/>
                  </a:lnTo>
                  <a:lnTo>
                    <a:pt x="828" y="6"/>
                  </a:lnTo>
                  <a:lnTo>
                    <a:pt x="812" y="8"/>
                  </a:lnTo>
                  <a:lnTo>
                    <a:pt x="796" y="11"/>
                  </a:lnTo>
                  <a:lnTo>
                    <a:pt x="779" y="14"/>
                  </a:lnTo>
                  <a:lnTo>
                    <a:pt x="764" y="16"/>
                  </a:lnTo>
                  <a:lnTo>
                    <a:pt x="747" y="19"/>
                  </a:lnTo>
                  <a:lnTo>
                    <a:pt x="732" y="23"/>
                  </a:lnTo>
                  <a:lnTo>
                    <a:pt x="716" y="27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70840" y="4965480"/>
              <a:ext cx="26640" cy="51840"/>
            </a:xfrm>
            <a:custGeom>
              <a:avLst/>
              <a:gdLst/>
              <a:ahLst/>
              <a:rect l="l" t="t" r="r" b="b"/>
              <a:pathLst>
                <a:path w="110" h="210">
                  <a:moveTo>
                    <a:pt x="0" y="181"/>
                  </a:moveTo>
                  <a:lnTo>
                    <a:pt x="110" y="0"/>
                  </a:lnTo>
                  <a:lnTo>
                    <a:pt x="97" y="210"/>
                  </a:lnTo>
                  <a:lnTo>
                    <a:pt x="62" y="157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28160" y="4793760"/>
              <a:ext cx="51120" cy="29520"/>
            </a:xfrm>
            <a:custGeom>
              <a:avLst/>
              <a:gdLst/>
              <a:ahLst/>
              <a:rect l="l" t="t" r="r" b="b"/>
              <a:pathLst>
                <a:path w="211" h="122">
                  <a:moveTo>
                    <a:pt x="211" y="96"/>
                  </a:moveTo>
                  <a:lnTo>
                    <a:pt x="0" y="122"/>
                  </a:lnTo>
                  <a:lnTo>
                    <a:pt x="174" y="0"/>
                  </a:lnTo>
                  <a:lnTo>
                    <a:pt x="155" y="62"/>
                  </a:lnTo>
                  <a:lnTo>
                    <a:pt x="211" y="96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27760" y="2347560"/>
              <a:ext cx="460080" cy="463320"/>
            </a:xfrm>
            <a:custGeom>
              <a:avLst/>
              <a:gdLst/>
              <a:ahLst/>
              <a:rect l="l" t="t" r="r" b="b"/>
              <a:pathLst>
                <a:path w="1875" h="1876">
                  <a:moveTo>
                    <a:pt x="14" y="779"/>
                  </a:moveTo>
                  <a:lnTo>
                    <a:pt x="12" y="794"/>
                  </a:lnTo>
                  <a:lnTo>
                    <a:pt x="9" y="811"/>
                  </a:lnTo>
                  <a:lnTo>
                    <a:pt x="7" y="828"/>
                  </a:lnTo>
                  <a:lnTo>
                    <a:pt x="5" y="843"/>
                  </a:lnTo>
                  <a:lnTo>
                    <a:pt x="4" y="860"/>
                  </a:lnTo>
                  <a:lnTo>
                    <a:pt x="3" y="875"/>
                  </a:lnTo>
                  <a:lnTo>
                    <a:pt x="1" y="892"/>
                  </a:lnTo>
                  <a:lnTo>
                    <a:pt x="0" y="909"/>
                  </a:lnTo>
                  <a:lnTo>
                    <a:pt x="0" y="924"/>
                  </a:lnTo>
                  <a:lnTo>
                    <a:pt x="0" y="941"/>
                  </a:lnTo>
                  <a:lnTo>
                    <a:pt x="0" y="958"/>
                  </a:lnTo>
                  <a:lnTo>
                    <a:pt x="0" y="973"/>
                  </a:lnTo>
                  <a:lnTo>
                    <a:pt x="1" y="990"/>
                  </a:lnTo>
                  <a:lnTo>
                    <a:pt x="3" y="1007"/>
                  </a:lnTo>
                  <a:lnTo>
                    <a:pt x="4" y="1022"/>
                  </a:lnTo>
                  <a:lnTo>
                    <a:pt x="6" y="1039"/>
                  </a:lnTo>
                  <a:lnTo>
                    <a:pt x="7" y="1056"/>
                  </a:lnTo>
                  <a:lnTo>
                    <a:pt x="9" y="1071"/>
                  </a:lnTo>
                  <a:lnTo>
                    <a:pt x="13" y="1088"/>
                  </a:lnTo>
                  <a:lnTo>
                    <a:pt x="15" y="1104"/>
                  </a:lnTo>
                  <a:lnTo>
                    <a:pt x="18" y="1119"/>
                  </a:lnTo>
                  <a:lnTo>
                    <a:pt x="22" y="1136"/>
                  </a:lnTo>
                  <a:lnTo>
                    <a:pt x="25" y="1152"/>
                  </a:lnTo>
                  <a:lnTo>
                    <a:pt x="28" y="1167"/>
                  </a:lnTo>
                  <a:lnTo>
                    <a:pt x="33" y="1184"/>
                  </a:lnTo>
                  <a:lnTo>
                    <a:pt x="37" y="1199"/>
                  </a:lnTo>
                  <a:lnTo>
                    <a:pt x="42" y="1215"/>
                  </a:lnTo>
                  <a:lnTo>
                    <a:pt x="47" y="1231"/>
                  </a:lnTo>
                  <a:lnTo>
                    <a:pt x="52" y="1246"/>
                  </a:lnTo>
                  <a:lnTo>
                    <a:pt x="57" y="1262"/>
                  </a:lnTo>
                  <a:lnTo>
                    <a:pt x="64" y="1276"/>
                  </a:lnTo>
                  <a:lnTo>
                    <a:pt x="69" y="1292"/>
                  </a:lnTo>
                  <a:lnTo>
                    <a:pt x="76" y="1306"/>
                  </a:lnTo>
                  <a:lnTo>
                    <a:pt x="82" y="1322"/>
                  </a:lnTo>
                  <a:lnTo>
                    <a:pt x="89" y="1336"/>
                  </a:lnTo>
                  <a:lnTo>
                    <a:pt x="96" y="1351"/>
                  </a:lnTo>
                  <a:lnTo>
                    <a:pt x="104" y="1366"/>
                  </a:lnTo>
                  <a:lnTo>
                    <a:pt x="111" y="1381"/>
                  </a:lnTo>
                  <a:lnTo>
                    <a:pt x="118" y="1394"/>
                  </a:lnTo>
                  <a:lnTo>
                    <a:pt x="127" y="1409"/>
                  </a:lnTo>
                  <a:lnTo>
                    <a:pt x="135" y="1423"/>
                  </a:lnTo>
                  <a:lnTo>
                    <a:pt x="144" y="1437"/>
                  </a:lnTo>
                  <a:lnTo>
                    <a:pt x="153" y="1451"/>
                  </a:lnTo>
                  <a:lnTo>
                    <a:pt x="162" y="1464"/>
                  </a:lnTo>
                  <a:lnTo>
                    <a:pt x="171" y="1478"/>
                  </a:lnTo>
                  <a:lnTo>
                    <a:pt x="181" y="1491"/>
                  </a:lnTo>
                  <a:lnTo>
                    <a:pt x="190" y="1504"/>
                  </a:lnTo>
                  <a:lnTo>
                    <a:pt x="200" y="1517"/>
                  </a:lnTo>
                  <a:lnTo>
                    <a:pt x="211" y="1530"/>
                  </a:lnTo>
                  <a:lnTo>
                    <a:pt x="221" y="1542"/>
                  </a:lnTo>
                  <a:lnTo>
                    <a:pt x="231" y="1555"/>
                  </a:lnTo>
                  <a:lnTo>
                    <a:pt x="242" y="1567"/>
                  </a:lnTo>
                  <a:lnTo>
                    <a:pt x="253" y="1579"/>
                  </a:lnTo>
                  <a:lnTo>
                    <a:pt x="264" y="1591"/>
                  </a:lnTo>
                  <a:lnTo>
                    <a:pt x="277" y="1602"/>
                  </a:lnTo>
                  <a:lnTo>
                    <a:pt x="288" y="1614"/>
                  </a:lnTo>
                  <a:lnTo>
                    <a:pt x="300" y="1625"/>
                  </a:lnTo>
                  <a:lnTo>
                    <a:pt x="312" y="1636"/>
                  </a:lnTo>
                  <a:lnTo>
                    <a:pt x="324" y="1647"/>
                  </a:lnTo>
                  <a:lnTo>
                    <a:pt x="337" y="1658"/>
                  </a:lnTo>
                  <a:lnTo>
                    <a:pt x="349" y="1668"/>
                  </a:lnTo>
                  <a:lnTo>
                    <a:pt x="362" y="1678"/>
                  </a:lnTo>
                  <a:lnTo>
                    <a:pt x="374" y="1688"/>
                  </a:lnTo>
                  <a:lnTo>
                    <a:pt x="388" y="1698"/>
                  </a:lnTo>
                  <a:lnTo>
                    <a:pt x="401" y="1707"/>
                  </a:lnTo>
                  <a:lnTo>
                    <a:pt x="415" y="1716"/>
                  </a:lnTo>
                  <a:lnTo>
                    <a:pt x="428" y="1726"/>
                  </a:lnTo>
                  <a:lnTo>
                    <a:pt x="442" y="1734"/>
                  </a:lnTo>
                  <a:lnTo>
                    <a:pt x="456" y="1743"/>
                  </a:lnTo>
                  <a:lnTo>
                    <a:pt x="470" y="1750"/>
                  </a:lnTo>
                  <a:lnTo>
                    <a:pt x="485" y="1759"/>
                  </a:lnTo>
                  <a:lnTo>
                    <a:pt x="499" y="1767"/>
                  </a:lnTo>
                  <a:lnTo>
                    <a:pt x="514" y="1774"/>
                  </a:lnTo>
                  <a:lnTo>
                    <a:pt x="528" y="1782"/>
                  </a:lnTo>
                  <a:lnTo>
                    <a:pt x="543" y="1788"/>
                  </a:lnTo>
                  <a:lnTo>
                    <a:pt x="557" y="1795"/>
                  </a:lnTo>
                  <a:lnTo>
                    <a:pt x="573" y="1802"/>
                  </a:lnTo>
                  <a:lnTo>
                    <a:pt x="587" y="1808"/>
                  </a:lnTo>
                  <a:lnTo>
                    <a:pt x="603" y="1814"/>
                  </a:lnTo>
                  <a:lnTo>
                    <a:pt x="618" y="1820"/>
                  </a:lnTo>
                  <a:lnTo>
                    <a:pt x="634" y="1825"/>
                  </a:lnTo>
                  <a:lnTo>
                    <a:pt x="649" y="1831"/>
                  </a:lnTo>
                  <a:lnTo>
                    <a:pt x="665" y="1835"/>
                  </a:lnTo>
                  <a:lnTo>
                    <a:pt x="681" y="1840"/>
                  </a:lnTo>
                  <a:lnTo>
                    <a:pt x="696" y="1844"/>
                  </a:lnTo>
                  <a:lnTo>
                    <a:pt x="712" y="1848"/>
                  </a:lnTo>
                  <a:lnTo>
                    <a:pt x="727" y="1852"/>
                  </a:lnTo>
                  <a:lnTo>
                    <a:pt x="744" y="1856"/>
                  </a:lnTo>
                  <a:lnTo>
                    <a:pt x="760" y="1858"/>
                  </a:lnTo>
                  <a:lnTo>
                    <a:pt x="776" y="1862"/>
                  </a:lnTo>
                  <a:lnTo>
                    <a:pt x="792" y="1865"/>
                  </a:lnTo>
                  <a:lnTo>
                    <a:pt x="808" y="1867"/>
                  </a:lnTo>
                  <a:lnTo>
                    <a:pt x="824" y="1870"/>
                  </a:lnTo>
                  <a:lnTo>
                    <a:pt x="841" y="1871"/>
                  </a:lnTo>
                  <a:lnTo>
                    <a:pt x="857" y="1873"/>
                  </a:lnTo>
                  <a:lnTo>
                    <a:pt x="873" y="1874"/>
                  </a:lnTo>
                  <a:lnTo>
                    <a:pt x="890" y="1875"/>
                  </a:lnTo>
                  <a:lnTo>
                    <a:pt x="906" y="1875"/>
                  </a:lnTo>
                  <a:lnTo>
                    <a:pt x="922" y="1876"/>
                  </a:lnTo>
                  <a:lnTo>
                    <a:pt x="939" y="1876"/>
                  </a:lnTo>
                  <a:lnTo>
                    <a:pt x="955" y="1876"/>
                  </a:lnTo>
                  <a:lnTo>
                    <a:pt x="971" y="1875"/>
                  </a:lnTo>
                  <a:lnTo>
                    <a:pt x="988" y="1875"/>
                  </a:lnTo>
                  <a:lnTo>
                    <a:pt x="1004" y="1874"/>
                  </a:lnTo>
                  <a:lnTo>
                    <a:pt x="1020" y="1873"/>
                  </a:lnTo>
                  <a:lnTo>
                    <a:pt x="1036" y="1871"/>
                  </a:lnTo>
                  <a:lnTo>
                    <a:pt x="1053" y="1869"/>
                  </a:lnTo>
                  <a:lnTo>
                    <a:pt x="1069" y="1867"/>
                  </a:lnTo>
                  <a:lnTo>
                    <a:pt x="1085" y="1864"/>
                  </a:lnTo>
                  <a:lnTo>
                    <a:pt x="1102" y="1862"/>
                  </a:lnTo>
                  <a:lnTo>
                    <a:pt x="1117" y="1858"/>
                  </a:lnTo>
                  <a:lnTo>
                    <a:pt x="1133" y="1855"/>
                  </a:lnTo>
                  <a:lnTo>
                    <a:pt x="1149" y="1852"/>
                  </a:lnTo>
                  <a:lnTo>
                    <a:pt x="1165" y="1848"/>
                  </a:lnTo>
                  <a:lnTo>
                    <a:pt x="1181" y="1844"/>
                  </a:lnTo>
                  <a:lnTo>
                    <a:pt x="1196" y="1840"/>
                  </a:lnTo>
                  <a:lnTo>
                    <a:pt x="1212" y="1835"/>
                  </a:lnTo>
                  <a:lnTo>
                    <a:pt x="1227" y="1831"/>
                  </a:lnTo>
                  <a:lnTo>
                    <a:pt x="1243" y="1825"/>
                  </a:lnTo>
                  <a:lnTo>
                    <a:pt x="1259" y="1820"/>
                  </a:lnTo>
                  <a:lnTo>
                    <a:pt x="1274" y="1814"/>
                  </a:lnTo>
                  <a:lnTo>
                    <a:pt x="1290" y="1807"/>
                  </a:lnTo>
                  <a:lnTo>
                    <a:pt x="1304" y="1802"/>
                  </a:lnTo>
                  <a:lnTo>
                    <a:pt x="1320" y="1795"/>
                  </a:lnTo>
                  <a:lnTo>
                    <a:pt x="1334" y="1788"/>
                  </a:lnTo>
                  <a:lnTo>
                    <a:pt x="1349" y="1782"/>
                  </a:lnTo>
                  <a:lnTo>
                    <a:pt x="1363" y="1774"/>
                  </a:lnTo>
                  <a:lnTo>
                    <a:pt x="1378" y="1766"/>
                  </a:lnTo>
                  <a:lnTo>
                    <a:pt x="1392" y="1758"/>
                  </a:lnTo>
                  <a:lnTo>
                    <a:pt x="1407" y="1750"/>
                  </a:lnTo>
                  <a:lnTo>
                    <a:pt x="1421" y="1743"/>
                  </a:lnTo>
                  <a:lnTo>
                    <a:pt x="1434" y="1734"/>
                  </a:lnTo>
                  <a:lnTo>
                    <a:pt x="1449" y="1725"/>
                  </a:lnTo>
                  <a:lnTo>
                    <a:pt x="1462" y="1716"/>
                  </a:lnTo>
                  <a:lnTo>
                    <a:pt x="1476" y="1707"/>
                  </a:lnTo>
                  <a:lnTo>
                    <a:pt x="1489" y="1697"/>
                  </a:lnTo>
                  <a:lnTo>
                    <a:pt x="1502" y="1687"/>
                  </a:lnTo>
                  <a:lnTo>
                    <a:pt x="1515" y="1677"/>
                  </a:lnTo>
                  <a:lnTo>
                    <a:pt x="1528" y="1667"/>
                  </a:lnTo>
                  <a:lnTo>
                    <a:pt x="1540" y="1657"/>
                  </a:lnTo>
                  <a:lnTo>
                    <a:pt x="1552" y="1647"/>
                  </a:lnTo>
                  <a:lnTo>
                    <a:pt x="1565" y="1636"/>
                  </a:lnTo>
                  <a:lnTo>
                    <a:pt x="1577" y="1625"/>
                  </a:lnTo>
                  <a:lnTo>
                    <a:pt x="1589" y="1614"/>
                  </a:lnTo>
                  <a:lnTo>
                    <a:pt x="1600" y="1602"/>
                  </a:lnTo>
                  <a:lnTo>
                    <a:pt x="1613" y="1590"/>
                  </a:lnTo>
                  <a:lnTo>
                    <a:pt x="1624" y="1578"/>
                  </a:lnTo>
                  <a:lnTo>
                    <a:pt x="1635" y="1567"/>
                  </a:lnTo>
                  <a:lnTo>
                    <a:pt x="1645" y="1555"/>
                  </a:lnTo>
                  <a:lnTo>
                    <a:pt x="1656" y="1541"/>
                  </a:lnTo>
                  <a:lnTo>
                    <a:pt x="1666" y="1529"/>
                  </a:lnTo>
                  <a:lnTo>
                    <a:pt x="1676" y="1517"/>
                  </a:lnTo>
                  <a:lnTo>
                    <a:pt x="1686" y="1503"/>
                  </a:lnTo>
                  <a:lnTo>
                    <a:pt x="1696" y="1490"/>
                  </a:lnTo>
                  <a:lnTo>
                    <a:pt x="1706" y="1477"/>
                  </a:lnTo>
                  <a:lnTo>
                    <a:pt x="1715" y="1463"/>
                  </a:lnTo>
                  <a:lnTo>
                    <a:pt x="1724" y="1450"/>
                  </a:lnTo>
                  <a:lnTo>
                    <a:pt x="1733" y="1437"/>
                  </a:lnTo>
                  <a:lnTo>
                    <a:pt x="1742" y="1422"/>
                  </a:lnTo>
                  <a:lnTo>
                    <a:pt x="1750" y="1408"/>
                  </a:lnTo>
                  <a:lnTo>
                    <a:pt x="1757" y="1394"/>
                  </a:lnTo>
                  <a:lnTo>
                    <a:pt x="1765" y="1380"/>
                  </a:lnTo>
                  <a:lnTo>
                    <a:pt x="1773" y="1365"/>
                  </a:lnTo>
                  <a:lnTo>
                    <a:pt x="1781" y="1351"/>
                  </a:lnTo>
                  <a:lnTo>
                    <a:pt x="1787" y="1335"/>
                  </a:lnTo>
                  <a:lnTo>
                    <a:pt x="1794" y="1321"/>
                  </a:lnTo>
                  <a:lnTo>
                    <a:pt x="1801" y="1306"/>
                  </a:lnTo>
                  <a:lnTo>
                    <a:pt x="1807" y="1291"/>
                  </a:lnTo>
                  <a:lnTo>
                    <a:pt x="1813" y="1275"/>
                  </a:lnTo>
                  <a:lnTo>
                    <a:pt x="1819" y="1261"/>
                  </a:lnTo>
                  <a:lnTo>
                    <a:pt x="1824" y="1245"/>
                  </a:lnTo>
                  <a:lnTo>
                    <a:pt x="1830" y="1229"/>
                  </a:lnTo>
                  <a:lnTo>
                    <a:pt x="1834" y="1214"/>
                  </a:lnTo>
                  <a:lnTo>
                    <a:pt x="1839" y="1198"/>
                  </a:lnTo>
                  <a:lnTo>
                    <a:pt x="1843" y="1183"/>
                  </a:lnTo>
                  <a:lnTo>
                    <a:pt x="1848" y="1167"/>
                  </a:lnTo>
                  <a:lnTo>
                    <a:pt x="1851" y="1150"/>
                  </a:lnTo>
                  <a:lnTo>
                    <a:pt x="1855" y="1135"/>
                  </a:lnTo>
                  <a:lnTo>
                    <a:pt x="1859" y="1119"/>
                  </a:lnTo>
                  <a:lnTo>
                    <a:pt x="1861" y="1103"/>
                  </a:lnTo>
                  <a:lnTo>
                    <a:pt x="1864" y="1087"/>
                  </a:lnTo>
                  <a:lnTo>
                    <a:pt x="1866" y="1070"/>
                  </a:lnTo>
                  <a:lnTo>
                    <a:pt x="1869" y="1055"/>
                  </a:lnTo>
                  <a:lnTo>
                    <a:pt x="1871" y="1038"/>
                  </a:lnTo>
                  <a:lnTo>
                    <a:pt x="1872" y="1021"/>
                  </a:lnTo>
                  <a:lnTo>
                    <a:pt x="1873" y="1006"/>
                  </a:lnTo>
                  <a:lnTo>
                    <a:pt x="1874" y="989"/>
                  </a:lnTo>
                  <a:lnTo>
                    <a:pt x="1875" y="973"/>
                  </a:lnTo>
                  <a:lnTo>
                    <a:pt x="1875" y="957"/>
                  </a:lnTo>
                  <a:lnTo>
                    <a:pt x="1875" y="940"/>
                  </a:lnTo>
                  <a:lnTo>
                    <a:pt x="1875" y="923"/>
                  </a:lnTo>
                  <a:lnTo>
                    <a:pt x="1875" y="908"/>
                  </a:lnTo>
                  <a:lnTo>
                    <a:pt x="1874" y="891"/>
                  </a:lnTo>
                  <a:lnTo>
                    <a:pt x="1873" y="875"/>
                  </a:lnTo>
                  <a:lnTo>
                    <a:pt x="1872" y="859"/>
                  </a:lnTo>
                  <a:lnTo>
                    <a:pt x="1871" y="842"/>
                  </a:lnTo>
                  <a:lnTo>
                    <a:pt x="1869" y="826"/>
                  </a:lnTo>
                  <a:lnTo>
                    <a:pt x="1866" y="810"/>
                  </a:lnTo>
                  <a:lnTo>
                    <a:pt x="1864" y="794"/>
                  </a:lnTo>
                  <a:lnTo>
                    <a:pt x="1862" y="777"/>
                  </a:lnTo>
                  <a:lnTo>
                    <a:pt x="1859" y="762"/>
                  </a:lnTo>
                  <a:lnTo>
                    <a:pt x="1855" y="745"/>
                  </a:lnTo>
                  <a:lnTo>
                    <a:pt x="1852" y="730"/>
                  </a:lnTo>
                  <a:lnTo>
                    <a:pt x="1849" y="714"/>
                  </a:lnTo>
                  <a:lnTo>
                    <a:pt x="1844" y="697"/>
                  </a:lnTo>
                  <a:lnTo>
                    <a:pt x="1840" y="682"/>
                  </a:lnTo>
                  <a:lnTo>
                    <a:pt x="1835" y="666"/>
                  </a:lnTo>
                  <a:lnTo>
                    <a:pt x="1831" y="651"/>
                  </a:lnTo>
                  <a:lnTo>
                    <a:pt x="1825" y="635"/>
                  </a:lnTo>
                  <a:lnTo>
                    <a:pt x="1820" y="619"/>
                  </a:lnTo>
                  <a:lnTo>
                    <a:pt x="1814" y="605"/>
                  </a:lnTo>
                  <a:lnTo>
                    <a:pt x="1809" y="589"/>
                  </a:lnTo>
                  <a:lnTo>
                    <a:pt x="1802" y="574"/>
                  </a:lnTo>
                  <a:lnTo>
                    <a:pt x="1795" y="559"/>
                  </a:lnTo>
                  <a:lnTo>
                    <a:pt x="1789" y="545"/>
                  </a:lnTo>
                  <a:lnTo>
                    <a:pt x="1782" y="529"/>
                  </a:lnTo>
                  <a:lnTo>
                    <a:pt x="1775" y="515"/>
                  </a:lnTo>
                  <a:lnTo>
                    <a:pt x="1767" y="500"/>
                  </a:lnTo>
                  <a:lnTo>
                    <a:pt x="1760" y="486"/>
                  </a:lnTo>
                  <a:lnTo>
                    <a:pt x="1752" y="471"/>
                  </a:lnTo>
                  <a:lnTo>
                    <a:pt x="1743" y="458"/>
                  </a:lnTo>
                  <a:lnTo>
                    <a:pt x="1735" y="444"/>
                  </a:lnTo>
                  <a:lnTo>
                    <a:pt x="1726" y="430"/>
                  </a:lnTo>
                  <a:lnTo>
                    <a:pt x="1717" y="417"/>
                  </a:lnTo>
                  <a:lnTo>
                    <a:pt x="1707" y="402"/>
                  </a:lnTo>
                  <a:lnTo>
                    <a:pt x="1698" y="389"/>
                  </a:lnTo>
                  <a:lnTo>
                    <a:pt x="1688" y="377"/>
                  </a:lnTo>
                  <a:lnTo>
                    <a:pt x="1678" y="363"/>
                  </a:lnTo>
                  <a:lnTo>
                    <a:pt x="1668" y="350"/>
                  </a:lnTo>
                  <a:lnTo>
                    <a:pt x="1658" y="338"/>
                  </a:lnTo>
                  <a:lnTo>
                    <a:pt x="1647" y="325"/>
                  </a:lnTo>
                  <a:lnTo>
                    <a:pt x="1637" y="313"/>
                  </a:lnTo>
                  <a:lnTo>
                    <a:pt x="1626" y="301"/>
                  </a:lnTo>
                  <a:lnTo>
                    <a:pt x="1615" y="289"/>
                  </a:lnTo>
                  <a:lnTo>
                    <a:pt x="1604" y="278"/>
                  </a:lnTo>
                  <a:lnTo>
                    <a:pt x="1591" y="266"/>
                  </a:lnTo>
                  <a:lnTo>
                    <a:pt x="1579" y="254"/>
                  </a:lnTo>
                  <a:lnTo>
                    <a:pt x="1568" y="243"/>
                  </a:lnTo>
                  <a:lnTo>
                    <a:pt x="1556" y="233"/>
                  </a:lnTo>
                  <a:lnTo>
                    <a:pt x="1544" y="222"/>
                  </a:lnTo>
                  <a:lnTo>
                    <a:pt x="1530" y="212"/>
                  </a:lnTo>
                  <a:lnTo>
                    <a:pt x="1518" y="202"/>
                  </a:lnTo>
                  <a:lnTo>
                    <a:pt x="1505" y="192"/>
                  </a:lnTo>
                  <a:lnTo>
                    <a:pt x="1491" y="182"/>
                  </a:lnTo>
                  <a:lnTo>
                    <a:pt x="1479" y="172"/>
                  </a:lnTo>
                  <a:lnTo>
                    <a:pt x="1465" y="163"/>
                  </a:lnTo>
                  <a:lnTo>
                    <a:pt x="1451" y="154"/>
                  </a:lnTo>
                  <a:lnTo>
                    <a:pt x="1438" y="145"/>
                  </a:lnTo>
                  <a:lnTo>
                    <a:pt x="1423" y="136"/>
                  </a:lnTo>
                  <a:lnTo>
                    <a:pt x="1410" y="128"/>
                  </a:lnTo>
                  <a:lnTo>
                    <a:pt x="1395" y="120"/>
                  </a:lnTo>
                  <a:lnTo>
                    <a:pt x="1381" y="112"/>
                  </a:lnTo>
                  <a:lnTo>
                    <a:pt x="1367" y="105"/>
                  </a:lnTo>
                  <a:lnTo>
                    <a:pt x="1352" y="97"/>
                  </a:lnTo>
                  <a:lnTo>
                    <a:pt x="1338" y="91"/>
                  </a:lnTo>
                  <a:lnTo>
                    <a:pt x="1323" y="83"/>
                  </a:lnTo>
                  <a:lnTo>
                    <a:pt x="1308" y="77"/>
                  </a:lnTo>
                  <a:lnTo>
                    <a:pt x="1293" y="71"/>
                  </a:lnTo>
                  <a:lnTo>
                    <a:pt x="1277" y="64"/>
                  </a:lnTo>
                  <a:lnTo>
                    <a:pt x="1262" y="58"/>
                  </a:lnTo>
                  <a:lnTo>
                    <a:pt x="1246" y="53"/>
                  </a:lnTo>
                  <a:lnTo>
                    <a:pt x="1231" y="48"/>
                  </a:lnTo>
                  <a:lnTo>
                    <a:pt x="1215" y="43"/>
                  </a:lnTo>
                  <a:lnTo>
                    <a:pt x="1200" y="38"/>
                  </a:lnTo>
                  <a:lnTo>
                    <a:pt x="1184" y="34"/>
                  </a:lnTo>
                  <a:lnTo>
                    <a:pt x="1168" y="29"/>
                  </a:lnTo>
                  <a:lnTo>
                    <a:pt x="1153" y="26"/>
                  </a:lnTo>
                  <a:lnTo>
                    <a:pt x="1137" y="22"/>
                  </a:lnTo>
                  <a:lnTo>
                    <a:pt x="1120" y="18"/>
                  </a:lnTo>
                  <a:lnTo>
                    <a:pt x="1105" y="16"/>
                  </a:lnTo>
                  <a:lnTo>
                    <a:pt x="1088" y="13"/>
                  </a:lnTo>
                  <a:lnTo>
                    <a:pt x="1073" y="10"/>
                  </a:lnTo>
                  <a:lnTo>
                    <a:pt x="1056" y="8"/>
                  </a:lnTo>
                  <a:lnTo>
                    <a:pt x="1040" y="6"/>
                  </a:lnTo>
                  <a:lnTo>
                    <a:pt x="1024" y="5"/>
                  </a:lnTo>
                  <a:lnTo>
                    <a:pt x="1007" y="4"/>
                  </a:lnTo>
                  <a:lnTo>
                    <a:pt x="991" y="3"/>
                  </a:lnTo>
                  <a:lnTo>
                    <a:pt x="975" y="2"/>
                  </a:lnTo>
                  <a:lnTo>
                    <a:pt x="958" y="2"/>
                  </a:lnTo>
                  <a:lnTo>
                    <a:pt x="942" y="0"/>
                  </a:lnTo>
                  <a:lnTo>
                    <a:pt x="926" y="0"/>
                  </a:lnTo>
                  <a:lnTo>
                    <a:pt x="909" y="2"/>
                  </a:lnTo>
                  <a:lnTo>
                    <a:pt x="893" y="2"/>
                  </a:lnTo>
                  <a:lnTo>
                    <a:pt x="877" y="3"/>
                  </a:lnTo>
                  <a:lnTo>
                    <a:pt x="860" y="4"/>
                  </a:lnTo>
                  <a:lnTo>
                    <a:pt x="844" y="6"/>
                  </a:lnTo>
                  <a:lnTo>
                    <a:pt x="828" y="7"/>
                  </a:lnTo>
                  <a:lnTo>
                    <a:pt x="812" y="9"/>
                  </a:lnTo>
                  <a:lnTo>
                    <a:pt x="795" y="12"/>
                  </a:lnTo>
                  <a:lnTo>
                    <a:pt x="780" y="14"/>
                  </a:lnTo>
                  <a:lnTo>
                    <a:pt x="763" y="17"/>
                  </a:lnTo>
                  <a:lnTo>
                    <a:pt x="747" y="20"/>
                  </a:lnTo>
                  <a:lnTo>
                    <a:pt x="732" y="24"/>
                  </a:lnTo>
                  <a:lnTo>
                    <a:pt x="715" y="27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14800" y="2509200"/>
              <a:ext cx="26280" cy="51480"/>
            </a:xfrm>
            <a:custGeom>
              <a:avLst/>
              <a:gdLst/>
              <a:ahLst/>
              <a:rect l="l" t="t" r="r" b="b"/>
              <a:pathLst>
                <a:path w="110" h="210">
                  <a:moveTo>
                    <a:pt x="0" y="181"/>
                  </a:moveTo>
                  <a:lnTo>
                    <a:pt x="110" y="0"/>
                  </a:lnTo>
                  <a:lnTo>
                    <a:pt x="98" y="210"/>
                  </a:lnTo>
                  <a:lnTo>
                    <a:pt x="62" y="157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72120" y="2335680"/>
              <a:ext cx="51120" cy="30600"/>
            </a:xfrm>
            <a:custGeom>
              <a:avLst/>
              <a:gdLst/>
              <a:ahLst/>
              <a:rect l="l" t="t" r="r" b="b"/>
              <a:pathLst>
                <a:path w="211" h="121">
                  <a:moveTo>
                    <a:pt x="211" y="95"/>
                  </a:moveTo>
                  <a:lnTo>
                    <a:pt x="0" y="121"/>
                  </a:lnTo>
                  <a:lnTo>
                    <a:pt x="173" y="0"/>
                  </a:lnTo>
                  <a:lnTo>
                    <a:pt x="154" y="62"/>
                  </a:lnTo>
                  <a:lnTo>
                    <a:pt x="211" y="95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88520" y="3818160"/>
              <a:ext cx="458280" cy="461880"/>
            </a:xfrm>
            <a:custGeom>
              <a:avLst/>
              <a:gdLst/>
              <a:ahLst/>
              <a:rect l="l" t="t" r="r" b="b"/>
              <a:pathLst>
                <a:path w="1876" h="1876">
                  <a:moveTo>
                    <a:pt x="14" y="778"/>
                  </a:moveTo>
                  <a:lnTo>
                    <a:pt x="12" y="794"/>
                  </a:lnTo>
                  <a:lnTo>
                    <a:pt x="9" y="811"/>
                  </a:lnTo>
                  <a:lnTo>
                    <a:pt x="7" y="826"/>
                  </a:lnTo>
                  <a:lnTo>
                    <a:pt x="5" y="843"/>
                  </a:lnTo>
                  <a:lnTo>
                    <a:pt x="4" y="860"/>
                  </a:lnTo>
                  <a:lnTo>
                    <a:pt x="3" y="875"/>
                  </a:lnTo>
                  <a:lnTo>
                    <a:pt x="1" y="892"/>
                  </a:lnTo>
                  <a:lnTo>
                    <a:pt x="1" y="908"/>
                  </a:lnTo>
                  <a:lnTo>
                    <a:pt x="0" y="924"/>
                  </a:lnTo>
                  <a:lnTo>
                    <a:pt x="0" y="941"/>
                  </a:lnTo>
                  <a:lnTo>
                    <a:pt x="0" y="958"/>
                  </a:lnTo>
                  <a:lnTo>
                    <a:pt x="1" y="973"/>
                  </a:lnTo>
                  <a:lnTo>
                    <a:pt x="1" y="990"/>
                  </a:lnTo>
                  <a:lnTo>
                    <a:pt x="3" y="1007"/>
                  </a:lnTo>
                  <a:lnTo>
                    <a:pt x="5" y="1022"/>
                  </a:lnTo>
                  <a:lnTo>
                    <a:pt x="6" y="1039"/>
                  </a:lnTo>
                  <a:lnTo>
                    <a:pt x="8" y="1055"/>
                  </a:lnTo>
                  <a:lnTo>
                    <a:pt x="10" y="1071"/>
                  </a:lnTo>
                  <a:lnTo>
                    <a:pt x="13" y="1087"/>
                  </a:lnTo>
                  <a:lnTo>
                    <a:pt x="15" y="1104"/>
                  </a:lnTo>
                  <a:lnTo>
                    <a:pt x="18" y="1119"/>
                  </a:lnTo>
                  <a:lnTo>
                    <a:pt x="22" y="1136"/>
                  </a:lnTo>
                  <a:lnTo>
                    <a:pt x="25" y="1151"/>
                  </a:lnTo>
                  <a:lnTo>
                    <a:pt x="29" y="1167"/>
                  </a:lnTo>
                  <a:lnTo>
                    <a:pt x="33" y="1183"/>
                  </a:lnTo>
                  <a:lnTo>
                    <a:pt x="37" y="1199"/>
                  </a:lnTo>
                  <a:lnTo>
                    <a:pt x="43" y="1215"/>
                  </a:lnTo>
                  <a:lnTo>
                    <a:pt x="47" y="1230"/>
                  </a:lnTo>
                  <a:lnTo>
                    <a:pt x="53" y="1246"/>
                  </a:lnTo>
                  <a:lnTo>
                    <a:pt x="58" y="1260"/>
                  </a:lnTo>
                  <a:lnTo>
                    <a:pt x="64" y="1276"/>
                  </a:lnTo>
                  <a:lnTo>
                    <a:pt x="69" y="1292"/>
                  </a:lnTo>
                  <a:lnTo>
                    <a:pt x="76" y="1306"/>
                  </a:lnTo>
                  <a:lnTo>
                    <a:pt x="83" y="1322"/>
                  </a:lnTo>
                  <a:lnTo>
                    <a:pt x="89" y="1336"/>
                  </a:lnTo>
                  <a:lnTo>
                    <a:pt x="96" y="1351"/>
                  </a:lnTo>
                  <a:lnTo>
                    <a:pt x="104" y="1365"/>
                  </a:lnTo>
                  <a:lnTo>
                    <a:pt x="112" y="1380"/>
                  </a:lnTo>
                  <a:lnTo>
                    <a:pt x="120" y="1394"/>
                  </a:lnTo>
                  <a:lnTo>
                    <a:pt x="127" y="1409"/>
                  </a:lnTo>
                  <a:lnTo>
                    <a:pt x="135" y="1423"/>
                  </a:lnTo>
                  <a:lnTo>
                    <a:pt x="144" y="1436"/>
                  </a:lnTo>
                  <a:lnTo>
                    <a:pt x="153" y="1451"/>
                  </a:lnTo>
                  <a:lnTo>
                    <a:pt x="162" y="1464"/>
                  </a:lnTo>
                  <a:lnTo>
                    <a:pt x="171" y="1478"/>
                  </a:lnTo>
                  <a:lnTo>
                    <a:pt x="181" y="1491"/>
                  </a:lnTo>
                  <a:lnTo>
                    <a:pt x="191" y="1504"/>
                  </a:lnTo>
                  <a:lnTo>
                    <a:pt x="201" y="1517"/>
                  </a:lnTo>
                  <a:lnTo>
                    <a:pt x="211" y="1530"/>
                  </a:lnTo>
                  <a:lnTo>
                    <a:pt x="221" y="1542"/>
                  </a:lnTo>
                  <a:lnTo>
                    <a:pt x="232" y="1554"/>
                  </a:lnTo>
                  <a:lnTo>
                    <a:pt x="242" y="1567"/>
                  </a:lnTo>
                  <a:lnTo>
                    <a:pt x="253" y="1579"/>
                  </a:lnTo>
                  <a:lnTo>
                    <a:pt x="265" y="1590"/>
                  </a:lnTo>
                  <a:lnTo>
                    <a:pt x="276" y="1602"/>
                  </a:lnTo>
                  <a:lnTo>
                    <a:pt x="288" y="1613"/>
                  </a:lnTo>
                  <a:lnTo>
                    <a:pt x="300" y="1625"/>
                  </a:lnTo>
                  <a:lnTo>
                    <a:pt x="312" y="1636"/>
                  </a:lnTo>
                  <a:lnTo>
                    <a:pt x="324" y="1647"/>
                  </a:lnTo>
                  <a:lnTo>
                    <a:pt x="337" y="1657"/>
                  </a:lnTo>
                  <a:lnTo>
                    <a:pt x="349" y="1668"/>
                  </a:lnTo>
                  <a:lnTo>
                    <a:pt x="362" y="1678"/>
                  </a:lnTo>
                  <a:lnTo>
                    <a:pt x="374" y="1688"/>
                  </a:lnTo>
                  <a:lnTo>
                    <a:pt x="388" y="1697"/>
                  </a:lnTo>
                  <a:lnTo>
                    <a:pt x="401" y="1707"/>
                  </a:lnTo>
                  <a:lnTo>
                    <a:pt x="415" y="1716"/>
                  </a:lnTo>
                  <a:lnTo>
                    <a:pt x="429" y="1725"/>
                  </a:lnTo>
                  <a:lnTo>
                    <a:pt x="442" y="1734"/>
                  </a:lnTo>
                  <a:lnTo>
                    <a:pt x="457" y="1743"/>
                  </a:lnTo>
                  <a:lnTo>
                    <a:pt x="470" y="1750"/>
                  </a:lnTo>
                  <a:lnTo>
                    <a:pt x="485" y="1759"/>
                  </a:lnTo>
                  <a:lnTo>
                    <a:pt x="499" y="1766"/>
                  </a:lnTo>
                  <a:lnTo>
                    <a:pt x="514" y="1774"/>
                  </a:lnTo>
                  <a:lnTo>
                    <a:pt x="528" y="1781"/>
                  </a:lnTo>
                  <a:lnTo>
                    <a:pt x="543" y="1788"/>
                  </a:lnTo>
                  <a:lnTo>
                    <a:pt x="558" y="1795"/>
                  </a:lnTo>
                  <a:lnTo>
                    <a:pt x="573" y="1802"/>
                  </a:lnTo>
                  <a:lnTo>
                    <a:pt x="588" y="1808"/>
                  </a:lnTo>
                  <a:lnTo>
                    <a:pt x="603" y="1814"/>
                  </a:lnTo>
                  <a:lnTo>
                    <a:pt x="618" y="1819"/>
                  </a:lnTo>
                  <a:lnTo>
                    <a:pt x="634" y="1825"/>
                  </a:lnTo>
                  <a:lnTo>
                    <a:pt x="649" y="1830"/>
                  </a:lnTo>
                  <a:lnTo>
                    <a:pt x="665" y="1835"/>
                  </a:lnTo>
                  <a:lnTo>
                    <a:pt x="681" y="1839"/>
                  </a:lnTo>
                  <a:lnTo>
                    <a:pt x="696" y="1844"/>
                  </a:lnTo>
                  <a:lnTo>
                    <a:pt x="712" y="1848"/>
                  </a:lnTo>
                  <a:lnTo>
                    <a:pt x="729" y="1852"/>
                  </a:lnTo>
                  <a:lnTo>
                    <a:pt x="744" y="1855"/>
                  </a:lnTo>
                  <a:lnTo>
                    <a:pt x="760" y="1858"/>
                  </a:lnTo>
                  <a:lnTo>
                    <a:pt x="776" y="1862"/>
                  </a:lnTo>
                  <a:lnTo>
                    <a:pt x="792" y="1864"/>
                  </a:lnTo>
                  <a:lnTo>
                    <a:pt x="809" y="1866"/>
                  </a:lnTo>
                  <a:lnTo>
                    <a:pt x="824" y="1868"/>
                  </a:lnTo>
                  <a:lnTo>
                    <a:pt x="841" y="1871"/>
                  </a:lnTo>
                  <a:lnTo>
                    <a:pt x="857" y="1872"/>
                  </a:lnTo>
                  <a:lnTo>
                    <a:pt x="873" y="1874"/>
                  </a:lnTo>
                  <a:lnTo>
                    <a:pt x="890" y="1874"/>
                  </a:lnTo>
                  <a:lnTo>
                    <a:pt x="906" y="1875"/>
                  </a:lnTo>
                  <a:lnTo>
                    <a:pt x="922" y="1875"/>
                  </a:lnTo>
                  <a:lnTo>
                    <a:pt x="939" y="1876"/>
                  </a:lnTo>
                  <a:lnTo>
                    <a:pt x="955" y="1875"/>
                  </a:lnTo>
                  <a:lnTo>
                    <a:pt x="971" y="1875"/>
                  </a:lnTo>
                  <a:lnTo>
                    <a:pt x="988" y="1874"/>
                  </a:lnTo>
                  <a:lnTo>
                    <a:pt x="1004" y="1873"/>
                  </a:lnTo>
                  <a:lnTo>
                    <a:pt x="1020" y="1872"/>
                  </a:lnTo>
                  <a:lnTo>
                    <a:pt x="1037" y="1871"/>
                  </a:lnTo>
                  <a:lnTo>
                    <a:pt x="1053" y="1868"/>
                  </a:lnTo>
                  <a:lnTo>
                    <a:pt x="1069" y="1866"/>
                  </a:lnTo>
                  <a:lnTo>
                    <a:pt x="1085" y="1864"/>
                  </a:lnTo>
                  <a:lnTo>
                    <a:pt x="1102" y="1862"/>
                  </a:lnTo>
                  <a:lnTo>
                    <a:pt x="1117" y="1858"/>
                  </a:lnTo>
                  <a:lnTo>
                    <a:pt x="1134" y="1855"/>
                  </a:lnTo>
                  <a:lnTo>
                    <a:pt x="1149" y="1852"/>
                  </a:lnTo>
                  <a:lnTo>
                    <a:pt x="1165" y="1848"/>
                  </a:lnTo>
                  <a:lnTo>
                    <a:pt x="1181" y="1844"/>
                  </a:lnTo>
                  <a:lnTo>
                    <a:pt x="1197" y="1839"/>
                  </a:lnTo>
                  <a:lnTo>
                    <a:pt x="1213" y="1835"/>
                  </a:lnTo>
                  <a:lnTo>
                    <a:pt x="1228" y="1829"/>
                  </a:lnTo>
                  <a:lnTo>
                    <a:pt x="1244" y="1825"/>
                  </a:lnTo>
                  <a:lnTo>
                    <a:pt x="1259" y="1819"/>
                  </a:lnTo>
                  <a:lnTo>
                    <a:pt x="1274" y="1814"/>
                  </a:lnTo>
                  <a:lnTo>
                    <a:pt x="1290" y="1807"/>
                  </a:lnTo>
                  <a:lnTo>
                    <a:pt x="1304" y="1802"/>
                  </a:lnTo>
                  <a:lnTo>
                    <a:pt x="1320" y="1795"/>
                  </a:lnTo>
                  <a:lnTo>
                    <a:pt x="1334" y="1788"/>
                  </a:lnTo>
                  <a:lnTo>
                    <a:pt x="1349" y="1780"/>
                  </a:lnTo>
                  <a:lnTo>
                    <a:pt x="1364" y="1774"/>
                  </a:lnTo>
                  <a:lnTo>
                    <a:pt x="1379" y="1766"/>
                  </a:lnTo>
                  <a:lnTo>
                    <a:pt x="1392" y="1758"/>
                  </a:lnTo>
                  <a:lnTo>
                    <a:pt x="1407" y="1750"/>
                  </a:lnTo>
                  <a:lnTo>
                    <a:pt x="1421" y="1741"/>
                  </a:lnTo>
                  <a:lnTo>
                    <a:pt x="1434" y="1734"/>
                  </a:lnTo>
                  <a:lnTo>
                    <a:pt x="1449" y="1725"/>
                  </a:lnTo>
                  <a:lnTo>
                    <a:pt x="1462" y="1716"/>
                  </a:lnTo>
                  <a:lnTo>
                    <a:pt x="1476" y="1706"/>
                  </a:lnTo>
                  <a:lnTo>
                    <a:pt x="1489" y="1697"/>
                  </a:lnTo>
                  <a:lnTo>
                    <a:pt x="1502" y="1687"/>
                  </a:lnTo>
                  <a:lnTo>
                    <a:pt x="1516" y="1677"/>
                  </a:lnTo>
                  <a:lnTo>
                    <a:pt x="1528" y="1667"/>
                  </a:lnTo>
                  <a:lnTo>
                    <a:pt x="1540" y="1657"/>
                  </a:lnTo>
                  <a:lnTo>
                    <a:pt x="1554" y="1646"/>
                  </a:lnTo>
                  <a:lnTo>
                    <a:pt x="1565" y="1636"/>
                  </a:lnTo>
                  <a:lnTo>
                    <a:pt x="1577" y="1625"/>
                  </a:lnTo>
                  <a:lnTo>
                    <a:pt x="1589" y="1613"/>
                  </a:lnTo>
                  <a:lnTo>
                    <a:pt x="1600" y="1601"/>
                  </a:lnTo>
                  <a:lnTo>
                    <a:pt x="1613" y="1590"/>
                  </a:lnTo>
                  <a:lnTo>
                    <a:pt x="1624" y="1578"/>
                  </a:lnTo>
                  <a:lnTo>
                    <a:pt x="1635" y="1566"/>
                  </a:lnTo>
                  <a:lnTo>
                    <a:pt x="1646" y="1553"/>
                  </a:lnTo>
                  <a:lnTo>
                    <a:pt x="1656" y="1541"/>
                  </a:lnTo>
                  <a:lnTo>
                    <a:pt x="1666" y="1529"/>
                  </a:lnTo>
                  <a:lnTo>
                    <a:pt x="1677" y="1515"/>
                  </a:lnTo>
                  <a:lnTo>
                    <a:pt x="1686" y="1503"/>
                  </a:lnTo>
                  <a:lnTo>
                    <a:pt x="1696" y="1490"/>
                  </a:lnTo>
                  <a:lnTo>
                    <a:pt x="1706" y="1476"/>
                  </a:lnTo>
                  <a:lnTo>
                    <a:pt x="1715" y="1463"/>
                  </a:lnTo>
                  <a:lnTo>
                    <a:pt x="1724" y="1450"/>
                  </a:lnTo>
                  <a:lnTo>
                    <a:pt x="1733" y="1435"/>
                  </a:lnTo>
                  <a:lnTo>
                    <a:pt x="1742" y="1422"/>
                  </a:lnTo>
                  <a:lnTo>
                    <a:pt x="1750" y="1407"/>
                  </a:lnTo>
                  <a:lnTo>
                    <a:pt x="1757" y="1393"/>
                  </a:lnTo>
                  <a:lnTo>
                    <a:pt x="1766" y="1380"/>
                  </a:lnTo>
                  <a:lnTo>
                    <a:pt x="1773" y="1365"/>
                  </a:lnTo>
                  <a:lnTo>
                    <a:pt x="1781" y="1350"/>
                  </a:lnTo>
                  <a:lnTo>
                    <a:pt x="1787" y="1335"/>
                  </a:lnTo>
                  <a:lnTo>
                    <a:pt x="1794" y="1321"/>
                  </a:lnTo>
                  <a:lnTo>
                    <a:pt x="1801" y="1305"/>
                  </a:lnTo>
                  <a:lnTo>
                    <a:pt x="1807" y="1291"/>
                  </a:lnTo>
                  <a:lnTo>
                    <a:pt x="1813" y="1275"/>
                  </a:lnTo>
                  <a:lnTo>
                    <a:pt x="1819" y="1259"/>
                  </a:lnTo>
                  <a:lnTo>
                    <a:pt x="1824" y="1245"/>
                  </a:lnTo>
                  <a:lnTo>
                    <a:pt x="1830" y="1229"/>
                  </a:lnTo>
                  <a:lnTo>
                    <a:pt x="1834" y="1214"/>
                  </a:lnTo>
                  <a:lnTo>
                    <a:pt x="1840" y="1198"/>
                  </a:lnTo>
                  <a:lnTo>
                    <a:pt x="1844" y="1183"/>
                  </a:lnTo>
                  <a:lnTo>
                    <a:pt x="1848" y="1166"/>
                  </a:lnTo>
                  <a:lnTo>
                    <a:pt x="1852" y="1150"/>
                  </a:lnTo>
                  <a:lnTo>
                    <a:pt x="1855" y="1135"/>
                  </a:lnTo>
                  <a:lnTo>
                    <a:pt x="1859" y="1118"/>
                  </a:lnTo>
                  <a:lnTo>
                    <a:pt x="1862" y="1102"/>
                  </a:lnTo>
                  <a:lnTo>
                    <a:pt x="1864" y="1086"/>
                  </a:lnTo>
                  <a:lnTo>
                    <a:pt x="1866" y="1070"/>
                  </a:lnTo>
                  <a:lnTo>
                    <a:pt x="1869" y="1053"/>
                  </a:lnTo>
                  <a:lnTo>
                    <a:pt x="1871" y="1038"/>
                  </a:lnTo>
                  <a:lnTo>
                    <a:pt x="1872" y="1021"/>
                  </a:lnTo>
                  <a:lnTo>
                    <a:pt x="1873" y="1006"/>
                  </a:lnTo>
                  <a:lnTo>
                    <a:pt x="1874" y="989"/>
                  </a:lnTo>
                  <a:lnTo>
                    <a:pt x="1875" y="972"/>
                  </a:lnTo>
                  <a:lnTo>
                    <a:pt x="1875" y="957"/>
                  </a:lnTo>
                  <a:lnTo>
                    <a:pt x="1876" y="940"/>
                  </a:lnTo>
                  <a:lnTo>
                    <a:pt x="1875" y="923"/>
                  </a:lnTo>
                  <a:lnTo>
                    <a:pt x="1875" y="908"/>
                  </a:lnTo>
                  <a:lnTo>
                    <a:pt x="1874" y="891"/>
                  </a:lnTo>
                  <a:lnTo>
                    <a:pt x="1874" y="874"/>
                  </a:lnTo>
                  <a:lnTo>
                    <a:pt x="1873" y="859"/>
                  </a:lnTo>
                  <a:lnTo>
                    <a:pt x="1871" y="842"/>
                  </a:lnTo>
                  <a:lnTo>
                    <a:pt x="1869" y="825"/>
                  </a:lnTo>
                  <a:lnTo>
                    <a:pt x="1868" y="810"/>
                  </a:lnTo>
                  <a:lnTo>
                    <a:pt x="1864" y="793"/>
                  </a:lnTo>
                  <a:lnTo>
                    <a:pt x="1862" y="777"/>
                  </a:lnTo>
                  <a:lnTo>
                    <a:pt x="1859" y="761"/>
                  </a:lnTo>
                  <a:lnTo>
                    <a:pt x="1856" y="745"/>
                  </a:lnTo>
                  <a:lnTo>
                    <a:pt x="1852" y="729"/>
                  </a:lnTo>
                  <a:lnTo>
                    <a:pt x="1849" y="713"/>
                  </a:lnTo>
                  <a:lnTo>
                    <a:pt x="1844" y="697"/>
                  </a:lnTo>
                  <a:lnTo>
                    <a:pt x="1840" y="682"/>
                  </a:lnTo>
                  <a:lnTo>
                    <a:pt x="1835" y="666"/>
                  </a:lnTo>
                  <a:lnTo>
                    <a:pt x="1831" y="650"/>
                  </a:lnTo>
                  <a:lnTo>
                    <a:pt x="1825" y="635"/>
                  </a:lnTo>
                  <a:lnTo>
                    <a:pt x="1820" y="619"/>
                  </a:lnTo>
                  <a:lnTo>
                    <a:pt x="1814" y="604"/>
                  </a:lnTo>
                  <a:lnTo>
                    <a:pt x="1809" y="589"/>
                  </a:lnTo>
                  <a:lnTo>
                    <a:pt x="1802" y="574"/>
                  </a:lnTo>
                  <a:lnTo>
                    <a:pt x="1796" y="559"/>
                  </a:lnTo>
                  <a:lnTo>
                    <a:pt x="1790" y="544"/>
                  </a:lnTo>
                  <a:lnTo>
                    <a:pt x="1782" y="529"/>
                  </a:lnTo>
                  <a:lnTo>
                    <a:pt x="1775" y="515"/>
                  </a:lnTo>
                  <a:lnTo>
                    <a:pt x="1767" y="500"/>
                  </a:lnTo>
                  <a:lnTo>
                    <a:pt x="1760" y="486"/>
                  </a:lnTo>
                  <a:lnTo>
                    <a:pt x="1752" y="471"/>
                  </a:lnTo>
                  <a:lnTo>
                    <a:pt x="1743" y="458"/>
                  </a:lnTo>
                  <a:lnTo>
                    <a:pt x="1735" y="443"/>
                  </a:lnTo>
                  <a:lnTo>
                    <a:pt x="1726" y="430"/>
                  </a:lnTo>
                  <a:lnTo>
                    <a:pt x="1717" y="416"/>
                  </a:lnTo>
                  <a:lnTo>
                    <a:pt x="1708" y="402"/>
                  </a:lnTo>
                  <a:lnTo>
                    <a:pt x="1698" y="389"/>
                  </a:lnTo>
                  <a:lnTo>
                    <a:pt x="1688" y="375"/>
                  </a:lnTo>
                  <a:lnTo>
                    <a:pt x="1679" y="363"/>
                  </a:lnTo>
                  <a:lnTo>
                    <a:pt x="1668" y="350"/>
                  </a:lnTo>
                  <a:lnTo>
                    <a:pt x="1658" y="338"/>
                  </a:lnTo>
                  <a:lnTo>
                    <a:pt x="1648" y="325"/>
                  </a:lnTo>
                  <a:lnTo>
                    <a:pt x="1637" y="313"/>
                  </a:lnTo>
                  <a:lnTo>
                    <a:pt x="1626" y="301"/>
                  </a:lnTo>
                  <a:lnTo>
                    <a:pt x="1615" y="289"/>
                  </a:lnTo>
                  <a:lnTo>
                    <a:pt x="1604" y="277"/>
                  </a:lnTo>
                  <a:lnTo>
                    <a:pt x="1591" y="265"/>
                  </a:lnTo>
                  <a:lnTo>
                    <a:pt x="1580" y="254"/>
                  </a:lnTo>
                  <a:lnTo>
                    <a:pt x="1568" y="243"/>
                  </a:lnTo>
                  <a:lnTo>
                    <a:pt x="1556" y="233"/>
                  </a:lnTo>
                  <a:lnTo>
                    <a:pt x="1544" y="222"/>
                  </a:lnTo>
                  <a:lnTo>
                    <a:pt x="1531" y="212"/>
                  </a:lnTo>
                  <a:lnTo>
                    <a:pt x="1518" y="201"/>
                  </a:lnTo>
                  <a:lnTo>
                    <a:pt x="1505" y="191"/>
                  </a:lnTo>
                  <a:lnTo>
                    <a:pt x="1492" y="182"/>
                  </a:lnTo>
                  <a:lnTo>
                    <a:pt x="1479" y="172"/>
                  </a:lnTo>
                  <a:lnTo>
                    <a:pt x="1466" y="163"/>
                  </a:lnTo>
                  <a:lnTo>
                    <a:pt x="1451" y="154"/>
                  </a:lnTo>
                  <a:lnTo>
                    <a:pt x="1438" y="145"/>
                  </a:lnTo>
                  <a:lnTo>
                    <a:pt x="1424" y="136"/>
                  </a:lnTo>
                  <a:lnTo>
                    <a:pt x="1410" y="127"/>
                  </a:lnTo>
                  <a:lnTo>
                    <a:pt x="1395" y="119"/>
                  </a:lnTo>
                  <a:lnTo>
                    <a:pt x="1381" y="112"/>
                  </a:lnTo>
                  <a:lnTo>
                    <a:pt x="1367" y="104"/>
                  </a:lnTo>
                  <a:lnTo>
                    <a:pt x="1352" y="97"/>
                  </a:lnTo>
                  <a:lnTo>
                    <a:pt x="1338" y="89"/>
                  </a:lnTo>
                  <a:lnTo>
                    <a:pt x="1323" y="83"/>
                  </a:lnTo>
                  <a:lnTo>
                    <a:pt x="1308" y="76"/>
                  </a:lnTo>
                  <a:lnTo>
                    <a:pt x="1293" y="70"/>
                  </a:lnTo>
                  <a:lnTo>
                    <a:pt x="1277" y="64"/>
                  </a:lnTo>
                  <a:lnTo>
                    <a:pt x="1262" y="58"/>
                  </a:lnTo>
                  <a:lnTo>
                    <a:pt x="1247" y="53"/>
                  </a:lnTo>
                  <a:lnTo>
                    <a:pt x="1232" y="47"/>
                  </a:lnTo>
                  <a:lnTo>
                    <a:pt x="1216" y="43"/>
                  </a:lnTo>
                  <a:lnTo>
                    <a:pt x="1201" y="38"/>
                  </a:lnTo>
                  <a:lnTo>
                    <a:pt x="1185" y="34"/>
                  </a:lnTo>
                  <a:lnTo>
                    <a:pt x="1168" y="29"/>
                  </a:lnTo>
                  <a:lnTo>
                    <a:pt x="1153" y="25"/>
                  </a:lnTo>
                  <a:lnTo>
                    <a:pt x="1137" y="21"/>
                  </a:lnTo>
                  <a:lnTo>
                    <a:pt x="1120" y="18"/>
                  </a:lnTo>
                  <a:lnTo>
                    <a:pt x="1105" y="16"/>
                  </a:lnTo>
                  <a:lnTo>
                    <a:pt x="1089" y="12"/>
                  </a:lnTo>
                  <a:lnTo>
                    <a:pt x="1073" y="10"/>
                  </a:lnTo>
                  <a:lnTo>
                    <a:pt x="1056" y="8"/>
                  </a:lnTo>
                  <a:lnTo>
                    <a:pt x="1040" y="6"/>
                  </a:lnTo>
                  <a:lnTo>
                    <a:pt x="1024" y="5"/>
                  </a:lnTo>
                  <a:lnTo>
                    <a:pt x="1008" y="2"/>
                  </a:lnTo>
                  <a:lnTo>
                    <a:pt x="991" y="1"/>
                  </a:lnTo>
                  <a:lnTo>
                    <a:pt x="975" y="1"/>
                  </a:lnTo>
                  <a:lnTo>
                    <a:pt x="959" y="0"/>
                  </a:lnTo>
                  <a:lnTo>
                    <a:pt x="942" y="0"/>
                  </a:lnTo>
                  <a:lnTo>
                    <a:pt x="926" y="0"/>
                  </a:lnTo>
                  <a:lnTo>
                    <a:pt x="910" y="1"/>
                  </a:lnTo>
                  <a:lnTo>
                    <a:pt x="893" y="1"/>
                  </a:lnTo>
                  <a:lnTo>
                    <a:pt x="877" y="2"/>
                  </a:lnTo>
                  <a:lnTo>
                    <a:pt x="861" y="4"/>
                  </a:lnTo>
                  <a:lnTo>
                    <a:pt x="844" y="5"/>
                  </a:lnTo>
                  <a:lnTo>
                    <a:pt x="829" y="7"/>
                  </a:lnTo>
                  <a:lnTo>
                    <a:pt x="812" y="9"/>
                  </a:lnTo>
                  <a:lnTo>
                    <a:pt x="795" y="11"/>
                  </a:lnTo>
                  <a:lnTo>
                    <a:pt x="780" y="14"/>
                  </a:lnTo>
                  <a:lnTo>
                    <a:pt x="763" y="17"/>
                  </a:lnTo>
                  <a:lnTo>
                    <a:pt x="747" y="20"/>
                  </a:lnTo>
                  <a:lnTo>
                    <a:pt x="732" y="24"/>
                  </a:lnTo>
                  <a:lnTo>
                    <a:pt x="715" y="27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73760" y="3978000"/>
              <a:ext cx="27720" cy="51480"/>
            </a:xfrm>
            <a:custGeom>
              <a:avLst/>
              <a:gdLst/>
              <a:ahLst/>
              <a:rect l="l" t="t" r="r" b="b"/>
              <a:pathLst>
                <a:path w="110" h="211">
                  <a:moveTo>
                    <a:pt x="0" y="181"/>
                  </a:moveTo>
                  <a:lnTo>
                    <a:pt x="110" y="0"/>
                  </a:lnTo>
                  <a:lnTo>
                    <a:pt x="98" y="211"/>
                  </a:lnTo>
                  <a:lnTo>
                    <a:pt x="62" y="157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32160" y="3806280"/>
              <a:ext cx="51480" cy="29520"/>
            </a:xfrm>
            <a:custGeom>
              <a:avLst/>
              <a:gdLst/>
              <a:ahLst/>
              <a:rect l="l" t="t" r="r" b="b"/>
              <a:pathLst>
                <a:path w="211" h="122">
                  <a:moveTo>
                    <a:pt x="211" y="96"/>
                  </a:moveTo>
                  <a:lnTo>
                    <a:pt x="0" y="122"/>
                  </a:lnTo>
                  <a:lnTo>
                    <a:pt x="174" y="0"/>
                  </a:lnTo>
                  <a:lnTo>
                    <a:pt x="155" y="62"/>
                  </a:lnTo>
                  <a:lnTo>
                    <a:pt x="211" y="96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111640" y="1739880"/>
                <a:ext cx="3918240" cy="35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EA4-1E66-4FE2-AA30-7092E3A163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ynchro-Drive Robo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387440" y="12924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913-5F43-4D95-9E83-FCB2A0D5BD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49659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3T15:49:16Z</dcterms:created>
  <dc:creator>SCS</dc:creator>
  <dc:description/>
  <dc:language>en-US</dc:language>
  <cp:lastModifiedBy>Wolfram Burgard</cp:lastModifiedBy>
  <dcterms:modified xsi:type="dcterms:W3CDTF">2005-12-04T21:30:35Z</dcterms:modified>
  <cp:revision>1122</cp:revision>
  <dc:subject/>
  <dc:title>Probabilistic Robotics</dc:title>
</cp:coreProperties>
</file>